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25F-765C-4FEC-B07E-91910247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B79-E6BB-42C8-96BC-A14F5382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1AA-BF14-4117-8A94-02E58456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E03-3E9F-4800-94BC-8AC61900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6A7-D84E-4A1D-B53E-8B3BCDE2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B8D-0AD2-4DD1-9D3E-6B3A9A80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768-63DE-43EA-B965-9D46E24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082-1742-4FA8-8E12-C97D6F21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D9E-0CF5-4CA5-83A7-9E4C13D2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2C8-E012-4216-B73F-B444075F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CD8-5AB8-45DF-A87C-3FD84E8C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2C1-E0E8-49BC-A9FF-E844C86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E70D-9AEE-427E-AC7C-D05ADD463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528120"/>
            <a:ext cx="7524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teracion en Cortes Transparen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2520" y="371016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Semestre primavera 200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Metalogén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6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Epidota               Clori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3360" y="765000"/>
            <a:ext cx="3968640" cy="293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38178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7650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396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Supérg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Supérg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88000" y="11556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Cuar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720" y="19800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3411360"/>
            <a:ext cx="52578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3640" y="18900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Calci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Feldespatos (ortoclas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Feldespato (ortoclas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Valeria</cp:lastModifiedBy>
  <dcterms:modified xsi:type="dcterms:W3CDTF">2006-09-03T01:58:06Z</dcterms:modified>
  <cp:revision>10</cp:revision>
  <dc:subject/>
  <dc:title>Alteración Hidrotermal</dc:title>
</cp:coreProperties>
</file>