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E79-C0CB-45AD-A32F-477066B9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4FE-837F-4E04-A6B2-8933FD68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271-2B73-4DC3-BCCC-42416EB2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CFF-63A1-461A-90FC-CCA94C2A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81E-EAB6-41AB-88B8-BCD0EF96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5F0-FA28-49B7-A471-C86AC495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59D-C1C3-42E8-8850-339F223F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064-3A46-4677-BD39-0B8D6D50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E17-CC0E-46A5-B204-2C185294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F34-1B5E-4463-A3FF-1D8999AA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58E-50A4-43D6-8832-1ECAD29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206-7863-40A9-B8AF-2DAFC65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DE32-9047-41C7-91AF-AE114FFAE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528120"/>
            <a:ext cx="7524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eracion en Cortes Transparen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71016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emestre primavera 200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Metalogén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6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pidota               Clori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360" y="765000"/>
            <a:ext cx="3968640" cy="293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9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88000" y="11556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Cuar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720" y="19800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411360"/>
            <a:ext cx="5257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18900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Calci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Feldespatos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Feldespato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dcterms:modified xsi:type="dcterms:W3CDTF">2006-09-03T01:58:06Z</dcterms:modified>
  <cp:revision>10</cp:revision>
  <dc:subject/>
  <dc:title>Alteración Hidrotermal</dc:title>
</cp:coreProperties>
</file>