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7D5-3117-4324-AE13-4FB9859D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6C5-C161-4804-A204-2A4563F9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2A7-4BC2-486A-A3E2-30225123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864-29BE-4704-B753-F1BC5D13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2EC-DDF2-495C-A0A5-CB148CBF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3A1-3AC0-4397-9645-1B8DA4A5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B47-8BC2-4FD4-B89F-0FE7987A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123-7F75-4E93-9852-49C2DE86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535-8DB0-48D6-9823-7FB50D72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4DE-12FC-4597-87AA-44CAD8F9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0E7-446F-414C-8392-C7CAEFD5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01A-E51B-4B46-8973-5BD4E0D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DD73-7DD8-4F18-A077-8931CCB66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08000" y="528120"/>
            <a:ext cx="7524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eracion en Cortes Transparen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2520" y="3710160"/>
            <a:ext cx="697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Semestre primavera 200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imes New Roman"/>
              </a:rPr>
              <a:t>Metalogén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96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7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Epidota               Clori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3360" y="765000"/>
            <a:ext cx="3968640" cy="293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1280" y="38178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765000"/>
            <a:ext cx="3960720" cy="292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396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otás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uar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Propilít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lteración Fíl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Supérg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teración Supérg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88000" y="11556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Cuarz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720" y="198000"/>
            <a:ext cx="395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4000" y="-360"/>
            <a:ext cx="55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Plagioclas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3411360"/>
            <a:ext cx="525780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3640" y="18900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Times New Roman"/>
              </a:rPr>
              <a:t>Calci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Feldespatos (ortoclas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Times New Roman"/>
              </a:rPr>
              <a:t>Feldespato (ortoclasa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biot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Valeria</cp:lastModifiedBy>
  <dcterms:modified xsi:type="dcterms:W3CDTF">2006-09-03T01:58:06Z</dcterms:modified>
  <cp:revision>10</cp:revision>
  <dc:subject/>
  <dc:title>Alteración Hidrotermal</dc:title>
</cp:coreProperties>
</file>