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F7C-DA51-4311-98B4-7DFA74BE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3A8-AB93-4810-9C2D-48A96827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D35-66D8-4DF7-BE6E-BDA1E853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3FE-45CC-4BFB-8721-C3146845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EB3-452E-4090-8CC5-2CEBFF3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D71-4040-48EC-95BD-2CF14C8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8A2-8115-4D4F-ACDF-9530030B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756-3845-45CC-81D8-340AD3C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623-BE97-4C30-A5F4-39407B48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873-54CA-48BA-B9D7-CCD9FD9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285-2C58-4079-A53C-9D0AEDC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5E5-81E8-4151-90C0-DA1AC5C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F0BA-C682-4D7A-8897-2400DA115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o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pidota               Clori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Cuar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198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Calc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Feldespatos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Feldespato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dcterms:modified xsi:type="dcterms:W3CDTF">2006-09-03T01:58:06Z</dcterms:modified>
  <cp:revision>10</cp:revision>
  <dc:subject/>
  <dc:title>Alteración Hidrotermal</dc:title>
</cp:coreProperties>
</file>