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387BC-AFFB-4A0E-9E7D-E617C235E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05C15-CCF9-4C46-BFB6-CD5FA8DB0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6CA7F-C53B-4B14-8704-DB6A28E11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59A04-58B8-43EC-ACA4-A90C72EAB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3856D-9FC3-45A9-B44D-96BBCDC0D2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19656-906D-4E2D-97F5-51E2ACBE4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1259E-A039-4CAB-A4E1-2CE702374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ACB44-1C7E-47C4-A937-42A752C26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C641B-DD58-4CAB-9096-EF58A1FC4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D8815-3CF2-4E60-A2C6-E98C44628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20001-652F-4A61-BA15-BA8018EEE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626CB-DC56-4A96-9BDD-FD9F86444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43211-2B8E-4788-8E8C-3E0CC63DA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D847A-783C-4939-A4EC-4A174B29C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8FB53-C9B9-4190-AD09-E1E5F289F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22D8F-883B-479F-AA11-573DF09A1C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60E990-4D02-45FE-A6E9-389BEA4F1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D6740-1CD8-44E2-92DF-F9F8DF426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C5C5E-CD89-4047-AE75-C0C495510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3C2F7-76B4-4FBB-B541-EEDC15DFB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BDABA-4E47-4FC2-8617-1E7FDDC2A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80261-8BD8-4247-BA76-FB0F76738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54A24-6E33-41F3-AA80-811D5C01C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0436C-0215-4503-8A7F-2849012F3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D786-0323-42E7-A712-6F18F01EBE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12AE-9458-4F0E-933C-6ED0E9F9E5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STABILIDAD DE SULFUROS</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762120" y="1523520"/>
            <a:ext cx="7772400" cy="4876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os diagramas están calculados a 250°C y debe recordarse la susceptibilidad de algunos sulfuros a re-equilibrarse en muy cortos períodos de tiemp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os diagramas tienen más bien un valor conceptual y cualitativo, donde la existencia de asocianes de minerales o de un mineral específico es indicador de una alta o baja actividad de azufre u oxígeno, es decir, grado de sulfidización/oxidación del fluido hidrotermal originado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inerales incompatibles con claras evidencias texturales de corte, serán indicativas de cambios de condiciones de actividades de 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2 </a:t>
            </a:r>
            <a:r>
              <a:rPr b="0" lang="es-CL" sz="2400" spc="-1" strike="noStrike">
                <a:solidFill>
                  <a:srgbClr val="ffffff"/>
                </a:solidFill>
                <a:latin typeface="Times New Roman"/>
              </a:rPr>
              <a:t>en un sistema hidrotermal durante su evolución. </a:t>
            </a:r>
            <a:endParaRPr b="0" lang="en-US" sz="2400" spc="-1" strike="noStrike">
              <a:solidFill>
                <a:srgbClr val="ffffff"/>
              </a:solidFill>
              <a:latin typeface="Times New Roman"/>
            </a:endParaRPr>
          </a:p>
        </p:txBody>
      </p:sp>
      <p:sp>
        <p:nvSpPr>
          <p:cNvPr id="115" name=""/>
          <p:cNvSpPr/>
          <p:nvPr/>
        </p:nvSpPr>
        <p:spPr>
          <a:xfrm>
            <a:off x="762120" y="6858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xidación versus Sulfidiza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jemplos de Aplicación</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Alta Sulfuración / Baja Sulfuración   </a:t>
            </a:r>
            <a:endParaRPr b="0" lang="en-US" sz="2400" spc="-1" strike="noStrike">
              <a:solidFill>
                <a:srgbClr val="ffcc66"/>
              </a:solidFill>
              <a:latin typeface="Times New Roman"/>
            </a:endParaRPr>
          </a:p>
        </p:txBody>
      </p:sp>
      <p:pic>
        <p:nvPicPr>
          <p:cNvPr id="118" name="Corbett-colour" descr=""/>
          <p:cNvPicPr/>
          <p:nvPr/>
        </p:nvPicPr>
        <p:blipFill>
          <a:blip r:embed="rId1"/>
          <a:stretch/>
        </p:blipFill>
        <p:spPr>
          <a:xfrm>
            <a:off x="0" y="631800"/>
            <a:ext cx="9144000" cy="622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522360"/>
            <a:ext cx="6172200" cy="4430520"/>
          </a:xfrm>
          <a:prstGeom prst="rect">
            <a:avLst/>
          </a:prstGeom>
          <a:ln w="0">
            <a:noFill/>
          </a:ln>
        </p:spPr>
      </p:pic>
      <p:sp>
        <p:nvSpPr>
          <p:cNvPr id="120" name=""/>
          <p:cNvSpPr/>
          <p:nvPr/>
        </p:nvSpPr>
        <p:spPr>
          <a:xfrm>
            <a:off x="6248520" y="685800"/>
            <a:ext cx="266688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rocesos de enriquecimiento secundario (químico)</a:t>
            </a:r>
            <a:endParaRPr b="0" lang="en-US" sz="2400" spc="-1" strike="noStrike">
              <a:solidFill>
                <a:srgbClr val="ffffff"/>
              </a:solidFill>
              <a:latin typeface="Times New Roman"/>
            </a:endParaRPr>
          </a:p>
        </p:txBody>
      </p:sp>
      <p:pic>
        <p:nvPicPr>
          <p:cNvPr id="121" name="figura16" descr=""/>
          <p:cNvPicPr/>
          <p:nvPr/>
        </p:nvPicPr>
        <p:blipFill>
          <a:blip r:embed="rId2"/>
          <a:stretch/>
        </p:blipFill>
        <p:spPr>
          <a:xfrm>
            <a:off x="5334120" y="3979800"/>
            <a:ext cx="3809880" cy="287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Relación Eh versus Ph</a:t>
            </a:r>
            <a:endParaRPr b="0" lang="en-US" sz="3200" spc="-1" strike="noStrike">
              <a:solidFill>
                <a:srgbClr val="ffcc66"/>
              </a:solidFill>
              <a:latin typeface="Times New Roman"/>
            </a:endParaRPr>
          </a:p>
        </p:txBody>
      </p:sp>
      <p:sp>
        <p:nvSpPr>
          <p:cNvPr id="123" name="PlaceHolder 2"/>
          <p:cNvSpPr>
            <a:spLocks noGrp="1"/>
          </p:cNvSpPr>
          <p:nvPr>
            <p:ph/>
          </p:nvPr>
        </p:nvSpPr>
        <p:spPr>
          <a:xfrm>
            <a:off x="685800" y="5409720"/>
            <a:ext cx="7772400" cy="1143000"/>
          </a:xfrm>
          <a:prstGeom prst="rect">
            <a:avLst/>
          </a:prstGeom>
          <a:noFill/>
          <a:ln w="0">
            <a:noFill/>
          </a:ln>
        </p:spPr>
        <p:txBody>
          <a:bodyPr lIns="90000" rIns="90000" tIns="46800" bIns="46800" anchor="t">
            <a:normAutofit fontScale="91000"/>
          </a:bodyPr>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agramas de estabilidad Eh vs. pH y a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vs. pH para el sistema Fe-S-O,para el sistema Cu-Fe-S y para contenido de Fe en esfalerita.</a:t>
            </a:r>
            <a:endParaRPr b="0" lang="en-US" sz="2400" spc="-1" strike="noStrike">
              <a:solidFill>
                <a:srgbClr val="ffffff"/>
              </a:solidFill>
              <a:latin typeface="Times New Roman"/>
            </a:endParaRPr>
          </a:p>
        </p:txBody>
      </p:sp>
      <p:pic>
        <p:nvPicPr>
          <p:cNvPr id="124" name="Figura17" descr=""/>
          <p:cNvPicPr/>
          <p:nvPr/>
        </p:nvPicPr>
        <p:blipFill>
          <a:blip r:embed="rId1"/>
          <a:stretch/>
        </p:blipFill>
        <p:spPr>
          <a:xfrm>
            <a:off x="1295280" y="838080"/>
            <a:ext cx="6400800" cy="447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09480" y="68400"/>
            <a:ext cx="8075880" cy="678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304560"/>
            <a:ext cx="4267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Relación Eh versus pH</a:t>
            </a:r>
            <a:endParaRPr b="0" lang="en-US" sz="3200" spc="-1" strike="noStrike">
              <a:solidFill>
                <a:srgbClr val="ffcc66"/>
              </a:solidFill>
              <a:latin typeface="Times New Roman"/>
            </a:endParaRPr>
          </a:p>
        </p:txBody>
      </p:sp>
      <p:sp>
        <p:nvSpPr>
          <p:cNvPr id="127"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s condiciones de pH son también en algún grado determinables en función de asociaciones de minerales, como por ejemplo en diagramas de Eh o a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versus pH (calculado a 250°C).</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ebe recordarse que esto es función en gran medida de la estabilidad de las especies de azufre, teniendo campos de dominio delimitados por condiciones de a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y pH.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 otra parte, las condiciones de pH son dependientes de temperatura, luego, los límites cambiarán de acuerdo a variaciones de temperatura.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Una relación entre pH y Eh se observa en el límite oxido-reductor. A mayor pH más bajo es el límite y visevers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04920"/>
            <a:ext cx="4572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Sulfuros como </a:t>
            </a:r>
            <a:br>
              <a:rPr sz="3200"/>
            </a:br>
            <a:r>
              <a:rPr b="0" i="1" lang="en-US" sz="3200" spc="-1" strike="noStrike">
                <a:solidFill>
                  <a:srgbClr val="ffcc66"/>
                </a:solidFill>
                <a:latin typeface="Times New Roman"/>
              </a:rPr>
              <a:t>Geotermómetros</a:t>
            </a:r>
            <a:endParaRPr b="0" lang="en-US" sz="3200" spc="-1" strike="noStrike">
              <a:solidFill>
                <a:srgbClr val="ffcc66"/>
              </a:solidFill>
              <a:latin typeface="Times New Roman"/>
            </a:endParaRPr>
          </a:p>
        </p:txBody>
      </p:sp>
      <p:sp>
        <p:nvSpPr>
          <p:cNvPr id="129" name="PlaceHolder 2"/>
          <p:cNvSpPr>
            <a:spLocks noGrp="1"/>
          </p:cNvSpPr>
          <p:nvPr>
            <p:ph/>
          </p:nvPr>
        </p:nvSpPr>
        <p:spPr>
          <a:xfrm>
            <a:off x="5028840" y="228600"/>
            <a:ext cx="3886200" cy="6400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uso de sulfuros como geotermómetros es muy poco recomendable y solo debe ser considerada para sulfuros refractarios con largo tiempo de re-equilibri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 ejemplo, la arsenopirita presenta composición Fe-As variable y dependiente de temperatura de formación, pero incluso a bajas temperaturas este se re-equilibra rápidamente, perdiendo sus características originales.</a:t>
            </a:r>
            <a:endParaRPr b="0" lang="en-US" sz="2400" spc="-1" strike="noStrike">
              <a:solidFill>
                <a:srgbClr val="ffffff"/>
              </a:solidFill>
              <a:latin typeface="Times New Roman"/>
            </a:endParaRPr>
          </a:p>
        </p:txBody>
      </p:sp>
      <p:pic>
        <p:nvPicPr>
          <p:cNvPr id="130" name="Figura18" descr=""/>
          <p:cNvPicPr/>
          <p:nvPr/>
        </p:nvPicPr>
        <p:blipFill>
          <a:blip r:embed="rId1"/>
          <a:stretch/>
        </p:blipFill>
        <p:spPr>
          <a:xfrm>
            <a:off x="228600" y="1828800"/>
            <a:ext cx="4800600" cy="464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120"/>
            <a:ext cx="5943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sfalerita como Geotermómetro</a:t>
            </a:r>
            <a:endParaRPr b="0" lang="en-US" sz="3200" spc="-1" strike="noStrike">
              <a:solidFill>
                <a:srgbClr val="ffcc66"/>
              </a:solidFill>
              <a:latin typeface="Times New Roman"/>
            </a:endParaRPr>
          </a:p>
        </p:txBody>
      </p:sp>
      <p:sp>
        <p:nvSpPr>
          <p:cNvPr id="132" name="PlaceHolder 2"/>
          <p:cNvSpPr>
            <a:spLocks noGrp="1"/>
          </p:cNvSpPr>
          <p:nvPr>
            <p:ph/>
          </p:nvPr>
        </p:nvSpPr>
        <p:spPr>
          <a:xfrm>
            <a:off x="6400440" y="1676160"/>
            <a:ext cx="2514600" cy="47242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agrama composicional para el sistema Fe-Zn-S en función de actividad de 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y temperatura, mostrando contenido de Fe en esfalerita en equilibrio con una fase con Fe</a:t>
            </a:r>
            <a:r>
              <a:rPr b="0" lang="es-CL"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33" name="Figura19a" descr=""/>
          <p:cNvPicPr/>
          <p:nvPr/>
        </p:nvPicPr>
        <p:blipFill>
          <a:blip r:embed="rId1"/>
          <a:stretch/>
        </p:blipFill>
        <p:spPr>
          <a:xfrm>
            <a:off x="228600" y="1600200"/>
            <a:ext cx="60199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stabilidad de Sulfuros</a:t>
            </a:r>
            <a:endParaRPr b="0" lang="en-US" sz="3200" spc="-1" strike="noStrike">
              <a:solidFill>
                <a:srgbClr val="ffcc66"/>
              </a:solidFill>
              <a:latin typeface="Times New Roman"/>
            </a:endParaRPr>
          </a:p>
        </p:txBody>
      </p:sp>
      <p:sp>
        <p:nvSpPr>
          <p:cNvPr id="101"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n los yacimientos minerales se tiene tanto mineralización de mena como de ganga, donde la mena está comunmente formada por sulfuros. Una caracterización de la mineralogía de mena y su química, es de gran utilidad para el entendimiento de los procesos hidrotermales que llevan a la formación de un deposito.</a:t>
            </a:r>
            <a:endParaRPr b="0" lang="en-US" sz="2800" spc="-1" strike="noStrike">
              <a:solidFill>
                <a:srgbClr val="ffffff"/>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studios experimentales en los últimos 50 años han sido de gran utilidad para el entendimiento de las condiciones termodinámicas asociadas a la génesis de depositos minerales metálicos</a:t>
            </a:r>
            <a:r>
              <a:rPr b="0" lang="es-CL"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Limitaciones con respecto a estabilidad de sulfuros</a:t>
            </a:r>
            <a:endParaRPr b="0" lang="en-US" sz="3200" spc="-1" strike="noStrike">
              <a:solidFill>
                <a:srgbClr val="ffcc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s sabido que altas temperaturas de formación y largos períodos de tiempo de enfriamiento, resultan en el re-equilibrio de minerales de mena.</a:t>
            </a: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Barton y Skinner (1979) muestran la relación Tiempo-Temperatura para re-equilibrio de una serie de minerales, donde una gran mayoría sufre re-equilibrio en períodos de solo dias a pocos años para temperaturas sobre los 300°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876920" y="228240"/>
            <a:ext cx="4038480" cy="60958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lgunos minerales como la esfalerita, pirita, arsenopirita y molibdenita son refractarios, mientras que otros como los sulfuros de plata y cobre se re-equilibran casi en forma instantánea.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omandose en cuenta esta situación de re-equilibrio durante enfriamiento de un sistema, se tendrá que distintos minerales y sus texturas pueden representar distintas etapas de génesis de un deposito. </a:t>
            </a:r>
            <a:endParaRPr b="0" lang="en-US" sz="2400" spc="-1" strike="noStrike">
              <a:solidFill>
                <a:srgbClr val="ffffff"/>
              </a:solidFill>
              <a:latin typeface="Times New Roman"/>
            </a:endParaRPr>
          </a:p>
        </p:txBody>
      </p:sp>
      <p:pic>
        <p:nvPicPr>
          <p:cNvPr id="105" name="Figura15" descr=""/>
          <p:cNvPicPr/>
          <p:nvPr/>
        </p:nvPicPr>
        <p:blipFill>
          <a:blip r:embed="rId1"/>
          <a:stretch/>
        </p:blipFill>
        <p:spPr>
          <a:xfrm>
            <a:off x="228600" y="380880"/>
            <a:ext cx="4719600" cy="472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609120"/>
            <a:ext cx="7772400" cy="5715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falerita, pirita, arsenopirita y molibdenita tenderán a preservar su composición y textura original.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irrotina, galena y sulfuros de Fe-Cu serán intermedios.</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rgentita y sulfuros ricos en cobre se re-equilibraran en cortos períodos de tiempo.</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Una asociación dada puede retener evidencia de distintos períodos durante la historia de un deposito. </a:t>
            </a:r>
            <a:endParaRPr b="0" lang="en-US" sz="2400" spc="-1" strike="noStrike">
              <a:solidFill>
                <a:srgbClr val="ffffff"/>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jemplo, una pirita o esfalerita puede preservar características composicionales y texturales de la etapa de depositación, digamos 450°C; la pirrotina adyacente podría estar equilibrada a 250° a 300°C, y las sulfosales y sulfuros de plata hasta temperaturas de 25°C.</a:t>
            </a:r>
            <a:r>
              <a:rPr b="0" lang="es-CL"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ucha atención debe ser prestada en la observación de asociaciones de sulfuros, sobretodo en texturas de re-equilibr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685440"/>
            <a:ext cx="7772400" cy="57913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depositos de origen hidrotermal, los sulfuros precipitan a partir de un fluido hidrotermal, donde las asociaciones y orden de precipitación están controlados por parámetros termodinámicos como lo son la temperatura (T), la actividad y fugacidad de aniones (f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f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a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a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pH, Eh, salinidad, composición química del fluido, etc.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uchos de estos parámetros estarán controlados por reacciones agua/roca y condiciones de buffer de alteración (pH y redox).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 bien las condiciones de presión no son de gran relevancia en forma directa, si lo son en forma indirecta, sobretodo cuando cambios abruptos de presión provocan trastornos en todos los otros parámetros termodinámicos, como por ejemplo, durante ebulli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Diagramas de estabilidad para sulfuros</a:t>
            </a:r>
            <a:endParaRPr b="0" lang="en-US" sz="3200" spc="-1" strike="noStrike">
              <a:solidFill>
                <a:srgbClr val="ffcc66"/>
              </a:solidFill>
              <a:latin typeface="Times New Roman"/>
            </a:endParaRPr>
          </a:p>
        </p:txBody>
      </p:sp>
      <p:sp>
        <p:nvSpPr>
          <p:cNvPr id="109"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Tomandose en cuenta las consideraciones termodinámicas de precipitación de sulfuros, el análisis de asociaciones referidos a diagramas paramétricos, permite la interpretación relativa de condiciones de formación en un fluido hidroterma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or ejemplo, en reacciones de sulfidización-oxidación puede observarse el comportamiento de sulfuros y óxidos de Fe en función de la actividad del azufre y oxígeno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3160" y="5409720"/>
            <a:ext cx="7924680" cy="114300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agrama esquematico de estabilidad para sistema Fe-S-O (línea negra gruesa), para sistema Cu-Fe-S-O (línea de puntos) y porcentage de Fe en esfalerita (línea punteada).</a:t>
            </a:r>
            <a:endParaRPr b="0" lang="en-US" sz="2400" spc="-1" strike="noStrike">
              <a:solidFill>
                <a:srgbClr val="ffffff"/>
              </a:solidFill>
              <a:latin typeface="Times New Roman"/>
            </a:endParaRPr>
          </a:p>
        </p:txBody>
      </p:sp>
      <p:pic>
        <p:nvPicPr>
          <p:cNvPr id="111" name="figura16" descr=""/>
          <p:cNvPicPr/>
          <p:nvPr/>
        </p:nvPicPr>
        <p:blipFill>
          <a:blip r:embed="rId1"/>
          <a:stretch/>
        </p:blipFill>
        <p:spPr>
          <a:xfrm>
            <a:off x="1219320" y="228600"/>
            <a:ext cx="6629400" cy="500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5105160"/>
            <a:ext cx="8610480" cy="152388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agrama esquemático de estabilidad para sistema Fe-S-O (línea negra gruesa), para sulfosales de Sb (línea punteada) y As (línea punteada-punto), para el sistema As-Fe (línea punteada-doble punto) y para el sistema As-S (línea a puntos) </a:t>
            </a:r>
            <a:endParaRPr b="0" lang="en-US" sz="2400" spc="-1" strike="noStrike">
              <a:solidFill>
                <a:srgbClr val="ffffff"/>
              </a:solidFill>
              <a:latin typeface="Times New Roman"/>
            </a:endParaRPr>
          </a:p>
        </p:txBody>
      </p:sp>
      <p:pic>
        <p:nvPicPr>
          <p:cNvPr id="113" name="fig16b" descr=""/>
          <p:cNvPicPr/>
          <p:nvPr/>
        </p:nvPicPr>
        <p:blipFill>
          <a:blip r:embed="rId1"/>
          <a:stretch/>
        </p:blipFill>
        <p:spPr>
          <a:xfrm>
            <a:off x="990720" y="228600"/>
            <a:ext cx="7391160" cy="478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0T05:33:38Z</dcterms:created>
  <dc:creator>Carlos Palacios</dc:creator>
  <dc:description/>
  <dc:language>en-US</dc:language>
  <cp:lastModifiedBy>Brian</cp:lastModifiedBy>
  <dcterms:modified xsi:type="dcterms:W3CDTF">2005-05-15T21:21:24Z</dcterms:modified>
  <cp:revision>11</cp:revision>
  <dc:subject/>
  <dc:title>Estabilidad de Sulfuros</dc:title>
</cp:coreProperties>
</file>