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83685-6A38-40A9-A70E-E3081EACE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AB8DE-AF72-4087-AF67-24D9E97C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85207-3076-4C66-B342-EC32EB28B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2C88F-B2B7-4243-AADB-07835B91D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4EDA1-49B6-411F-B02A-086574921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2CE55-AF43-429E-86AC-F395E82C6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6F1DE-F46D-42E5-8BEF-32B91AA9A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64057-0C22-46B3-B80A-AEA4438EF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FA73D-7D12-4EB5-834B-7C4A75574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B133F-6227-4D85-B8C1-943B360E6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4095A-1B31-45D4-AD7A-28C4A323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3F80-8E5A-4C2B-B02A-584A90B3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5EEDC-234F-404B-93AD-9AC15FF0C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CBA4-8F67-4849-BCD2-09A10682B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FCA09-8E68-42B2-A4F0-A5167B12D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239EF-D846-4811-B18B-3477046AA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154E3-6852-4B1B-ABC3-32206EEBB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2EE3-6BC1-485A-9FB3-42C134CEB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9060E-E858-43E4-8050-8880E017C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DDA7F-8833-4DF0-9C01-2ADC8F35E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B7F2-0B64-42E5-BEE5-7E6300D7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DB96-4B1C-4D4B-85B9-7F150610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D504-E82F-4876-8C47-CA568C9C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A001-21F3-4BE1-83BF-153CB5E7E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3B4-1B87-4986-AC0C-664DDE0132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EF28-E29D-46E6-A8EE-6D517344C5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ransporte y Precipitación de Metales en Fluidos Hidrotermales</a:t>
            </a:r>
            <a:endParaRPr b="0" lang="en-US" sz="4400" spc="-1" strike="noStrike">
              <a:solidFill>
                <a:srgbClr val="ffcc66"/>
              </a:solidFill>
              <a:latin typeface="Times New Roman"/>
            </a:endParaRPr>
          </a:p>
        </p:txBody>
      </p:sp>
      <p:pic>
        <p:nvPicPr>
          <p:cNvPr id="100" name="hydrothermal-vent" descr=""/>
          <p:cNvPicPr/>
          <p:nvPr/>
        </p:nvPicPr>
        <p:blipFill>
          <a:blip r:embed="rId1"/>
          <a:stretch/>
        </p:blipFill>
        <p:spPr>
          <a:xfrm>
            <a:off x="228600" y="3200400"/>
            <a:ext cx="4495680" cy="3355920"/>
          </a:xfrm>
          <a:prstGeom prst="rect">
            <a:avLst/>
          </a:prstGeom>
          <a:ln w="0">
            <a:noFill/>
          </a:ln>
        </p:spPr>
      </p:pic>
      <p:pic>
        <p:nvPicPr>
          <p:cNvPr id="101" name="subarcvolc_576" descr="venting system on a submarine arc volcano"/>
          <p:cNvPicPr/>
          <p:nvPr/>
        </p:nvPicPr>
        <p:blipFill>
          <a:blip r:embed="rId2"/>
          <a:stretch/>
        </p:blipFill>
        <p:spPr>
          <a:xfrm>
            <a:off x="4572000" y="3200400"/>
            <a:ext cx="4343400" cy="335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 agua</a:t>
            </a:r>
            <a:endParaRPr b="0" lang="en-US" sz="3200" spc="-1" strike="noStrike">
              <a:solidFill>
                <a:srgbClr val="ffcc66"/>
              </a:solidFill>
              <a:latin typeface="Times New Roman"/>
            </a:endParaRPr>
          </a:p>
        </p:txBody>
      </p:sp>
      <p:sp>
        <p:nvSpPr>
          <p:cNvPr id="120"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 presión, agua líquida se expande como consecuencia del debilitamiento progresivo del enlace de hidrógeno con separación de la distancia de enlace y crecimiento del ángulo H-O-H.</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a un aumento de entropía con orientación cada vez más aleatoria de las moléculas de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sión tiene un efecto opuesto al de la temperatura, comprimiendo la estructura del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combinado hace al agua más compresible a mayor temperatura, con fuertes descensos de la densidad del agu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opiedades dieléctricas del agua</a:t>
            </a:r>
            <a:endParaRPr b="0" lang="en-US" sz="3200" spc="-1" strike="noStrike">
              <a:solidFill>
                <a:srgbClr val="ffcc66"/>
              </a:solidFill>
              <a:latin typeface="Times New Roman"/>
            </a:endParaRPr>
          </a:p>
        </p:txBody>
      </p:sp>
      <p:sp>
        <p:nvSpPr>
          <p:cNvPr id="122" name="PlaceHolder 2"/>
          <p:cNvSpPr>
            <a:spLocks noGrp="1"/>
          </p:cNvSpPr>
          <p:nvPr>
            <p:ph/>
          </p:nvPr>
        </p:nvSpPr>
        <p:spPr>
          <a:xfrm>
            <a:off x="457200" y="1066320"/>
            <a:ext cx="8305920" cy="5410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propiedades dieléctricas del agua también cambian con temperaturas y presión e indirectamente revelan cambios significativos en la estructura del agu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a sea bajo equilibrio vapor-agua o a presión constante, la viscosidad del agua decrece, indicando una movilidad molecular crecient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trae por efecto una baja en la magnitud de la constante dieléctrica del agua (medida de momento dipolo y capacidad de orientación polar).</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ndo la constante diléctrica es alta, el agua tiende a formar cubiertas sobre iones solutos, pero a temperaturas altas esta propiedad se pierde, permitiendo la unión de aniones y cationes solutos en pares iónicos, mejorando la generación y estabilidad de complej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pacidad de ionización del Agua</a:t>
            </a:r>
            <a:endParaRPr b="0" lang="en-US" sz="3200" spc="-1" strike="noStrike">
              <a:solidFill>
                <a:srgbClr val="ffcc66"/>
              </a:solidFill>
              <a:latin typeface="Times New Roman"/>
            </a:endParaRPr>
          </a:p>
        </p:txBody>
      </p:sp>
      <p:sp>
        <p:nvSpPr>
          <p:cNvPr id="12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apacidad de ionización propia del agua también cambia en respuesta a cambios de presión y temperatura en la medida en que la molécula de agua se disocia en 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y O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onstante de ionización desde 25°C a 300°C cambia en varios ordenes de magnitud.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o cambia el pH neutro de 7 a 25°C, a 5.7 a 300°C, con importantes implicancias para la hidrólisis de cationes metálicos y la formación de complejos hidróxidos cuya estabilidad se extiende a valores de pH más bajo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s aumentos de presión tienen un efecto similar.</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ectrolitos</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ltas temperaturas y presiones tienen también un efecto sobre electrolitos, donde electrolitos como NaCl e incluso ácidos fuertes como HCl, quedan fuertemente asociadas ya a temperaturas sobre los 25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300°C HCl se vuelve un ácido débil bajo condiciones de equilibrio vapor-agua.</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 300°C, NaCl y HCl están en un 50% asociadas en pares.</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20°C, NaCl tiende a disociarse en Na</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y Cl</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diez veces más que a 37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Estas características están directamente ligado a los cambios dieléctricos del agua en función de temperatur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sumen características Agu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resumen, cuando el agua es calentada ya sea isobóricamente o a lo largo de la curva de equilibrio vapor-agua, se expande su estructura, su densidad disminuye, su viscosidad baja rápidamente con un consecuente aumento de movilidad molecular y aumento de conductanci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favorece, a alta temperatura, la formación de cúmulos moleculares, incluyendo moléculas de complejo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características del agua y electrolitos a alta temperatura indican que el transporte de metales en agua es muy limitado y que el efecto de la temperatura predomina sobre el de la pres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de metales y complejos de relevancia: Teoría de ácidos y bases de Lewis</a:t>
            </a:r>
            <a:endParaRPr b="0" lang="en-US" sz="3200" spc="-1" strike="noStrike">
              <a:solidFill>
                <a:srgbClr val="ffcc66"/>
              </a:solidFill>
              <a:latin typeface="Times New Roman"/>
            </a:endParaRPr>
          </a:p>
        </p:txBody>
      </p:sp>
      <p:sp>
        <p:nvSpPr>
          <p:cNvPr id="130"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importancia de complejos metalicos como medio de transporte en fluidos hidrotermales puede ser evaluado en terminos de la teoría donante-captor de electrones de ácidos y bases de Lewis tipo duros (clase "a") y tipo blandos (clase "b").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etales duros (captores) forman los complejos más estables con (y prefieren) ligantes duros (donadores de electrone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Donantes y captores duros están caracterizados por alta carga y/o pequeño radio (alta razón carga/radio).</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or lo tanto, mientras más duro el donante y el captor, más electroestática será el enlace de la interacción duro-dur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y Ligantes Importantes</a:t>
            </a:r>
            <a:endParaRPr b="0" lang="en-US" sz="3200" spc="-1" strike="noStrike">
              <a:solidFill>
                <a:srgbClr val="ffcc66"/>
              </a:solidFill>
              <a:latin typeface="Times New Roman"/>
            </a:endParaRPr>
          </a:p>
        </p:txBody>
      </p:sp>
      <p:graphicFrame>
        <p:nvGraphicFramePr>
          <p:cNvPr id="132" name=""/>
          <p:cNvGraphicFramePr/>
          <p:nvPr/>
        </p:nvGraphicFramePr>
        <p:xfrm>
          <a:off x="228600" y="1905120"/>
          <a:ext cx="8661240" cy="3962160"/>
        </p:xfrm>
        <a:graphic>
          <a:graphicData uri="http://schemas.openxmlformats.org/presentationml/2006/ole">
            <p:oleObj progId="Word.Document.12" r:id="rId1" spid="">
              <p:embed/>
              <p:pic>
                <p:nvPicPr>
                  <p:cNvPr id="133" name="" descr=""/>
                  <p:cNvPicPr/>
                  <p:nvPr/>
                </p:nvPicPr>
                <p:blipFill>
                  <a:blip r:embed="rId2"/>
                  <a:stretch/>
                </p:blipFill>
                <p:spPr>
                  <a:xfrm>
                    <a:off x="228600" y="1905120"/>
                    <a:ext cx="86612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uros</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n los haluros, los metales duros forman complejos cuya estabilidad está en la siguiente secuencia F &gt;&gt; Cl &gt; Br &gt; I. Por ejemplo, Fe</a:t>
            </a:r>
            <a:r>
              <a:rPr b="0" lang="es-CL" sz="2800" spc="-1" strike="noStrike" baseline="30000">
                <a:solidFill>
                  <a:srgbClr val="ffffff"/>
                </a:solidFill>
                <a:latin typeface="Times New Roman"/>
              </a:rPr>
              <a:t>+3</a:t>
            </a:r>
            <a:r>
              <a:rPr b="0" lang="es-CL" sz="2800" spc="-1" strike="noStrike">
                <a:solidFill>
                  <a:srgbClr val="ffffff"/>
                </a:solidFill>
                <a:latin typeface="Times New Roman"/>
              </a:rPr>
              <a:t> forma un complejo estable con el ión duro F (FeF</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l cual es alrededor de cuatro ordenes de magnitud más estable que el complejo formado con el ion I. </a:t>
            </a:r>
            <a:endParaRPr b="0" lang="en-US" sz="2800" spc="-1" strike="noStrike">
              <a:solidFill>
                <a:srgbClr val="ffffff"/>
              </a:solidFill>
              <a:latin typeface="Times New Roman"/>
            </a:endParaRPr>
          </a:p>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s también un ion duro, formando complejos estables, por ejemplo con Fe</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Fe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0</a:t>
            </a:r>
            <a:r>
              <a:rPr b="0" lang="es-C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blandos</a:t>
            </a:r>
            <a:br>
              <a:rPr sz="3200"/>
            </a:b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metales blandos, en contraste a los metales duros, prefieren a donantes blandos donde la interacción del tipo blando-blando tienen mayormente un carácter covale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 esta forma, los metales blandos se asocian con los haluros en una secuencia de estabilidad opuesta a la de los metales duros, F &lt;&lt; Cl &lt; Br &lt; I, donde la interacción más estable es con el donante polarizable blando I (ej. metales blandos A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3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recaución : clasificación duro-blando es ambiente y temperatura dependiente, y se basa en agua como solvente a temperaturas </a:t>
            </a:r>
            <a:r>
              <a:rPr b="0" lang="es-CL" sz="2600" spc="-1" strike="noStrike">
                <a:solidFill>
                  <a:srgbClr val="ffffff"/>
                </a:solidFill>
                <a:latin typeface="Symbol"/>
                <a:ea typeface="Symbol"/>
              </a:rPr>
              <a:t></a:t>
            </a:r>
            <a:r>
              <a:rPr b="0" lang="es-CL" sz="2600" spc="-1" strike="noStrike">
                <a:solidFill>
                  <a:srgbClr val="ffffff"/>
                </a:solidFill>
                <a:latin typeface="Times New Roman"/>
              </a:rPr>
              <a:t> 1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A temperaturas más elevadas (fluidos hidrotermales) cambios en la estructura del agua dan lugar a un descenso de la constante dieléctrica.</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ientras más bajo la constante dieléctrica del medio, más fuerte,  más electroestáticas y más duro será la interacción entre un metal y un ligante.</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Haciendo uso de la teoría duro-blando, es posible predecir cuales complejos serán los de mayor relevancia en el transporte hidrotermal de metale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
          <p:cNvSpPr/>
          <p:nvPr/>
        </p:nvSpPr>
        <p:spPr>
          <a:xfrm>
            <a:off x="0" y="222120"/>
            <a:ext cx="9144000" cy="198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hampagne pool en el campo geotermal de Waiotapu. Los depósitos hidrotermales de color anaranjado contienen sulfuros de As, Sb y Hg e incluyen Au y Ag.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El contenido de Au es de 80 ppm (alta ley, aunque no hay volumen como para explotarlo). Es una atracción turística en Nueva Zelanda.</a:t>
            </a:r>
            <a:endParaRPr b="0" lang="en-US" sz="2400" spc="-1" strike="noStrike">
              <a:solidFill>
                <a:srgbClr val="ffffff"/>
              </a:solidFill>
              <a:latin typeface="Times New Roman"/>
            </a:endParaRPr>
          </a:p>
        </p:txBody>
      </p:sp>
      <p:pic>
        <p:nvPicPr>
          <p:cNvPr id="103" name="Champagne%20pool" descr=""/>
          <p:cNvPicPr/>
          <p:nvPr/>
        </p:nvPicPr>
        <p:blipFill>
          <a:blip r:embed="rId1"/>
          <a:stretch/>
        </p:blipFill>
        <p:spPr>
          <a:xfrm>
            <a:off x="0" y="2330280"/>
            <a:ext cx="6781680" cy="4521240"/>
          </a:xfrm>
          <a:prstGeom prst="rect">
            <a:avLst/>
          </a:prstGeom>
          <a:ln w="0">
            <a:noFill/>
          </a:ln>
        </p:spPr>
      </p:pic>
      <p:sp>
        <p:nvSpPr>
          <p:cNvPr id="104" name=""/>
          <p:cNvSpPr/>
          <p:nvPr/>
        </p:nvSpPr>
        <p:spPr>
          <a:xfrm>
            <a:off x="6840360" y="2367000"/>
            <a:ext cx="203544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Esto demuest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a capacidad 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os fluid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hidroterma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para transpor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y deposi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metales,</a:t>
            </a:r>
            <a:r>
              <a:rPr b="0" lang="es-CL" sz="2000" spc="-1" strike="noStrike">
                <a:solidFill>
                  <a:srgbClr val="ffffff"/>
                </a:solidFill>
                <a:latin typeface="Arial"/>
              </a:rPr>
              <a:t> pe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los metales s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Insolubles!</a:t>
            </a:r>
            <a:r>
              <a:rPr b="0" lang="es-CL"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ómo 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transportan 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positan l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et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1" name="PlaceHolder 2"/>
          <p:cNvSpPr>
            <a:spLocks noGrp="1"/>
          </p:cNvSpPr>
          <p:nvPr>
            <p:ph/>
          </p:nvPr>
        </p:nvSpPr>
        <p:spPr>
          <a:xfrm>
            <a:off x="457200" y="1447560"/>
            <a:ext cx="8305920" cy="46479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redicciones deben tomar en cuenta no solo la estabilidad de los complejos, pero también la disponibilidad del liga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los complejos bromurados AgBr</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Br</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más estables que su equivalente con cloro, AgCl</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Cl</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n embargo, fluidos hidrotermales normalmente tienen en el orden de tres veces de magnitud más cloro que bromo, haciendo a los complejos clorurados de plata potencialmente más importantes en el transp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3"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lata forma también complejos bisulfurados muy estables, y fluidos hidrotermales tienen por lo general un contenido importante de sulfuro reducido, solo uno o dos ordenes de magnitud menos que el cloro, sugiriendo que estos complejos pueden ser también importantes agentes de transporte.</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mplejos del tipo AgCO</a:t>
            </a:r>
            <a:r>
              <a:rPr b="0" lang="es-CL" sz="2800" spc="-1" strike="noStrike" baseline="-25000">
                <a:solidFill>
                  <a:srgbClr val="ffffff"/>
                </a:solidFill>
                <a:latin typeface="Times New Roman"/>
              </a:rPr>
              <a:t>3</a:t>
            </a:r>
            <a:r>
              <a:rPr b="0" lang="es-CL" sz="2800" spc="-1" strike="noStrike" baseline="30000">
                <a:solidFill>
                  <a:srgbClr val="ffffff"/>
                </a:solidFill>
                <a:latin typeface="Times New Roman"/>
              </a:rPr>
              <a:t>-</a:t>
            </a:r>
            <a:r>
              <a:rPr b="0" lang="es-CL" sz="2800" spc="-1" strike="noStrike">
                <a:solidFill>
                  <a:srgbClr val="ffffff"/>
                </a:solidFill>
                <a:latin typeface="Times New Roman"/>
              </a:rPr>
              <a:t> (metal blando - ligante duro) son de baja estabilidad y probablemente de poca relevancia en transporte de mena hidrotermal.</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criterio duro-blando, siendo imperfecto, es de todos modos de considerable val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e Transición</a:t>
            </a:r>
            <a:endParaRPr b="0" lang="en-US" sz="3200" spc="-1" strike="noStrike">
              <a:solidFill>
                <a:srgbClr val="ffcc66"/>
              </a:solidFill>
              <a:latin typeface="Times New Roman"/>
            </a:endParaRPr>
          </a:p>
        </p:txBody>
      </p:sp>
      <p:sp>
        <p:nvSpPr>
          <p:cNvPr id="14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os metales de transición la secuencia correlacionada de estabilidades de complejos queda modificada fundamentalmente porque la estabilidad de estos se halla influenciado por efectos de campo de los ligant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a primera fila de metales de transición bivalentes, el orden de estabildad con la mayoría de ligantes 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Fe</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o</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Ni</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u</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aniónicos y thio-complejos</a:t>
            </a:r>
            <a:endParaRPr b="0" lang="en-US" sz="3200" spc="-1" strike="noStrike">
              <a:solidFill>
                <a:srgbClr val="ffcc66"/>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gunos metales como vanadio, cromo, molibdeno y tungsteno forman estables complejos aniónicos (ej. HW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 HMo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formación de thio aniones con sulfuro reducido puede ser otra forma importante de transporte para estos metales (ej. W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Mo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thio- aniones pueden ser también importantes en el transporte de arsénico y antimon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 de la temperatura en estabilidad de complejos</a:t>
            </a:r>
            <a:endParaRPr b="0" lang="en-US" sz="3200" spc="-1" strike="noStrike">
              <a:solidFill>
                <a:srgbClr val="ffcc66"/>
              </a:solidFill>
              <a:latin typeface="Times New Roman"/>
            </a:endParaRPr>
          </a:p>
        </p:txBody>
      </p:sp>
      <p:sp>
        <p:nvSpPr>
          <p:cNvPr id="14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temperatura y presión afectan la formación de complejos en direcciones opuestas.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emperatura creciente favorece la formación de complejos, mientras que la presión creciente provoca disociación de complejos metálicos (y pares iónicos) a iones libres en solución.</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dos efectos opuestos resultan principalmente de la interacción ion-solv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jemplo : efecto de temperatura sobre el transporte de Pb y Zn</a:t>
            </a:r>
            <a:endParaRPr b="0" lang="en-US" sz="3200" spc="-1" strike="noStrike">
              <a:solidFill>
                <a:srgbClr val="ffcc66"/>
              </a:solidFill>
              <a:latin typeface="Times New Roman"/>
            </a:endParaRPr>
          </a:p>
        </p:txBody>
      </p:sp>
      <p:sp>
        <p:nvSpPr>
          <p:cNvPr id="151" name="PlaceHolder 2"/>
          <p:cNvSpPr>
            <a:spLocks noGrp="1"/>
          </p:cNvSpPr>
          <p:nvPr>
            <p:ph/>
          </p:nvPr>
        </p:nvSpPr>
        <p:spPr>
          <a:xfrm>
            <a:off x="457200" y="1523520"/>
            <a:ext cx="8305920" cy="480060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os efectos de temperatura pueden ser ilustrados con resultados experimentales para el caso de los metales divalentes Pb</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y Zn</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con cloro.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l efecto de un incremento de temperatura es un aumento fuerte de la estabilidad de complejos.</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estabilidad de Pb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e incrementa en el orden de 2.5 ordenes de magnitud con un incremento de temperatura desde los 25ºC hasta los 3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n el caso de Zn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iendo un complejo débil a 25ºC, incrementa su estabilidad en seis ordenes de magnitud en el mismo intervalo de temperatur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60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olubilidad de complejos clorurados en función de temperatura</a:t>
            </a:r>
            <a:endParaRPr b="0" lang="en-US" sz="3200" spc="-1" strike="noStrike">
              <a:solidFill>
                <a:srgbClr val="ffcc66"/>
              </a:solidFill>
              <a:latin typeface="Times New Roman"/>
            </a:endParaRPr>
          </a:p>
        </p:txBody>
      </p:sp>
      <p:sp>
        <p:nvSpPr>
          <p:cNvPr id="153" name="PlaceHolder 2"/>
          <p:cNvSpPr>
            <a:spLocks noGrp="1"/>
          </p:cNvSpPr>
          <p:nvPr>
            <p:ph/>
          </p:nvPr>
        </p:nvSpPr>
        <p:spPr>
          <a:xfrm>
            <a:off x="6324120" y="1219320"/>
            <a:ext cx="251460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ción de la constante de equilibrio de formación,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mo log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n res-pecto a temperatura para complejos clorurados simples.</a:t>
            </a:r>
            <a:endParaRPr b="0" lang="en-US" sz="2800" spc="-1" strike="noStrike">
              <a:solidFill>
                <a:srgbClr val="ffffff"/>
              </a:solidFill>
              <a:latin typeface="Times New Roman"/>
            </a:endParaRPr>
          </a:p>
        </p:txBody>
      </p:sp>
      <p:pic>
        <p:nvPicPr>
          <p:cNvPr id="154" name="Figura21" descr=""/>
          <p:cNvPicPr/>
          <p:nvPr/>
        </p:nvPicPr>
        <p:blipFill>
          <a:blip r:embed="rId1"/>
          <a:stretch/>
        </p:blipFill>
        <p:spPr>
          <a:xfrm>
            <a:off x="380880" y="1219320"/>
            <a:ext cx="5715000" cy="538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56" name="PlaceHolder 2"/>
          <p:cNvSpPr>
            <a:spLocks noGrp="1"/>
          </p:cNvSpPr>
          <p:nvPr>
            <p:ph/>
          </p:nvPr>
        </p:nvSpPr>
        <p:spPr>
          <a:xfrm>
            <a:off x="6095880" y="685800"/>
            <a:ext cx="2819520" cy="59436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efecto adicional en complejos que tiene el incremento de temperatura es una tendencia hacia especies de carga y número de coordinación menor, y en este aspecto, la química de estabilidad de complejos se hace más simple. </a:t>
            </a:r>
            <a:endParaRPr b="0" lang="en-US" sz="2400" spc="-1" strike="noStrike">
              <a:solidFill>
                <a:srgbClr val="ffffff"/>
              </a:solidFill>
              <a:latin typeface="Times New Roman"/>
            </a:endParaRPr>
          </a:p>
        </p:txBody>
      </p:sp>
      <p:pic>
        <p:nvPicPr>
          <p:cNvPr id="157" name="Figura22" descr=""/>
          <p:cNvPicPr/>
          <p:nvPr/>
        </p:nvPicPr>
        <p:blipFill>
          <a:blip r:embed="rId1"/>
          <a:stretch/>
        </p:blipFill>
        <p:spPr>
          <a:xfrm>
            <a:off x="304920" y="1143000"/>
            <a:ext cx="6019560" cy="3711600"/>
          </a:xfrm>
          <a:prstGeom prst="rect">
            <a:avLst/>
          </a:prstGeom>
          <a:ln w="0">
            <a:noFill/>
          </a:ln>
        </p:spPr>
      </p:pic>
      <p:sp>
        <p:nvSpPr>
          <p:cNvPr id="158" name=""/>
          <p:cNvSpPr/>
          <p:nvPr/>
        </p:nvSpPr>
        <p:spPr>
          <a:xfrm>
            <a:off x="304920" y="4876920"/>
            <a:ext cx="5410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centage de distribución de complejos acuosos clorurados de Pb</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y Zn</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tes temperaturas (número indica cantidad de ligantes enlazado a cada ión metálico dival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tro efecto de la temperatura es que las especies poliméricas se hacen progresivamente menos comunes en la medida que las especies monómeras se vuelven más estables </a:t>
            </a:r>
            <a:endParaRPr b="0" lang="en-US" sz="3200" spc="-1" strike="noStrike">
              <a:solidFill>
                <a:srgbClr val="ffffff"/>
              </a:solidFill>
              <a:latin typeface="Times New Roman"/>
            </a:endParaRPr>
          </a:p>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j. H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a:t>
            </a:r>
            <a:r>
              <a:rPr b="0" lang="es-CL" sz="3200" spc="-1" strike="noStrike">
                <a:solidFill>
                  <a:srgbClr val="ffffff"/>
                </a:solidFill>
                <a:latin typeface="Times New Roman"/>
              </a:rPr>
              <a:t> y 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2-</a:t>
            </a:r>
            <a:r>
              <a:rPr b="0" lang="es-CL" sz="3200" spc="-1" strike="noStrike">
                <a:solidFill>
                  <a:srgbClr val="ffffff"/>
                </a:solidFill>
                <a:latin typeface="Times New Roman"/>
              </a:rPr>
              <a:t>, en el rango 150º a 290ºC predominan por sobre las especies polimérica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Presión en la estabilidad de complejos</a:t>
            </a:r>
            <a:endParaRPr b="0" lang="en-US" sz="3200" spc="-1" strike="noStrike">
              <a:solidFill>
                <a:srgbClr val="ffcc66"/>
              </a:solidFill>
              <a:latin typeface="Times New Roman"/>
            </a:endParaRPr>
          </a:p>
        </p:txBody>
      </p:sp>
      <p:sp>
        <p:nvSpPr>
          <p:cNvPr id="162" name="PlaceHolder 2"/>
          <p:cNvSpPr>
            <a:spLocks noGrp="1"/>
          </p:cNvSpPr>
          <p:nvPr>
            <p:ph/>
          </p:nvPr>
        </p:nvSpPr>
        <p:spPr>
          <a:xfrm>
            <a:off x="304560" y="1371240"/>
            <a:ext cx="8458200" cy="5257800"/>
          </a:xfrm>
          <a:prstGeom prst="rect">
            <a:avLst/>
          </a:prstGeom>
          <a:noFill/>
          <a:ln w="0">
            <a:noFill/>
          </a:ln>
        </p:spPr>
        <p:txBody>
          <a:bodyPr lIns="90000" rIns="90000" tIns="46800" bIns="46800" anchor="t">
            <a:normAutofit fontScale="95000"/>
          </a:bodyPr>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un solvente, agua, la presión favorece la concentración de especies iónicas. Por ejemplo,</a:t>
            </a:r>
            <a:r>
              <a:rPr b="0" lang="es-CL" sz="3200" spc="-1" strike="noStrike">
                <a:solidFill>
                  <a:srgbClr val="ffffff"/>
                </a:solidFill>
                <a:latin typeface="Times New Roman"/>
              </a:rPr>
              <a:t> </a:t>
            </a:r>
            <a:r>
              <a:rPr b="0" lang="es-CL" sz="2400" spc="-1" strike="noStrike">
                <a:solidFill>
                  <a:srgbClr val="ffffff"/>
                </a:solidFill>
                <a:latin typeface="Times New Roman"/>
              </a:rPr>
              <a:t>para una reacción de asociación simple como </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gt;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ambio parcial de volumen molar standard es dVº = +7.4 cm</a:t>
            </a:r>
            <a:r>
              <a:rPr b="0" lang="es-CL" sz="2400" spc="-1" strike="noStrike" baseline="30000">
                <a:solidFill>
                  <a:srgbClr val="ffffff"/>
                </a:solidFill>
                <a:latin typeface="Times New Roman"/>
              </a:rPr>
              <a:t>3</a:t>
            </a:r>
            <a:r>
              <a:rPr b="0" lang="es-CL" sz="2400" spc="-1" strike="noStrike">
                <a:solidFill>
                  <a:srgbClr val="ffffff"/>
                </a:solidFill>
                <a:latin typeface="Times New Roman"/>
              </a:rPr>
              <a:t>/mol a 25ºC</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resión entonces favorecera la disociación de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a iones acuosos "libr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ormación de iones "libres" está acompañada por una reducción en volumen producto de contracción de los dipolos alrededor de los ion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caso similar puede ser mencionado para la reacción</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30000">
                <a:solidFill>
                  <a:srgbClr val="ffffff"/>
                </a:solidFill>
                <a:latin typeface="Times New Roman"/>
              </a:rPr>
              <a:t>3+</a:t>
            </a:r>
            <a:r>
              <a:rPr b="0" lang="es-CL" sz="2400" spc="-1" strike="noStrike">
                <a:solidFill>
                  <a:srgbClr val="ffffff"/>
                </a:solidFill>
                <a:latin typeface="Times New Roman"/>
              </a:rPr>
              <a:t> +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lt;=&gt; FeCl</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6"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solubilidad de productos de sulfuros metálicos es muy baja</a:t>
            </a:r>
            <a:r>
              <a:rPr b="0" lang="es-CL" sz="2400" spc="-1" strike="noStrike">
                <a:solidFill>
                  <a:srgbClr val="ffffff"/>
                </a:solidFill>
                <a:latin typeface="Times New Roman"/>
              </a:rPr>
              <a:t>.  Ej. Esfalerita</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ZnS =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 S</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K= a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a:t>
            </a:r>
            <a:r>
              <a:rPr b="0" lang="es-CL" sz="2400" spc="-1" strike="noStrike">
                <a:solidFill>
                  <a:srgbClr val="ffffff"/>
                </a:solidFill>
                <a:latin typeface="Times New Roman"/>
              </a:rPr>
              <a:t>x</a:t>
            </a:r>
            <a:r>
              <a:rPr b="0" lang="es-ES" sz="2400" spc="-1" strike="noStrike">
                <a:solidFill>
                  <a:srgbClr val="ffffff"/>
                </a:solidFill>
                <a:latin typeface="Times New Roman"/>
              </a:rPr>
              <a:t> aS</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valores de log K para ZnS a 25</a:t>
            </a:r>
            <a:r>
              <a:rPr b="0" lang="es-CL" sz="2400" spc="-1" strike="noStrike">
                <a:solidFill>
                  <a:srgbClr val="ffffff"/>
                </a:solidFill>
                <a:latin typeface="Times New Roman"/>
              </a:rPr>
              <a:t>°</a:t>
            </a:r>
            <a:r>
              <a:rPr b="0" lang="es-ES" sz="2400" spc="-1" strike="noStrike">
                <a:solidFill>
                  <a:srgbClr val="ffffff"/>
                </a:solidFill>
                <a:latin typeface="Times New Roman"/>
              </a:rPr>
              <a:t>, 100</a:t>
            </a:r>
            <a:r>
              <a:rPr b="0" lang="es-CL" sz="2400" spc="-1" strike="noStrike">
                <a:solidFill>
                  <a:srgbClr val="ffffff"/>
                </a:solidFill>
                <a:latin typeface="Times New Roman"/>
              </a:rPr>
              <a:t>°</a:t>
            </a:r>
            <a:r>
              <a:rPr b="0" lang="es-ES" sz="2400" spc="-1" strike="noStrike">
                <a:solidFill>
                  <a:srgbClr val="ffffff"/>
                </a:solidFill>
                <a:latin typeface="Times New Roman"/>
              </a:rPr>
              <a:t> y 200ºC y pH neutro son</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19.03, - 16.48 y –14.61</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Para HgS ellos son –46.8, -38.2 y –31.4</a:t>
            </a:r>
            <a:r>
              <a:rPr b="0" lang="es-CL" sz="2400" spc="-1" strike="noStrike">
                <a:solidFill>
                  <a:srgbClr val="ffffff"/>
                </a:solidFill>
                <a:latin typeface="Times New Roman"/>
              </a:rPr>
              <a:t>; ¡casi cero!</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Los sulfuros metálicos </a:t>
            </a:r>
            <a:r>
              <a:rPr b="0" lang="es-ES" sz="2400" spc="-1" strike="noStrike">
                <a:solidFill>
                  <a:srgbClr val="ffff00"/>
                </a:solidFill>
                <a:latin typeface="Times New Roman"/>
              </a:rPr>
              <a:t>son esencialmente insolubles en agua</a:t>
            </a:r>
            <a:r>
              <a:rPr b="0" lang="es-CL" sz="2400" spc="-1" strike="noStrike">
                <a:solidFill>
                  <a:srgbClr val="ffff00"/>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Times New Roman"/>
              </a:rPr>
              <a:t>¿Cómo se depositó HgS (cinabrio) en la Champagne Pool en Nueva Zelanda a partir del agua hirviente de esta fuente 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esión versus Temperatura</a:t>
            </a:r>
            <a:endParaRPr b="0" lang="en-US" sz="32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terminos generales, el efecto de presión de 2 - 3 kbar sobre el equilibrio de la estabilidad de comlejos metálicos es bastante pequeño (en ordenes de magnitud) comparado a los grandes cambios asociados a cambios de temperatura, por ejemplo, de 25º a 350º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28240"/>
            <a:ext cx="3429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Química del Azufre</a:t>
            </a:r>
            <a:endParaRPr b="0" lang="en-US" sz="3200" spc="-1" strike="noStrike">
              <a:solidFill>
                <a:srgbClr val="ffcc66"/>
              </a:solidFill>
              <a:latin typeface="Times New Roman"/>
            </a:endParaRPr>
          </a:p>
        </p:txBody>
      </p:sp>
      <p:sp>
        <p:nvSpPr>
          <p:cNvPr id="166" name="PlaceHolder 2"/>
          <p:cNvSpPr>
            <a:spLocks noGrp="1"/>
          </p:cNvSpPr>
          <p:nvPr>
            <p:ph/>
          </p:nvPr>
        </p:nvSpPr>
        <p:spPr>
          <a:xfrm>
            <a:off x="5257800" y="304920"/>
            <a:ext cx="3657600" cy="6248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química del azufre reducida es importante por su relación con minerales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ligantes reducidos de sulfuros com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posiblemente polisulfuros del tipo S</a:t>
            </a:r>
            <a:r>
              <a:rPr b="0" lang="es-ES_tradnl" sz="2400" spc="-1" strike="noStrike" baseline="-25000">
                <a:solidFill>
                  <a:srgbClr val="ffffff"/>
                </a:solidFill>
                <a:latin typeface="Times New Roman"/>
              </a:rPr>
              <a:t>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juegan un rol fundamental en el transporte hidrotermal de elementos como Au, Ag, Hg, Cu, As y Sb.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alta temperatura sól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 de importancia.</a:t>
            </a:r>
            <a:endParaRPr b="0" lang="en-US" sz="2400" spc="-1" strike="noStrike">
              <a:solidFill>
                <a:srgbClr val="ffffff"/>
              </a:solidFill>
              <a:latin typeface="Times New Roman"/>
            </a:endParaRPr>
          </a:p>
        </p:txBody>
      </p:sp>
      <p:pic>
        <p:nvPicPr>
          <p:cNvPr id="167" name="Figura20" descr=""/>
          <p:cNvPicPr/>
          <p:nvPr/>
        </p:nvPicPr>
        <p:blipFill>
          <a:blip r:embed="rId1"/>
          <a:stretch/>
        </p:blipFill>
        <p:spPr>
          <a:xfrm>
            <a:off x="0" y="990720"/>
            <a:ext cx="5105520" cy="4456080"/>
          </a:xfrm>
          <a:prstGeom prst="rect">
            <a:avLst/>
          </a:prstGeom>
          <a:ln w="0">
            <a:noFill/>
          </a:ln>
        </p:spPr>
      </p:pic>
      <p:sp>
        <p:nvSpPr>
          <p:cNvPr id="168" name=""/>
          <p:cNvSpPr/>
          <p:nvPr/>
        </p:nvSpPr>
        <p:spPr>
          <a:xfrm>
            <a:off x="228600" y="567072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bilidades de especies acuosas dominantes conteniendo C o S a 250°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Sulfurados</a:t>
            </a:r>
            <a:endParaRPr b="0" lang="en-US" sz="3200" spc="-1" strike="noStrike">
              <a:solidFill>
                <a:srgbClr val="ffcc66"/>
              </a:solidFill>
              <a:latin typeface="Times New Roman"/>
            </a:endParaRPr>
          </a:p>
        </p:txBody>
      </p:sp>
      <p:sp>
        <p:nvSpPr>
          <p:cNvPr id="170"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xisten especies reducidas de azufre importantes en la formación de coplejos durante transporte y precipitación de elementos en ambiente hidrotermal.</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hidrosulfuros o bisulfuros,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particularmente efectivos en su rol de transporte de metales en fluidos acuosos en la corteza terrestr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ligante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es una base blanda en la clasificación de Lewis, y tiene una tendencia a generar complejos muy estables con metales blandos de la clase "b", cationes como Au</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Hidroquímica del oro</a:t>
            </a:r>
            <a:endParaRPr b="0" lang="en-US" sz="3200" spc="-1" strike="noStrike">
              <a:solidFill>
                <a:srgbClr val="ffcc66"/>
              </a:solidFill>
              <a:latin typeface="Times New Roman"/>
            </a:endParaRPr>
          </a:p>
        </p:txBody>
      </p:sp>
      <p:sp>
        <p:nvSpPr>
          <p:cNvPr id="172" name="PlaceHolder 2"/>
          <p:cNvSpPr>
            <a:spLocks noGrp="1"/>
          </p:cNvSpPr>
          <p:nvPr>
            <p:ph/>
          </p:nvPr>
        </p:nvSpPr>
        <p:spPr>
          <a:xfrm>
            <a:off x="380880" y="914040"/>
            <a:ext cx="8382240" cy="5638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hidroquímica del oro en ambientes hidrotermales está dominada por la formación de dos simples complejos hidrosulfurados,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y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s dos especies, conjuntamente con complejos cianurados Au(CN)</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on los complejos de oro inorgánicos más estables conocidos, y son ordenes de magnitud más estables que su equivalente clorurado, Au(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mplejo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es responsable del transporte de oro en ambientes de baja sulfidización, del tipo epitermal a baja salinidad, condiciones de pH neutras a alcalinas y temperaturas entre 200º y 300ºC.</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n embargo, condiciones de pH más bajos (ej. en ambientes de alta sulfidización), el complejo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pasa a ser la especie dominante. Este complejo también es dominante a mayor temperatura (&gt; 350°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tros complejos hidrosulfurados</a:t>
            </a:r>
            <a:endParaRPr b="0" lang="en-US" sz="3200" spc="-1" strike="noStrike">
              <a:solidFill>
                <a:srgbClr val="ffcc66"/>
              </a:solidFill>
              <a:latin typeface="Times New Roman"/>
            </a:endParaRPr>
          </a:p>
        </p:txBody>
      </p:sp>
      <p:sp>
        <p:nvSpPr>
          <p:cNvPr id="1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también estables para otros metales. Aquellos de estequiometría similar existen para el cobre [Cu(HS)</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 25ºC] y para plata [AgHS</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hasta 300ºC]. </a:t>
            </a:r>
            <a:endParaRPr b="0" lang="en-US" sz="28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 también ocurre con metales como Cd y Zn, pero no hay datos existentes para su corroboración experimental. Otros complejos hidrosulfurados estables han sido identificados para Hg, As, Sb, Pt y Pd, incluso a temperaturas elevad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Orgánicos</a:t>
            </a:r>
            <a:endParaRPr b="0" lang="en-US" sz="3200" spc="-1" strike="noStrike">
              <a:solidFill>
                <a:srgbClr val="ffcc66"/>
              </a:solidFill>
              <a:latin typeface="Times New Roman"/>
            </a:endParaRPr>
          </a:p>
        </p:txBody>
      </p:sp>
      <p:sp>
        <p:nvSpPr>
          <p:cNvPr id="176" name="PlaceHolder 2"/>
          <p:cNvSpPr>
            <a:spLocks noGrp="1"/>
          </p:cNvSpPr>
          <p:nvPr>
            <p:ph/>
          </p:nvPr>
        </p:nvSpPr>
        <p:spPr>
          <a:xfrm>
            <a:off x="380880" y="1371240"/>
            <a:ext cx="838224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articipación de complejos orgánicos en procesos hidrotermales puede ser de relevancia en algunos tipos de depositos, sobretodo a temperaturas por debajo de los 250ºC.</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hay evidencias de que Zn y Pb en depositos tipo Mississippi Valley  son transportados en forma de complejos orgánicos, porque los complejos inorgánicos no son lo suficientemente solubles, solamente proveyendo solubilidades del orden de 0.1 ppm para cada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78"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res condiciones básicas deben darse para que algún complejo orgánico dado sea de relevancia en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imero, el ligante orgánico debe encontrarse en concentraciones lo suficientemente altos como para poder proveer el mínimo de solubilidad  necesario para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gundo, el ligante orgánico debe resistir procesos de degradación a alta temperatura durante extracción y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rcero, los complejos deben ser lo suficientemente estables como para dar las solubilidades mínimas necesarias a los metales para la generación de un depos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80"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oncentración mínima de ligantes orgánicos para transporte efectivo de metales debe ser similar a la concentración mínima del metal para la generación de un deposito (ej. 10 ppm).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aniones orgánicos como el acetato (10.000 ppm máximo), malonato (2.540 ppm máximo) o el oxalato (494 ppm máximo) pueden estar en concentraciones muy por arriba del mínimo necesario, siendo potenciales medios de transporte para metales en algunos tipos de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udios experimentales indican que la vida media de estos es lo suficientemente largo como para ser importantes medios de transporte de met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stabilidad de complejos orgánicos es pobremente conocido, sobretodo a temperaturas por sobre los 100º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
          <p:cNvSpPr/>
          <p:nvPr/>
        </p:nvSpPr>
        <p:spPr>
          <a:xfrm>
            <a:off x="457200" y="1295280"/>
            <a:ext cx="830592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Qué complejos transportan los metales más comunes?</a:t>
            </a:r>
            <a:endParaRPr b="0" lang="en-US" sz="3200" spc="-1" strike="noStrike">
              <a:solidFill>
                <a:srgbClr val="ffcc66"/>
              </a:solidFill>
              <a:latin typeface="Times New Roman"/>
            </a:endParaRPr>
          </a:p>
        </p:txBody>
      </p:sp>
      <p:sp>
        <p:nvSpPr>
          <p:cNvPr id="183" name="PlaceHolder 2"/>
          <p:cNvSpPr>
            <a:spLocks noGrp="1"/>
          </p:cNvSpPr>
          <p:nvPr>
            <p:ph/>
          </p:nvPr>
        </p:nvSpPr>
        <p:spPr>
          <a:xfrm>
            <a:off x="304920" y="1752120"/>
            <a:ext cx="8534160" cy="48006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C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probablemente como CuCl</a:t>
            </a:r>
            <a:r>
              <a:rPr b="0" lang="es-ES" sz="2400" spc="-1" strike="noStrike" baseline="30000">
                <a:solidFill>
                  <a:srgbClr val="ffffff"/>
                </a:solidFill>
                <a:latin typeface="Times New Roman"/>
                <a:ea typeface="Times New Roman"/>
              </a:rPr>
              <a:t>o</a:t>
            </a:r>
            <a:r>
              <a:rPr b="0" lang="es-ES" sz="2400" spc="-1" strike="noStrike">
                <a:solidFill>
                  <a:srgbClr val="ffffff"/>
                </a:solidFill>
                <a:latin typeface="Times New Roman"/>
                <a:ea typeface="Times New Roman"/>
              </a:rPr>
              <a:t> o CuCl</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en los rangos de tº y pH de la mayoría de los sistemas hidrotermales.</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n condiciones de tº&lt;200º-250ºC en fluidos diluidos y de pH ~neutro se ha postulado transporte como complejo bisulfurado C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Pb, Zn</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mplejos clorurados en la mayor parte de las condiciones hidrotermales, ZnCl</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bCl</a:t>
            </a:r>
            <a:r>
              <a:rPr b="0" lang="es-ES" sz="2400" spc="-1" strike="noStrike" baseline="-30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g</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en condiciones salinas de alta tº como complejo clorurado AgCl</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condiciones diluidas como complejo bi-sulfurado Ag(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a altas temperaturas como complejo clorurado AuCl</a:t>
            </a:r>
            <a:r>
              <a:rPr b="0" lang="es-ES" sz="2400" spc="-1" strike="noStrike" baseline="30000">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a tº&lt;300º-350ºC como complejo bisulfurado A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o</a:t>
            </a:r>
            <a:r>
              <a:rPr b="0" lang="es-ES"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 altas temperaturas el Mo forma complejos prop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etales en sistemas hidrotermales</a:t>
            </a:r>
            <a:endParaRPr b="0" lang="en-US" sz="3200" spc="-1" strike="noStrike">
              <a:solidFill>
                <a:srgbClr val="ffcc66"/>
              </a:solidFill>
              <a:latin typeface="Times New Roman"/>
            </a:endParaRPr>
          </a:p>
        </p:txBody>
      </p:sp>
      <p:sp>
        <p:nvSpPr>
          <p:cNvPr id="185"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se excede el límite de solubilidad de algún componente de la solución hidrotermal</a:t>
            </a:r>
            <a:r>
              <a:rPr b="0" lang="es-CL" sz="2400" spc="-1" strike="noStrike">
                <a:solidFill>
                  <a:srgbClr val="ffffff"/>
                </a:solidFill>
                <a:latin typeface="Times New Roman"/>
              </a:rPr>
              <a:t> los complejos iónicos se disocian y el metal precipita usualmente combinandose con aniónes S</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para formar sulfuros metálicos que constituyen menas comunes de metales base.</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apacidad de transporte en solución de componentes minerales depende de las condiciones físico-químicas del fluido hidrotermal; así como por ejemplo el agua disuelta en el aire se condensa y precipita como lluvia al enfriarse el mismo, la sobresaturación de un componente disuelto en fluidos hidrotermales puede producirse por distintas cau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los metales son insolubles como iónes simples, su transporte en fluidos hidrotermales debe ser en algún compuesto solubl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Au es un metal que no es reactivo químicamente por lo que es inalterable, pero el oro forma un complejo soluble estable a temperatura ambiente con el cianuro (NaCN) que es el dicianato de oro: </a:t>
            </a:r>
            <a:r>
              <a:rPr b="0" lang="es-CL" sz="2400" spc="-1" strike="noStrike">
                <a:solidFill>
                  <a:srgbClr val="ffcc66"/>
                </a:solidFill>
                <a:latin typeface="Times New Roman"/>
              </a:rPr>
              <a:t>Au(CN)</a:t>
            </a:r>
            <a:r>
              <a:rPr b="0" lang="es-CL" sz="2400" spc="-1" strike="noStrike" baseline="-25000">
                <a:solidFill>
                  <a:srgbClr val="ffcc66"/>
                </a:solidFill>
                <a:latin typeface="Times New Roman"/>
              </a:rPr>
              <a:t>2</a:t>
            </a:r>
            <a:r>
              <a:rPr b="0" lang="es-CL" sz="2400" spc="-1" strike="noStrike" baseline="30000">
                <a:solidFill>
                  <a:srgbClr val="ffcc66"/>
                </a:solidFill>
                <a:latin typeface="Times New Roman"/>
              </a:rPr>
              <a:t>-</a:t>
            </a:r>
            <a:r>
              <a:rPr b="0" lang="es-CL" sz="2400" spc="-1" strike="noStrike" baseline="30000">
                <a:solidFill>
                  <a:srgbClr val="ffffff"/>
                </a:solidFill>
                <a:latin typeface="Times New Roman"/>
              </a:rPr>
              <a:t>  </a:t>
            </a:r>
            <a:r>
              <a:rPr b="0" lang="es-CL" sz="2400" spc="-1" strike="noStrike">
                <a:solidFill>
                  <a:srgbClr val="ffffff"/>
                </a:solidFill>
                <a:latin typeface="Times New Roman"/>
              </a:rPr>
              <a:t>lo que se aprovecha en metalurgi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anión es altamente soluble y permite disolver el oro de una pila de mineral o de mineral pulverizado.  Luego se re-precipita el Au, ya sea incorporando zinc en polvo a la solución o haciendola pasar por carbón activado. El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tiene mayor afinidad con el cianuro y desplaza al Au precipitando este como met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friamiento</a:t>
            </a:r>
            <a:r>
              <a:rPr b="0" lang="es-CL" sz="2400" spc="-1" strike="noStrike">
                <a:solidFill>
                  <a:srgbClr val="ffffff"/>
                </a:solidFill>
                <a:latin typeface="Times New Roman"/>
              </a:rPr>
              <a:t> del fluido por conducc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duce la s</a:t>
            </a:r>
            <a:r>
              <a:rPr b="0" lang="es-ES" sz="2400" spc="-1" strike="noStrike">
                <a:solidFill>
                  <a:srgbClr val="ffffff"/>
                </a:solidFill>
                <a:latin typeface="Times New Roman"/>
              </a:rPr>
              <a:t>olubilidad</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fecta la e</a:t>
            </a:r>
            <a:r>
              <a:rPr b="0" lang="es-ES" sz="2400" spc="-1" strike="noStrike">
                <a:solidFill>
                  <a:srgbClr val="ffffff"/>
                </a:solidFill>
                <a:latin typeface="Times New Roman"/>
              </a:rPr>
              <a:t>stabilidad de complejo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crementa la h</a:t>
            </a:r>
            <a:r>
              <a:rPr b="0" lang="es-ES" sz="2400" spc="-1" strike="noStrike">
                <a:solidFill>
                  <a:srgbClr val="ffffff"/>
                </a:solidFill>
                <a:latin typeface="Times New Roman"/>
              </a:rPr>
              <a:t>idrólisis de ligantes como Cl</a:t>
            </a:r>
            <a:r>
              <a:rPr b="0" lang="es-ES" sz="2400" spc="-1" strike="noStrike" baseline="30000">
                <a:solidFill>
                  <a:srgbClr val="ffffff"/>
                </a:solidFill>
                <a:latin typeface="Times New Roman"/>
              </a:rPr>
              <a:t>-</a:t>
            </a:r>
            <a:endParaRPr b="0" lang="en-US" sz="2400" spc="-1" strike="noStrike">
              <a:solidFill>
                <a:srgbClr val="ffffff"/>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ción de pres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bullición</a:t>
            </a:r>
            <a:r>
              <a:rPr b="0" lang="es-CL" sz="2400" spc="-1" strike="noStrike">
                <a:solidFill>
                  <a:srgbClr val="ffffff"/>
                </a:solidFill>
                <a:latin typeface="Times New Roman"/>
              </a:rPr>
              <a:t> del fluido (hierve al acercarse a la superficie)</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umenta concentración </a:t>
            </a:r>
            <a:r>
              <a:rPr b="0" lang="es-CL" sz="2400" spc="-1" strike="noStrike">
                <a:solidFill>
                  <a:srgbClr val="ffffff"/>
                </a:solidFill>
                <a:latin typeface="Times New Roman"/>
              </a:rPr>
              <a:t>salina </a:t>
            </a:r>
            <a:r>
              <a:rPr b="0" lang="es-ES" sz="2400" spc="-1" strike="noStrike">
                <a:solidFill>
                  <a:srgbClr val="ffffff"/>
                </a:solidFill>
                <a:latin typeface="Times New Roman"/>
              </a:rPr>
              <a:t>de solución</a:t>
            </a:r>
            <a:r>
              <a:rPr b="0" lang="es-CL" sz="2400" spc="-1" strike="noStrike">
                <a:solidFill>
                  <a:srgbClr val="ffffff"/>
                </a:solidFill>
                <a:latin typeface="Times New Roman"/>
              </a:rPr>
              <a:t> </a:t>
            </a:r>
            <a:r>
              <a:rPr b="0" lang="es-ES" sz="2400" spc="-1" strike="noStrike">
                <a:solidFill>
                  <a:srgbClr val="ffffff"/>
                </a:solidFill>
                <a:latin typeface="Times New Roman"/>
                <a:ea typeface="Times New Roman"/>
              </a:rPr>
              <a:t>por simple pérdida de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 como vapor </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ye capacidad de transpor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cc66"/>
                </a:solidFill>
                <a:latin typeface="Times New Roman"/>
                <a:ea typeface="Times New Roman"/>
              </a:rPr>
              <a:t>E</a:t>
            </a:r>
            <a:r>
              <a:rPr b="0" i="1" lang="es-CL" sz="3200" spc="-1" strike="noStrike">
                <a:solidFill>
                  <a:srgbClr val="ffcc66"/>
                </a:solidFill>
                <a:latin typeface="Times New Roman"/>
                <a:ea typeface="Times New Roman"/>
              </a:rPr>
              <a:t>bullición de fluido hidrotermal</a:t>
            </a:r>
            <a:endParaRPr b="0" lang="en-US" sz="3200" spc="-1" strike="noStrike">
              <a:solidFill>
                <a:srgbClr val="ffcc66"/>
              </a:solidFill>
              <a:latin typeface="Times New Roman"/>
            </a:endParaRPr>
          </a:p>
        </p:txBody>
      </p:sp>
      <p:sp>
        <p:nvSpPr>
          <p:cNvPr id="18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iberación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CO</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Solución remanente </a:t>
            </a:r>
            <a:r>
              <a:rPr b="0" lang="es-ES" sz="2400" spc="-1" strike="noStrike">
                <a:solidFill>
                  <a:srgbClr val="ffcc66"/>
                </a:solidFill>
                <a:latin typeface="Times New Roman"/>
                <a:ea typeface="Times New Roman"/>
              </a:rPr>
              <a:t>aumenta </a:t>
            </a:r>
            <a:r>
              <a:rPr b="0" lang="es-CL" sz="2400" spc="-1" strike="noStrike">
                <a:solidFill>
                  <a:srgbClr val="ffcc66"/>
                </a:solidFill>
                <a:latin typeface="Times New Roman"/>
                <a:ea typeface="Times New Roman"/>
              </a:rPr>
              <a:t>su </a:t>
            </a:r>
            <a:r>
              <a:rPr b="0" lang="es-ES" sz="2400" spc="-1" strike="noStrike">
                <a:solidFill>
                  <a:srgbClr val="ffcc66"/>
                </a:solidFill>
                <a:latin typeface="Times New Roman"/>
                <a:ea typeface="Times New Roman"/>
              </a:rPr>
              <a:t>pH</a:t>
            </a:r>
            <a:endParaRPr b="0" lang="en-US" sz="2400" spc="-1" strike="noStrike">
              <a:solidFill>
                <a:srgbClr val="ffffff"/>
              </a:solidFill>
              <a:latin typeface="Times New Roman"/>
            </a:endParaRPr>
          </a:p>
          <a:p>
            <a:pPr marL="329040" indent="-329040" algn="just">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Times New Roman"/>
                <a:ea typeface="Times New Roman"/>
              </a:rPr>
              <a:t>Aumento de fO</a:t>
            </a:r>
            <a:r>
              <a:rPr b="0" lang="es-ES" sz="2400" spc="-1" strike="noStrike" baseline="-30000">
                <a:solidFill>
                  <a:srgbClr val="ffcc66"/>
                </a:solidFill>
                <a:latin typeface="Times New Roman"/>
                <a:ea typeface="Times New Roman"/>
              </a:rPr>
              <a:t>2</a:t>
            </a:r>
            <a:r>
              <a:rPr b="0" lang="es-ES" sz="2400" spc="-1" strike="noStrike">
                <a:solidFill>
                  <a:srgbClr val="ffffff"/>
                </a:solidFill>
                <a:latin typeface="Times New Roman"/>
                <a:ea typeface="Times New Roman"/>
              </a:rPr>
              <a:t> (fugacidad</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ea typeface="Times New Roman"/>
              </a:rPr>
              <a:t> por aumento de razone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CH</a:t>
            </a:r>
            <a:r>
              <a:rPr b="0" lang="es-ES" sz="2400" spc="-1" strike="noStrike" baseline="-30000">
                <a:solidFill>
                  <a:srgbClr val="ffffff"/>
                </a:solidFill>
                <a:latin typeface="Times New Roman"/>
                <a:ea typeface="Times New Roman"/>
              </a:rPr>
              <a:t>4</a:t>
            </a:r>
            <a:r>
              <a:rPr b="0" lang="es-ES" sz="2400" spc="-1" strike="noStrike">
                <a:solidFill>
                  <a:srgbClr val="ffffff"/>
                </a:solidFill>
                <a:latin typeface="Times New Roman"/>
                <a:ea typeface="Times New Roman"/>
              </a:rPr>
              <a:t>  y  S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sto debido a que el metano y ácido sulfídrico escapan más fácilmente que el anhídrido carbónico y sulfúrico </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isminuye la temperatura (no demasiado), </a:t>
            </a:r>
            <a:r>
              <a:rPr b="0" lang="es-CL" sz="2400" spc="-1" strike="noStrike">
                <a:solidFill>
                  <a:srgbClr val="ffffff"/>
                </a:solidFill>
                <a:latin typeface="Times New Roman"/>
                <a:ea typeface="Times New Roman"/>
              </a:rPr>
              <a:t>pero </a:t>
            </a:r>
            <a:r>
              <a:rPr b="0" lang="es-ES" sz="2400" spc="-1" strike="noStrike">
                <a:solidFill>
                  <a:srgbClr val="ffffff"/>
                </a:solidFill>
                <a:latin typeface="Times New Roman"/>
                <a:ea typeface="Times New Roman"/>
              </a:rPr>
              <a:t>suficiente para precipitar cuarzo</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mayor pérdida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respecto a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resulta en </a:t>
            </a:r>
            <a:r>
              <a:rPr b="1" lang="es-ES" sz="2400" spc="-1" strike="noStrike">
                <a:solidFill>
                  <a:srgbClr val="ffffff"/>
                </a:solidFill>
                <a:latin typeface="Times New Roman"/>
                <a:ea typeface="Times New Roman"/>
              </a:rPr>
              <a:t>un aumento de la </a:t>
            </a:r>
            <a:r>
              <a:rPr b="0" lang="es-ES" sz="2400" spc="-1" strike="noStrike">
                <a:solidFill>
                  <a:srgbClr val="ffffff"/>
                </a:solidFill>
                <a:latin typeface="Times New Roman"/>
                <a:ea typeface="Times New Roman"/>
              </a:rPr>
              <a:t>actividad de 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posibilidad de formar complejos sulfurados estables con </a:t>
            </a:r>
            <a:r>
              <a:rPr b="1" lang="es-ES" sz="2400" spc="-1" strike="noStrike">
                <a:solidFill>
                  <a:srgbClr val="ffffff"/>
                </a:solidFill>
                <a:latin typeface="Times New Roman"/>
                <a:ea typeface="Times New Roman"/>
              </a:rPr>
              <a:t>Au, As, Sb y Hg</a:t>
            </a:r>
            <a:r>
              <a:rPr b="0" lang="es-ES" sz="2400" spc="-1" strike="noStrike">
                <a:solidFill>
                  <a:srgbClr val="ffffff"/>
                </a:solidFill>
                <a:latin typeface="Times New Roman"/>
                <a:ea typeface="Times New Roman"/>
              </a:rPr>
              <a:t>.  Estos complejos “thio-” son estables en ambientes someros y solo son destruidos por el aumento de fO2 cerca de la superficie.</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uptura de complejos hidrosulfurados</a:t>
            </a:r>
            <a:endParaRPr b="0" lang="en-US" sz="3200" spc="-1" strike="noStrike">
              <a:solidFill>
                <a:srgbClr val="ffcc66"/>
              </a:solidFill>
              <a:latin typeface="Times New Roman"/>
            </a:endParaRPr>
          </a:p>
        </p:txBody>
      </p:sp>
      <p:sp>
        <p:nvSpPr>
          <p:cNvPr id="191" name="PlaceHolder 2"/>
          <p:cNvSpPr>
            <a:spLocks noGrp="1"/>
          </p:cNvSpPr>
          <p:nvPr>
            <p:ph/>
          </p:nvPr>
        </p:nvSpPr>
        <p:spPr>
          <a:xfrm>
            <a:off x="685800" y="1676160"/>
            <a:ext cx="7772400" cy="37335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evidentemente muy sensibles a cambios de actividad de azufre reducido en el fluido hidrotermal.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scensos de actividad llevará a la precipitación de minerales metálicos, por ejemplo durante ebullición o separación de fases, durante precipitación de minerales de sulfuros, mezcla y oxid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químic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acción con roca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olución de carbonato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idrólisis</a:t>
            </a:r>
            <a:r>
              <a:rPr b="0" lang="es-CL" sz="2400" spc="-1" strike="noStrike">
                <a:solidFill>
                  <a:srgbClr val="ffffff"/>
                </a:solidFill>
                <a:latin typeface="Times New Roman"/>
              </a:rPr>
              <a:t> (fenómenos de alteración; incrementa pH de la so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 de oxidación – materia orgáni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zcla de fluid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pH</a:t>
            </a:r>
            <a:r>
              <a:rPr b="0" lang="es-CL" sz="2400" spc="-1" strike="noStrike">
                <a:solidFill>
                  <a:srgbClr val="ffffff"/>
                </a:solidFill>
                <a:latin typeface="Times New Roman"/>
              </a:rPr>
              <a:t> (sube o baj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a:t>
            </a:r>
            <a:r>
              <a:rPr b="0" lang="es-ES" sz="2400" spc="-1" strike="noStrike">
                <a:solidFill>
                  <a:srgbClr val="ffffff"/>
                </a:solidFill>
                <a:latin typeface="Times New Roman"/>
                <a:ea typeface="Arial"/>
              </a:rPr>
              <a:t>ƒ</a:t>
            </a:r>
            <a:r>
              <a:rPr b="0" lang="es-ES" sz="2400" spc="-1" strike="noStrike">
                <a:solidFill>
                  <a:srgbClr val="ffffff"/>
                </a:solidFill>
                <a:latin typeface="Times New Roman"/>
              </a:rPr>
              <a:t>O</a:t>
            </a:r>
            <a:r>
              <a:rPr b="0" lang="es-E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5"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Neutralización ácida</a:t>
            </a:r>
            <a:r>
              <a:rPr b="0" lang="es-CL" sz="2400" spc="-1" strike="noStrike">
                <a:solidFill>
                  <a:srgbClr val="ffffff"/>
                </a:solidFill>
                <a:latin typeface="Times New Roman"/>
              </a:rPr>
              <a:t> : varios metales son transportados como complejos clorurados, sobretodo en fluidos de baja concentración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de pH débil a moderadamente ácido. Un incremento de pH asociado, un ataque ácido de una roca carbonatada, puede provocar precipitación de sulfuros (ej. ZnCl</a:t>
            </a:r>
            <a:r>
              <a:rPr b="0" lang="es-CL" sz="2400" spc="-1" strike="noStrike" baseline="-25000">
                <a:solidFill>
                  <a:srgbClr val="ffffff"/>
                </a:solidFill>
                <a:latin typeface="Times New Roman"/>
              </a:rPr>
              <a:t>n</a:t>
            </a:r>
            <a:r>
              <a:rPr b="0" lang="es-CL" sz="2400" spc="-1" strike="noStrike" baseline="30000">
                <a:solidFill>
                  <a:srgbClr val="ffffff"/>
                </a:solidFill>
                <a:latin typeface="Times New Roman"/>
              </a:rPr>
              <a:t>2-n</a:t>
            </a:r>
            <a:r>
              <a:rPr b="0" lang="es-CL" sz="2400" spc="-1" strike="noStrike" baseline="-25000">
                <a:solidFill>
                  <a:srgbClr val="ffffff"/>
                </a:solidFill>
                <a:latin typeface="Times New Roman"/>
              </a:rPr>
              <a:t> (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nCl</a:t>
            </a:r>
            <a:r>
              <a:rPr b="0" lang="es-CL" sz="2400" spc="-1" strike="noStrike" baseline="30000">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on el buffer de pH caolinita + montmorillonita + cuarzo, una solución clorurada a 250º - 350ºC, al entrar en contacto con marmol, reemplaza la calcita con esfalerita, pirita y pirrotin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tipo de reemplazo provoca disminución de volumen de la roca huesped carbonatada ya que la reacción de digestión es más activa y dominante que la reacción de reemplazo.</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onde neutralización ácida es la causa principal de precipitación de metales, la mineralización ocurre en el momento en que los fluidos entran en contacto con carbonatos, ya que la reacción de digestión es muy ráp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7"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Oxidación</a:t>
            </a:r>
            <a:r>
              <a:rPr b="1" lang="es-CL" sz="2400" spc="-1" strike="noStrike">
                <a:solidFill>
                  <a:srgbClr val="ffffff"/>
                </a:solidFill>
                <a:latin typeface="Times New Roman"/>
              </a:rPr>
              <a:t> </a:t>
            </a:r>
            <a:r>
              <a:rPr b="0" lang="es-CL" sz="2400" spc="-1" strike="noStrike">
                <a:solidFill>
                  <a:srgbClr val="ffffff"/>
                </a:solidFill>
                <a:latin typeface="Times New Roman"/>
              </a:rPr>
              <a:t>: cuando los metales son transportados como complejos bisulfurados, procesos de oxidación pueden causar la precipitación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s carbonatadas, acidificación del medio producto de las reacciones  </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2H</a:t>
            </a:r>
            <a:r>
              <a:rPr b="0" lang="es-CL" sz="2400" spc="-1" strike="noStrike" baseline="-25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y</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levaran a ataque ácido y precipitación adicional por neutraliza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procesos debieran ser más eficientes con aquellos metales que forman complejos bisulfurados (clase "b", blandos), tales como Ag, Au, Hg y T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9"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Reemplazo asociado a gradientes de temperatura</a:t>
            </a:r>
            <a:r>
              <a:rPr b="0" lang="es-CL" sz="2400" spc="-1" strike="noStrike">
                <a:solidFill>
                  <a:srgbClr val="ffffff"/>
                </a:solidFill>
                <a:latin typeface="Times New Roman"/>
              </a:rPr>
              <a:t> : el descenso de temperatura es particularmente efectivo en la depositación de metales transportados como complejos clorurados (fluidos neutros a levemente acídicos con bajas concentraciones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debido a la fuerte dependencia de la estabilidad de complejos con respecto a temperatur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urante enfriamiento la solubilidad de los metales disminuye y protones son liberados a solución (incrementa acidez) producto de reacciones tales como : ZnCl</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4Cl</a:t>
            </a:r>
            <a:r>
              <a:rPr b="0" lang="es-CL" sz="2400" spc="-1" strike="noStrike" baseline="30000">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 carbonatada, el incremento de acidez provocará digestión de carbona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1"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emplazo de minerales requiere un transporte de masa de los componentes de la roca huesped fuera del sistema, y de componentes arrivados hacia el sistem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velocidad de estos procesos depende de los mecanismos de transpor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principio, los componentes podrian ser transportados por difusión sólida o líquida o por flujo de solucion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o velocidad de difusión, ya sea sólida o líquida, es demasiado lenta dentro de los rangos de temperatura y tiempo conocidos para muchos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jo de soluciones es el mecanismo más viable, suplementado por difusiones a nivel loc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3" name="PlaceHolder 2"/>
          <p:cNvSpPr>
            <a:spLocks noGrp="1"/>
          </p:cNvSpPr>
          <p:nvPr>
            <p:ph/>
          </p:nvPr>
        </p:nvSpPr>
        <p:spPr>
          <a:xfrm>
            <a:off x="304920" y="837720"/>
            <a:ext cx="8534160" cy="57150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ra que el flujo de soluciones sea efectivo, acceso a fracturas y poros debe ocurrir en todo el cuerpo de men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 significa que el proceso de mineralización sería detenido de rellenarse la permeabilidad del sistem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secuentemente, el proceso de reemplazo solo persistirá si las reacciones de reemplazo llevan asociadas un cambio negativo de volumen molar entre los minerales originales de la roca huesped y la nueva asociación de minerales precipitados.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álculos volumétricos indican que el reemplazo de calcita por hedenbergita, andradita y sulfuros es factible, tal como se observa comunmente en depositos de skarn.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es poco probable el reemplazo de magnetita, ilmenita, hematita por sulfuros, ya que el cambio volumétrico implicaría un aumento neto de volumen, tendiendo a rellenar y cerrar la permeabilidad del sist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Transporte y Precipitación de Metales</a:t>
            </a:r>
            <a:endParaRPr b="0" lang="en-US" sz="3200" spc="-1" strike="noStrike">
              <a:solidFill>
                <a:srgbClr val="ffcc66"/>
              </a:solidFill>
              <a:latin typeface="Times New Roman"/>
            </a:endParaRPr>
          </a:p>
        </p:txBody>
      </p:sp>
      <p:sp>
        <p:nvSpPr>
          <p:cNvPr id="205"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hidrotermales de distinto origen</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densados de gases magmático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de derivación magmátic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 marina caliente</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s meteóricas calientes de circulación profund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oxidadas sedimentarias connata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ricos en CO2 de niveles corticales profundos o del manto superior</a:t>
            </a:r>
            <a:endParaRPr b="0" lang="en-US" sz="2400" spc="-1" strike="noStrike">
              <a:solidFill>
                <a:srgbClr val="ffffff"/>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ueden transportar metales en forma de complejos iónicos solubl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ntenido metálico precipita al cambiar las condiciones físico-químicas que permiten la estabilidad de los complejos iónicos y su solubi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y Precipitación de Metales en Fluidos Hidrotermales</a:t>
            </a:r>
            <a:endParaRPr b="0" lang="en-US" sz="3200" spc="-1" strike="noStrike">
              <a:solidFill>
                <a:srgbClr val="ffcc66"/>
              </a:solidFill>
              <a:latin typeface="Times New Roman"/>
            </a:endParaRPr>
          </a:p>
        </p:txBody>
      </p:sp>
      <p:sp>
        <p:nvSpPr>
          <p:cNvPr id="110" name="PlaceHolder 2"/>
          <p:cNvSpPr>
            <a:spLocks noGrp="1"/>
          </p:cNvSpPr>
          <p:nvPr>
            <p:ph/>
          </p:nvPr>
        </p:nvSpPr>
        <p:spPr>
          <a:xfrm>
            <a:off x="456840" y="1676520"/>
            <a:ext cx="838188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ransporte de metales es muy dependiente de solubilidad acuosa. Será la partición de una fase hidrotermal la que se encargará de secuestrar y extraer metales desde un magma, por lo cual debe tener alta capacidad de solubilidad de metales a las altas temperaturas de cristalización, y luego durante su trayecto a una roca huésped.</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fluidos hidrotermales son soluciones multicomponentes electrolíticos en la cual los solutos principales son cloruros alcalinos. Los metales están presentes a nivel traza en estas soluciones, predominantemente en forma de iones complejos. La depositación resulta de la disociación de complejos metálicos y consecuente precipitación en respuesta a cambios en el ambiente hidro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centraciones mínimas en soluciones hidrotermales</a:t>
            </a:r>
            <a:endParaRPr b="0" lang="en-US" sz="3200" spc="-1" strike="noStrike">
              <a:solidFill>
                <a:srgbClr val="ffcc66"/>
              </a:solidFill>
              <a:latin typeface="Times New Roman"/>
            </a:endParaRPr>
          </a:p>
        </p:txBody>
      </p:sp>
      <p:sp>
        <p:nvSpPr>
          <p:cNvPr id="207"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 desarrollar y evaluar modelos y conceptos de generación de mena, es importante tener en consideración el mínimo de concentración de metales y de otros componentes, necesario para transporte efectivo y depositación de concentraciones de mena de interes.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isten variadas aproximaciones para estimar estos valores, ninguno totalmente satisfactorio. Uno de ellos se basa en las evidencias de los rangos de concentración presentes durante la formación del deposito en cuestion.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al evidencia incluye análisis de inclusiones fluidas y de fluidos geotermales en campos termales actuales, y cálculos termodinámicos cuantitativos de solubilidad de metales en las condiciones de 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257440" y="-360"/>
            <a:ext cx="3886200" cy="66294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igura muestra una compilación de concentraciones mínimas para menas que han precipitado en seis clases generales de depositos de men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 ppm de los principales metales base es el mínimo para depositos del tipo Mississippi Valley, tipo-pórfido y tipo-skarn.</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l oro en yacimientos de veta, esta concentración es tan baja como 1 ppb, y para la plata, del orden de 10 ppb.</a:t>
            </a:r>
            <a:endParaRPr b="0" lang="en-US" sz="2400" spc="-1" strike="noStrike">
              <a:solidFill>
                <a:srgbClr val="ffffff"/>
              </a:solidFill>
              <a:latin typeface="Times New Roman"/>
            </a:endParaRPr>
          </a:p>
        </p:txBody>
      </p:sp>
      <p:pic>
        <p:nvPicPr>
          <p:cNvPr id="209" name="Figura23" descr=""/>
          <p:cNvPicPr/>
          <p:nvPr/>
        </p:nvPicPr>
        <p:blipFill>
          <a:blip r:embed="rId1"/>
          <a:stretch/>
        </p:blipFill>
        <p:spPr>
          <a:xfrm>
            <a:off x="0" y="0"/>
            <a:ext cx="509904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Fin</a:t>
            </a:r>
            <a:endParaRPr b="0" lang="en-US" sz="5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racterísticas de fluidos hidrotermales</a:t>
            </a:r>
            <a:endParaRPr b="0" lang="en-US" sz="3200" spc="-1" strike="noStrike">
              <a:solidFill>
                <a:srgbClr val="ffcc66"/>
              </a:solidFill>
              <a:latin typeface="Times New Roman"/>
            </a:endParaRPr>
          </a:p>
        </p:txBody>
      </p:sp>
      <p:sp>
        <p:nvSpPr>
          <p:cNvPr id="112"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fluidos hidrotermales, el electrolito dominante es típicamente el cloruro de sodio, a veces con menos cloruro de potasio y de calcio.</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de origen netamente magmático presentan salinidades altas, en exceso muchas veces de 50% peso NaCl eq.</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dilusión o partición a fase vapor y condensación,  salinidades pueden ser mucho más bajos.</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iniciales suelen tener bajo potencial de oxidación y pH cercano a neut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14" name=""/>
          <p:cNvSpPr/>
          <p:nvPr/>
        </p:nvSpPr>
        <p:spPr>
          <a:xfrm>
            <a:off x="457200" y="1641600"/>
            <a:ext cx="8305920" cy="4911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metales pueden ser transportados como complejos iónicos solub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 2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rPr>
              <a:t> Zn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ationes metálicos pueden unirse a aniones de cloro constituyendo complejos iónicos clorurados que son solubles y muy estables a altas temperaturas (&gt;30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e particiona a la fase volátil de un magma y por lo mismo es un constituyente mayor de soluciones hidrotermales y por ello es importante para transportar varios met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Ligantes más importantes</a:t>
            </a:r>
            <a:endParaRPr b="0" lang="en-US" sz="3600" spc="-1" strike="noStrike">
              <a:solidFill>
                <a:srgbClr val="ffcc66"/>
              </a:solidFill>
              <a:latin typeface="Times New Roman"/>
            </a:endParaRPr>
          </a:p>
        </p:txBody>
      </p:sp>
      <p:sp>
        <p:nvSpPr>
          <p:cNvPr id="11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7000"/>
          </a:bodyPr>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 la práctica existe una variedad de ligantes naturales que pueden formar complejos solubles y transportar metales.</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j.</a:t>
            </a:r>
            <a:r>
              <a:rPr b="0" lang="es-ES" sz="2400" spc="-1" strike="noStrike">
                <a:solidFill>
                  <a:srgbClr val="ffffff"/>
                </a:solidFill>
                <a:latin typeface="Times New Roman"/>
                <a:ea typeface="Times New Roman"/>
              </a:rPr>
              <a:t>: F</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l</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Br</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I</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HS</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Sn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S</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H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NH</a:t>
            </a:r>
            <a:r>
              <a:rPr b="0" lang="es-ES" sz="2400" spc="-1" strike="noStrike" baseline="-25000">
                <a:solidFill>
                  <a:srgbClr val="ffcc66"/>
                </a:solidFill>
                <a:latin typeface="Times New Roman"/>
                <a:ea typeface="Times New Roman"/>
              </a:rPr>
              <a:t>3</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OH</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H2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As</a:t>
            </a:r>
            <a:r>
              <a:rPr b="0" lang="es-ES" sz="2400" spc="-1" strike="noStrike" baseline="-25000">
                <a:solidFill>
                  <a:srgbClr val="ffffff"/>
                </a:solidFill>
                <a:latin typeface="Times New Roman"/>
                <a:ea typeface="Times New Roman"/>
              </a:rPr>
              <a:t>3</a:t>
            </a:r>
            <a:r>
              <a:rPr b="0" lang="es-ES" sz="2400" spc="-1" strike="noStrike">
                <a:solidFill>
                  <a:srgbClr val="ffffff"/>
                </a:solidFill>
                <a:latin typeface="Times New Roman"/>
                <a:ea typeface="Times New Roman"/>
              </a:rPr>
              <a:t>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Sb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Te</a:t>
            </a:r>
            <a:r>
              <a:rPr b="0" lang="es-ES" sz="2400" spc="-1" strike="noStrike" baseline="-25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N</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H</a:t>
            </a:r>
            <a:r>
              <a:rPr b="0" lang="es-ES" sz="2400" spc="-1" strike="noStrike" baseline="-25000">
                <a:solidFill>
                  <a:srgbClr val="ffcc66"/>
                </a:solidFill>
                <a:latin typeface="Times New Roman"/>
                <a:ea typeface="Times New Roman"/>
              </a:rPr>
              <a:t>3</a:t>
            </a:r>
            <a:r>
              <a:rPr b="0" lang="es-ES" sz="2400" spc="-1" strike="noStrike">
                <a:solidFill>
                  <a:srgbClr val="ffcc66"/>
                </a:solidFill>
                <a:latin typeface="Times New Roman"/>
                <a:ea typeface="Times New Roman"/>
              </a:rPr>
              <a:t>COO</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CH</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rPr>
              <a:t> </a:t>
            </a:r>
            <a:r>
              <a:rPr b="0" lang="es-CL" sz="2400" spc="-1" strike="noStrike">
                <a:solidFill>
                  <a:srgbClr val="ffffff"/>
                </a:solidFill>
                <a:latin typeface="Times New Roman"/>
              </a:rPr>
              <a:t>etc. Los más importantes son los destacados en amarillo.</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unque otros complejos pueden ser más estables, la importancia del Cl, S y compuestos orgánicos en el transporte de  metales está dada por la abundancia de ellos en fluidos hidrotermales natur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gua como solvente)</a:t>
            </a:r>
            <a:endParaRPr b="0" lang="en-US" sz="3600" spc="-1" strike="noStrike">
              <a:solidFill>
                <a:srgbClr val="ffcc66"/>
              </a:solidFill>
              <a:latin typeface="Times New Roman"/>
            </a:endParaRPr>
          </a:p>
        </p:txBody>
      </p:sp>
      <p:sp>
        <p:nvSpPr>
          <p:cNvPr id="118" name="PlaceHolder 2"/>
          <p:cNvSpPr>
            <a:spLocks noGrp="1"/>
          </p:cNvSpPr>
          <p:nvPr>
            <p:ph/>
          </p:nvPr>
        </p:nvSpPr>
        <p:spPr>
          <a:xfrm>
            <a:off x="380880" y="1295280"/>
            <a:ext cx="838224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tes de revisar la química de complejos es importante conocer las propiedades del agua como solvente, propiedades que permiten, a altas temperaturas, estabilidad de complej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excelente solvente, sobre todo a alta temperatura y presión.</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fluido polar único, con propiedades muy inusuales, incluyendo un momento dipolo muy fuerte y enlace de hidrógen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ubilidades son dependientes de los enlaces entre especies soluto y agua, la estructura y característica del agua son importantes para entender las variaciones de solubilidad.</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l momento dipolo de la molécula del agua, un enlace débil se forma entre un H de una molécula y un O de otra.</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enlaces forman estructuras de coordinación tetrahédrica de corta vida.</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2:42:12Z</dcterms:modified>
  <cp:revision>10</cp:revision>
  <dc:subject/>
  <dc:title>Estabilidad de Sulfuros</dc:title>
</cp:coreProperties>
</file>