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5C8-6CBC-4BE1-B421-C53FB2EB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C1E-8514-4BC8-B0B3-E065EAE5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06B-3C7C-4394-8B4D-497D5A46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B2E-7661-4BFB-A9F1-62E1892C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DA07-A4A1-4808-B166-FA03F3F2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8165-B303-4105-8F8F-6C5FB845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7BCC-FC75-444B-B549-A036F0D4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9AA3-3B11-4CE1-8E83-53D58BBE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AE74-FAD4-46F1-A2BF-7185406A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83CB-CCAA-4010-8D08-1D6D441A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56A6-CA97-4FFB-849A-3D2B368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A05-5A74-4DCB-B8D3-2C6675B5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04E8-6DAD-4FB5-9DAD-6F9541D2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DB6E-2268-420B-AC77-DDBC0A7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AA5-E66A-4449-ACD4-3F3285B1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9B3B-A51A-4079-9582-8752BCB1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3CE2-F46F-4BC7-A230-3E2A1F40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5F6-CD6F-4EA2-BE7D-62068B7E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50D-C0D6-4215-8CA5-3245E43C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E3A-40FD-479E-908A-9112515D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5B5-1575-4493-863D-02ABCB50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137-DB37-4A40-9FD0-2A308619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85B-C92B-4318-8730-EB68B6E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67B-17FA-4904-BBCA-56F1CE4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7BE2-FB90-423E-85C9-711C81A69E0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106B-5E68-44CE-A8F1-A241BEADB76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órfidos Cuprífero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Auxiliar Metalogénes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Otoño 200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curren asociados a sistemas estructura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Ej. Zona de Falla de Atacama: Chuqui, RT, Mina Sur, MM, El Ab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general no ocurren solos </a:t>
            </a: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(CLUST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égimen extensivo </a:t>
            </a:r>
            <a:r>
              <a:rPr b="0" lang="es-C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en la zona de subducción durante el Jurásico y Cretácico Inferior, 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0000" y="692280"/>
            <a:ext cx="338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Cr-inf: Andacollo, Domeyk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Paleoceno-Eoceno Inf: Cerro Colorado, Lomas Bayas, Sp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Eoceno Sup- Oligoceno Inf: Qda. Blanca, Rosario, Ujina, El Abra, RT, Chuquicamata, La Escondida, El Salvado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Mioceno sup-plioceno: Los Pelambres, Río Blanco, Los Bronces, El Tenient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ación de Alteración y miner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ncipalmente diseminada y en vetil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maria: Py, Cpy, B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úcleo de baja ley con Py, que grada hacia fuera en una zona de me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odelo de alteración y mineralización de Lowell y Guilbert, 197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332160" cy="371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43280" y="3618000"/>
            <a:ext cx="3311280" cy="32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238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istribución de sulfuros hipóge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41320" y="1773360"/>
            <a:ext cx="5659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teración Supérgena y Enriquecimiento Secundar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roceso de reequilibrio de la mineralogía hipógena (hidrotermal) a las condiciones oxidantes cerca de la superfici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 mayor parte de los pórfidos cupríferos no son económicos a menos que hayan desarrollado enriquecimiento secundario o supérgen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92360" y="1100160"/>
            <a:ext cx="5757840" cy="5757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il de Enriquecimiento Secunda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es un pórfido cuprífero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Yacimiento de mena de Cu-(Mo-Au) de origen hidrote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 alto tonelaje y baja le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néticamente relacionados a complejos intr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ás del 50% de la producción de Cu mundial proviene de este tipo de depósi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ile: 16 pórfidos cupríferos en explo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de los más grandes del mundo: Chuquicamata y El Ten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ocas de caja intruídas por los pórfidos pueden ser de cualquier ti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ineralización primaria constituida por sulfuros en forma diseminada y en vetill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Zonación de alteración hidrotermal alrededor del intrus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en magmático hidroterm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mbiente típico: Arcos magmáticos relacionados a subduc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18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cas calco-alcalinas (típicas de ambiente de subducció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2133720"/>
            <a:ext cx="5977080" cy="4484520"/>
            <a:chOff x="1619280" y="2133720"/>
            <a:chExt cx="5977080" cy="44845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5977080" cy="44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06640" y="236304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9280" y="382788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7080" y="550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formación de estos depósitos incluye un mecanismo llamad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GUNDA EBULLICIÓN o EBULLICIÓN RETRÓGRAD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 hidrofractura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724280"/>
            <a:ext cx="1584360" cy="649440"/>
          </a:xfrm>
          <a:prstGeom prst="rightArrow">
            <a:avLst>
              <a:gd name="adj1" fmla="val 50000"/>
              <a:gd name="adj2" fmla="val 609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Stockwork, brech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125360"/>
            <a:ext cx="3313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irculación de aguas magmáticas hidroterm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friamiento del sistema producto de la circulación de aguas subterráneas (celdas convectiva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jos iónicos desestabilizan y precipitan sulfuros metálic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n principalmente de Cu-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tienen Au (Potrerillos, El Salvad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sociados a rocas calco-alcalinas de composición variable, generalmente intrusivos granodioríticos y tonalít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24:25Z</dcterms:created>
  <dc:creator>marisoto</dc:creator>
  <dc:description/>
  <dc:language>en-US</dc:language>
  <cp:lastModifiedBy>marisoto</cp:lastModifiedBy>
  <dcterms:modified xsi:type="dcterms:W3CDTF">2007-03-26T09:59:18Z</dcterms:modified>
  <cp:revision>2</cp:revision>
  <dc:subject/>
  <dc:title>Pórfidos Cupríferos</dc:title>
</cp:coreProperties>
</file>