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3BA-D96E-4804-8BD8-73C8A43D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0D2-897F-4603-B555-84A16DD9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87C-6839-4E45-A1B3-E3FB58EC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68A-26BF-474E-A45C-34C7736E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6D2E-2C98-48B4-A4A4-1A72AD02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1B05-02F1-4D41-B561-64AA7A94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3067-41AC-41CD-92B3-6AB1BA2E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1B95-465B-4EEE-A7AC-2236DE71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8F31-C676-4CDA-A412-6E0CD3D4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5954-2E1D-4BFA-BC2B-D3C19791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AB07-8C63-416B-8B93-664E507F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947-B504-4E5E-8954-D85B2E73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345A-A296-40B9-A3EF-9E78BF64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52AE-69F3-4A69-AB37-2B5FC87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4BBB-B4AF-4709-9E89-24F332DC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5E28-43E7-4409-8255-4F4E84DC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DA84-D587-4FEE-A931-F72467FA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001-7A5B-45C3-995B-168A5611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9D2-CCD4-4E60-BF06-9758F0E4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F54-2D5A-4C82-A66C-0957847A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614-E520-4A0B-BC54-A5C8C473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07A-E1A5-47FE-B712-CAD9CE27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B7F-DC33-40C1-9436-5C0FEDC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AB9-EC45-4106-8971-A6B1308B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EB88-B047-4D29-A0A5-52DEC2B6205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3306-0D21-4045-BC74-A776E0E918D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órfidos Cuprífero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Auxiliar Metalogénes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Otoño 200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curren asociados a sistemas estructura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Ej. Zona de Falla de Atacama: Chuqui, RT, Mina Sur, MM, El Ab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general no ocurren solos </a:t>
            </a: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(CLUST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égimen extensivo </a:t>
            </a:r>
            <a:r>
              <a:rPr b="0" lang="es-C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en la zona de subducción durante el Jurásico y Cretácico Inferior, 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0000" y="692280"/>
            <a:ext cx="338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Cr-inf: Andacollo, Domeyk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Paleoceno-Eoceno Inf: Cerro Colorado, Lomas Bayas, Sp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Eoceno Sup- Oligoceno Inf: Qda. Blanca, Rosario, Ujina, El Abra, RT, Chuquicamata, La Escondida, El Salvado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Mioceno sup-plioceno: Los Pelambres, Río Blanco, Los Bronces, El Tenient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ación de Alteración y miner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ncipalmente diseminada y en vetil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maria: Py, Cpy, B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úcleo de baja ley con Py, que grada hacia fuera en una zona de me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odelo de alteración y mineralización de Lowell y Guilbert, 197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332160" cy="371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43280" y="3618000"/>
            <a:ext cx="3311280" cy="32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238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istribución de sulfuros hipóge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41320" y="1773360"/>
            <a:ext cx="5659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teración Supérgena y Enriquecimiento Secundar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roceso de reequilibrio de la mineralogía hipógena (hidrotermal) a las condiciones oxidantes cerca de la superfici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 mayor parte de los pórfidos cupríferos no son económicos a menos que hayan desarrollado enriquecimiento secundario o supérgen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92360" y="1100160"/>
            <a:ext cx="5757840" cy="5757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il de Enriquecimiento Secunda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es un pórfido cuprífero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Yacimiento de mena de Cu-(Mo-Au) de origen hidrote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 alto tonelaje y baja le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néticamente relacionados a complejos intr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ás del 50% de la producción de Cu mundial proviene de este tipo de depósi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ile: 16 pórfidos cupríferos en explo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de los más grandes del mundo: Chuquicamata y El Ten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ocas de caja intruídas por los pórfidos pueden ser de cualquier ti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ineralización primaria constituida por sulfuros en forma diseminada y en vetill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Zonación de alteración hidrotermal alrededor del intrus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en magmático hidroterm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mbiente típico: Arcos magmáticos relacionados a subduc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18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cas calco-alcalinas (típicas de ambiente de subducció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2133720"/>
            <a:ext cx="5977080" cy="4484520"/>
            <a:chOff x="1619280" y="2133720"/>
            <a:chExt cx="5977080" cy="44845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5977080" cy="44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06640" y="236304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9280" y="382788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7080" y="550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formación de estos depósitos incluye un mecanismo llamad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GUNDA EBULLICIÓN o EBULLICIÓN RETRÓGRAD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 hidrofractura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724280"/>
            <a:ext cx="1584360" cy="649440"/>
          </a:xfrm>
          <a:prstGeom prst="rightArrow">
            <a:avLst>
              <a:gd name="adj1" fmla="val 50000"/>
              <a:gd name="adj2" fmla="val 609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Stockwork, brech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125360"/>
            <a:ext cx="3313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irculación de aguas magmáticas hidroterm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friamiento del sistema producto de la circulación de aguas subterráneas (celdas convectiva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jos iónicos desestabilizan y precipitan sulfuros metálic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n principalmente de Cu-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tienen Au (Potrerillos, El Salvad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sociados a rocas calco-alcalinas de composición variable, generalmente intrusivos granodioríticos y tonalít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24:25Z</dcterms:created>
  <dc:creator>marisoto</dc:creator>
  <dc:description/>
  <dc:language>en-US</dc:language>
  <cp:lastModifiedBy>marisoto</cp:lastModifiedBy>
  <dcterms:modified xsi:type="dcterms:W3CDTF">2007-03-26T09:59:18Z</dcterms:modified>
  <cp:revision>2</cp:revision>
  <dc:subject/>
  <dc:title>Pórfidos Cupríferos</dc:title>
</cp:coreProperties>
</file>