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D27-159B-40C3-905A-840458FC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5FE-F777-4D6D-8A2B-15154E8A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4BE-5BE9-41CD-B467-4D2468E8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4D5-B8E0-4BF9-9EC6-38E05668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6F0E-10CE-4461-9850-67717193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0630-485E-4A0C-BD3B-F0EB23C7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D084-297C-455A-B917-36C077F7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90FE-26A4-4C65-8A37-E364ECDD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B0D4-74E3-49A8-9EE7-2DED5592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C308-8483-45FF-B19A-9436BDDF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EAFE-3C34-48BB-9D65-4A5A09A1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011-4712-4308-9CFE-92C0B081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7BC3-347A-4038-A618-5D90172A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D587-3C25-40E8-921B-55E7154F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CF4A-17E0-4CCC-8201-3F5F9F72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8601-3B98-49C9-ABB1-022F27E7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8E02-7FAB-4C0F-B43E-0D168553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E3E-9A9F-49ED-9A81-E568ABB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B2A-1D8B-4CEA-AE09-856D84FA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5FD-F108-4664-BA5F-43718682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7B3-8572-47B6-8E9E-5BD9B116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E8C-DD1B-402C-B4DE-5C66369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8A4-A787-4432-8011-318B28DC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A93-5EEC-41EB-8159-D12B85A2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669A-BCA0-4C5A-8E78-42896A0CC06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2E4F-11B6-4069-A76F-2338C53288B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órfidos Cuprífero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Auxiliar Metalogénesi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Otoño 2007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curren asociados a sistemas estructural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(Ej. Zona de Falla de Atacama: Chuqui, RT, Mina Sur, MM, El Abr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general no ocurren solos </a:t>
            </a: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(CLUSTE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s franjas más importantes de pórfidos cupríferos chilenos se formaron inmediatamente después de la ocurrencia de las etapas de deformación compresiva Peruana, Incaica y Quechu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Régimen extensivo </a:t>
            </a:r>
            <a:r>
              <a:rPr b="0" lang="es-CL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en la zona de subducción durante el Jurásico y Cretácico Inferior, cambió a régimen tipo compresivo en Cretácico Superior (dominado por mineralización de tipo pórfido cuprífero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881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0000" y="692280"/>
            <a:ext cx="338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Cr-inf: Andacollo, Domeyk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Paleoceno-Eoceno Inf: Cerro Colorado, Lomas Bayas, Spenc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Eoceno Sup- Oligoceno Inf: Qda. Blanca, Rosario, Ujina, El Abra, RT, Chuquicamata, La Escondida, El Salvado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eec85e"/>
                </a:solidFill>
                <a:latin typeface="Verdana"/>
              </a:rPr>
              <a:t>Mioceno sup-plioceno: Los Pelambres, Río Blanco, Los Bronces, El Tenient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ación de Alteración y mineralizació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ncipalmente diseminada y en vetilla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ineralización primaria: Py, Cpy, B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úcleo de baja ley con Py, que grada hacia fuera en una zona de men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odelo de alteración y mineralización de Lowell y Guilbert, 1970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3332160" cy="3716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43280" y="3618000"/>
            <a:ext cx="3311280" cy="32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3238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istribución de sulfuros hipógeno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41320" y="1773360"/>
            <a:ext cx="565956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lteración Supérgena y Enriquecimiento Secundari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Proceso de reequilibrio de la mineralogía hipógena (hidrotermal) a las condiciones oxidantes cerca de la superfici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La mayor parte de los pórfidos cupríferos no son económicos a menos que hayan desarrollado enriquecimiento secundario o supérgeno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92360" y="1100160"/>
            <a:ext cx="5757840" cy="5757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4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fil de Enriquecimiento Secundari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es un pórfido cuprífero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Yacimiento de mena de Cu-(Mo-Au) de origen hidrote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 alto tonelaje y baja le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néticamente relacionados a complejos intrusiv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ás del 50% de la producción de Cu mundial proviene de este tipo de depósit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hile: 16 pórfidos cupríferos en explotació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de los más grandes del mundo: Chuquicamata y El Ten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Rocas de caja intruídas por los pórfidos pueden ser de cualquier tip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ineralización primaria constituida por sulfuros en forma diseminada y en vetill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Zonación de alteración hidrotermal alrededor del intrusiv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énes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gen magmático hidrotermal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mbiente típico: Arcos magmáticos relacionados a subducció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18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ocas calco-alcalinas (típicas de ambiente de subducción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19280" y="2133720"/>
            <a:ext cx="5977080" cy="4484520"/>
            <a:chOff x="1619280" y="2133720"/>
            <a:chExt cx="5977080" cy="448452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619280" y="2133720"/>
              <a:ext cx="5977080" cy="44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906640" y="236304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89280" y="382788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07080" y="5501880"/>
              <a:ext cx="184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formación de estos depósitos incluye un mecanismo llamad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GUNDA EBULLICIÓN o EBULLICIÓN RETRÓGRAD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 hidrofracturamien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724280"/>
            <a:ext cx="1584360" cy="649440"/>
          </a:xfrm>
          <a:prstGeom prst="rightArrow">
            <a:avLst>
              <a:gd name="adj1" fmla="val 50000"/>
              <a:gd name="adj2" fmla="val 609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4724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ec85e"/>
                </a:solidFill>
                <a:latin typeface="Verdana"/>
              </a:rPr>
              <a:t>Stockwork, brechiz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125360"/>
            <a:ext cx="331308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irculación de aguas magmáticas hidroterma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nfriamiento del sistema producto de la circulación de aguas subterráneas (celdas convectiva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mplejos iónicos desestabilizan y precipitan sulfuros metálic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 Chi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n principalmente de Cu-M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gunos tienen Au (Potrerillos, El Salvador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sociados a rocas calco-alcalinas de composición variable, generalmente intrusivos granodioríticos y tonalítico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8:24:25Z</dcterms:created>
  <dc:creator>marisoto</dc:creator>
  <dc:description/>
  <dc:language>en-US</dc:language>
  <cp:lastModifiedBy>marisoto</cp:lastModifiedBy>
  <dcterms:modified xsi:type="dcterms:W3CDTF">2007-03-26T09:59:18Z</dcterms:modified>
  <cp:revision>2</cp:revision>
  <dc:subject/>
  <dc:title>Pórfidos Cupríferos</dc:title>
</cp:coreProperties>
</file>