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FE8-E8D2-4226-B86D-EA1DBCC8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9BD-6ABE-4793-8590-E52DD918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54CB-7BBA-4E84-9990-352D4833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95A-FA40-4F78-8F71-886AA360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3C4C-BBC0-4985-ABFE-A69496DC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5BC7-E7A8-4B39-89F7-A6F70F87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C739-5C02-4B98-86A8-A96D27DA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A1A2-B3BC-4F0F-A6E2-A5F36863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52FC-299F-4E9E-9295-1AF73805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D983-6BB8-4895-BE69-0F4692DE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88F4-0EA0-420B-B746-118DFA7F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50A-99FB-486F-AECA-FA99C231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FD38-EC9C-4DE4-BFCB-DB820A89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1EEB-D74B-49CB-A338-C0E5F0C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0E2B-3669-4E8A-AF5C-E560C7A6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CFAA-CD73-4358-B89C-60BC04AA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7058-4E5A-4021-AE5A-60D5063C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242-296A-4D13-9400-A3F5AA07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FF2-D672-4D83-8440-A7092708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662-33A4-415A-A34B-D91BD67E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A78-4317-46A3-BA92-09E3B763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86F-CE24-4430-8712-897E0CDD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F86-BD6D-430B-B073-13565B32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84B-3003-4C47-AF29-30AEE1CF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6648-7B8F-4225-9AF0-C718A0801E0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3F3C-0C04-4B8F-9312-A1C08560BFA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Pórfidos Cuprífero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Auxiliar Metalogénesi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Otoño 200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curren asociados a sistemas estructural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(Ej. Zona de Falla de Atacama: Chuqui, RT, Mina Sur, MM, El Abr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general no ocurren solos </a:t>
            </a: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(CLUSTE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s franjas más importantes de pórfidos cupríferos chilenos se formaron inmediatamente después de la ocurrencia de las etapas de deformación compresiva Peruana, Incaica y Quechu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Régimen extensivo </a:t>
            </a:r>
            <a:r>
              <a:rPr b="0" lang="es-C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en la zona de subducción durante el Jurásico y Cretácico Inferior, cambió a régimen tipo compresivo en Cretácico Superior (dominado por mineralización de tipo pórfido cuprífer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80000" y="692280"/>
            <a:ext cx="338472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Cr-inf: Andacollo, Domeyk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Paleoceno-Eoceno Inf: Cerro Colorado, Lomas Bayas, Spenc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Eoceno Sup- Oligoceno Inf: Qda. Blanca, Rosario, Ujina, El Abra, RT, Chuquicamata, La Escondida, El Salvado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Mioceno sup-plioceno: Los Pelambres, Río Blanco, Los Bronces, El Tenient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Zonación de Alteración y mineraliz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ncipalmente diseminada y en vetill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maria: Py, Cpy, B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úcleo de baja ley con Py, que grada hacia fuera en una zona de men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odelo de alteración y mineralización de Lowell y Guilbert, 1970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332160" cy="3716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843280" y="3618000"/>
            <a:ext cx="3311280" cy="32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651640" y="0"/>
            <a:ext cx="3238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istribución de sulfuros hipóge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41320" y="1773360"/>
            <a:ext cx="56595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lteración Supérgena y Enriquecimiento Secundari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Proceso de reequilibrio de la mineralogía hipógena (hidrotermal) a las condiciones oxidantes cerca de la superfici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 mayor parte de los pórfidos cupríferos no son económicos a menos que hayan desarrollado enriquecimiento secundario o supérgen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92360" y="1100160"/>
            <a:ext cx="5757840" cy="5757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rfil de Enriquecimiento Secundar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¿Qué es un pórfido cuprífero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Yacimiento de mena de Cu-(Mo-Au) de origen hidrote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De alto tonelaje y baja le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néticamente relacionados a complejos intrusiv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ás del 50% de la producción de Cu mundial proviene de este tipo de depósit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hile: 16 pórfidos cupríferos en explot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de los más grandes del mundo: Chuquicamata y El Tenie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Rocas de caja intruídas por los pórfidos pueden ser de cualquier tip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ineralización primaria constituida por sulfuros en forma diseminada y en vetill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Zonación de alteración hidrotermal alrededor del intrusiv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gen magmático hidroterm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mbiente típico: Arcos magmáticos relacionados a subduc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4818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cas calco-alcalinas (típicas de ambiente de subducció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619280" y="2133720"/>
            <a:ext cx="5977080" cy="4484520"/>
            <a:chOff x="1619280" y="2133720"/>
            <a:chExt cx="5977080" cy="448452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619280" y="2133720"/>
              <a:ext cx="5977080" cy="44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906640" y="236304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89280" y="3827880"/>
              <a:ext cx="1846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7080" y="550188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a formación de estos depósitos incluye un mecanismo llamado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EGUNDA EBULLICIÓN o EBULLICIÓN RETRÓGRAD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nera hidrofracturamien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724280"/>
            <a:ext cx="1584360" cy="649440"/>
          </a:xfrm>
          <a:prstGeom prst="rightArrow">
            <a:avLst>
              <a:gd name="adj1" fmla="val 50000"/>
              <a:gd name="adj2" fmla="val 609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4724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Stockwork, brechiz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3927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19640" y="1125360"/>
            <a:ext cx="33130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irculación de aguas magmáticas hidroterma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friamiento del sistema producto de la circulación de aguas subterráneas (celdas convectiva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plejos iónicos desestabilizan y precipitan sulfuros metálic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 Chi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n principalmente de Cu-M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tienen Au (Potrerillos, El Salvado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sociados a rocas calco-alcalinas de composición variable, generalmente intrusivos granodioríticos y tonalític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8:24:25Z</dcterms:created>
  <dc:creator>marisoto</dc:creator>
  <dc:description/>
  <dc:language>en-US</dc:language>
  <cp:lastModifiedBy>marisoto</cp:lastModifiedBy>
  <dcterms:modified xsi:type="dcterms:W3CDTF">2007-03-26T09:59:18Z</dcterms:modified>
  <cp:revision>2</cp:revision>
  <dc:subject/>
  <dc:title>Pórfidos Cupríferos</dc:title>
</cp:coreProperties>
</file>