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5D1-7067-4836-B2C0-EFEEE6C0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26D-8E12-4906-81B0-77D5B112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BA1-8318-4AA5-8BB6-E847DF15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207-667B-478E-A098-52777A89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FF6-26B6-4EBA-8829-6C6F76E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60E-D3D5-401E-B819-9B4F19E4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7C1-03CE-4E25-BF7C-481109B1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A00-A046-4AE4-B214-C5FBE0A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CDC-1AD5-4FB0-BC69-DCAED4D2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C37-F85B-4BCD-8BDA-E0D194D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B98-5FF4-45AB-BB67-6BB60316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47E-A572-4C31-87AF-03238C4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BC8E-FD54-47A1-A7BE-50738BB2F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438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diciones de pH y T de las alt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Ocurre a través 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 reacciones de intercambio iónico entre los minerales constituyentes de una roca y el fluido caliente que circuló por la mism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obliteración de la textura orig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PRESIÓN: efecto indirecto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ción Pervasiva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 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(no confundir con alteració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V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que se refiere a la extensión de la alteración y no al gr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debidos a la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ponentes químicos de las roca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carola</cp:lastModifiedBy>
  <cp:lastPrinted>2003-08-10T22:33:46Z</cp:lastPrinted>
  <dcterms:modified xsi:type="dcterms:W3CDTF">2007-03-23T01:29:11Z</dcterms:modified>
  <cp:revision>9</cp:revision>
  <dc:subject/>
  <dc:title>Alteración Hidrotermal</dc:title>
</cp:coreProperties>
</file>