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1600" y="-360"/>
            <a:ext cx="849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ff00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ff99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ff99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11200" y="1663560"/>
            <a:ext cx="8121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muestra de mano muchos minerales se ven de colores, sin embargo cuando se observan al microscopio con luz polarizada plana, estos se muestran incoloros o débilmente coloreado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80880" y="5605560"/>
            <a:ext cx="83772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Son minerales pleocroicos, la propiedad se denomina pleocro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  <a:ea typeface="ヒラギノ角ゴ Pro W3"/>
              </a:rPr>
              <a:t>í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s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480" y="4316400"/>
            <a:ext cx="851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unos minerales tienen la propiedad de absorber diferentes longitudes de onda de la luz, dependiendo de la dirección de vibración de la misma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74880" y="3565440"/>
            <a:ext cx="6267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604800"/>
            <a:ext cx="838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Los colores con luz polarizada plana (lp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2879640"/>
            <a:ext cx="84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s minerales se ven coloreados puede cambiar si se gira la platina, ya que cambia la orientación de la estructura cristalina del mineral c/r a la luz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43000" y="-36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Carta de Colo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174680"/>
            <a:ext cx="7848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colores son observados cuando los polarizadores estan (XPL)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lor puede ser cuantificado numéricamente :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high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-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ow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1600" y="127080"/>
            <a:ext cx="849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Carta de Colo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600" y="921960"/>
            <a:ext cx="88344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 la relación entre el retardo, espesor del cristal y color de interferencia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550 nm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rojo viol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0 nm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ver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0 nm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rojo violeta de nuevo (notar que se rep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-550 nm = colores de interferencia de “1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orden”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550-1100 nm = 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orden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0-1650 nm = 3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rd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rden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denes 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 altos presentan tonos pasteles (desteñi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50000"/>
            <a:ext cx="894708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lores de Int. de orden muy bajo corresponden a retardos de menos de 200nm, son grises y blan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un mineral con baja birrefringencia cambiara de blanco (o gris) a negro cada 90º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hora si la birrefringencia es un poco mas alta aparecerán colores amarillo, naranja o rojo al girara la platin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30120" y="1062000"/>
            <a:ext cx="85471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) Buscar el cristal de interés mostrando el color de interferencia m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 intenso (OJO depende de la orientació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) Ir a la carta de colores ubique el espesor de 30 micr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09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e la línea de 30 micrones intersecte el color que observo, siga la línea radial hasta la intersección con el borde y lea la birrefringenci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09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onga que tiene su mineral desconocido con un naranja de segundo ord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pasa si en realidad es de tercer ord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-151920" y="176040"/>
            <a:ext cx="990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66"/>
                </a:solidFill>
                <a:latin typeface="Comic Sans MS"/>
              </a:rPr>
              <a:t>Estimando la  birrefringencia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7520" y="984240"/>
            <a:ext cx="8826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1040" y="95400"/>
            <a:ext cx="81914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  cuarz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4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5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401760" y="744480"/>
            <a:ext cx="8458200" cy="58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gno??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+)    y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0.009 es la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birrefring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máxim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lor de interferenci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color es este??  Use su carta de colo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43000" y="-36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Carta de Colo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604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81040" y="95400"/>
            <a:ext cx="81914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  cuarz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4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5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01760" y="744480"/>
            <a:ext cx="8458200" cy="58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gno??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+)    y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0.009 es la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birrefring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máxim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lor de interferenci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color es este??  Use su carta de colore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cristales con otra orientación de tene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rogresivamente colores de interferencia de 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 bajo orden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granos orientados aleatoriamente pueden no mostrar los máximos colores, a menudo, debe girarse la platina  y mirar muchos granos del mismo mineral. Se Extinguirá cada 90° y tendrá un brillo máximo de color a 45</a:t>
            </a:r>
            <a:r>
              <a:rPr b="0" lang="es-ES_tradnl" sz="2400" spc="-1" strike="noStrike" baseline="5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718" t="5032" r="3053" b="1793"/>
          <a:stretch/>
        </p:blipFill>
        <p:spPr>
          <a:xfrm>
            <a:off x="1566720" y="1036800"/>
            <a:ext cx="5023080" cy="5632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7039440" y="2503080"/>
            <a:ext cx="1856160" cy="2521440"/>
            <a:chOff x="7039440" y="2503080"/>
            <a:chExt cx="1856160" cy="2521440"/>
          </a:xfrm>
        </p:grpSpPr>
        <p:grpSp>
          <p:nvGrpSpPr>
            <p:cNvPr id="122" name=""/>
            <p:cNvGrpSpPr/>
            <p:nvPr/>
          </p:nvGrpSpPr>
          <p:grpSpPr>
            <a:xfrm>
              <a:off x="7039440" y="2503080"/>
              <a:ext cx="1439640" cy="2225160"/>
              <a:chOff x="7039440" y="2503080"/>
              <a:chExt cx="1439640" cy="22251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7749360" y="2513160"/>
                <a:ext cx="5040" cy="2199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39440" y="3607200"/>
                <a:ext cx="1439640" cy="9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7800">
                <a:off x="7044840" y="2504520"/>
                <a:ext cx="1424880" cy="222192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7800">
              <a:off x="8505360" y="32166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7800">
              <a:off x="7762320" y="456408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7800">
              <a:off x="7198200" y="40615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53</a:t>
              </a:r>
              <a:endParaRPr b="0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7800">
              <a:off x="7682760" y="32493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44</a:t>
              </a:r>
              <a:endParaRPr b="0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657840" y="5853240"/>
            <a:ext cx="229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from Deer et al 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ck Forming Minerals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hn Wiley &amp; Sons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80" y="361800"/>
            <a:ext cx="8191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 cuarzo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.544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.553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55600"/>
            <a:ext cx="9144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asta ahora todo lo que hemos visto ha sido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ortosc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pic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dos los rayos de luz incidente son ~ paralelos y verticales incluso los que pasan a través del cri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6440" y="1832040"/>
            <a:ext cx="4716360" cy="4503240"/>
            <a:chOff x="136440" y="1832040"/>
            <a:chExt cx="4716360" cy="45032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0" t="0" r="0" b="1901"/>
            <a:stretch/>
          </p:blipFill>
          <p:spPr>
            <a:xfrm>
              <a:off x="136440" y="1832040"/>
              <a:ext cx="4716360" cy="45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236680" y="5151240"/>
              <a:ext cx="393120" cy="4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9240" y="1863720"/>
            <a:ext cx="1490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sión Ortos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c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240" y="2567160"/>
            <a:ext cx="143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 7-11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9760" y="1768320"/>
            <a:ext cx="44942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45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cristales tienen un color de interferencia particular y es f(biref, espesor, orientació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45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untos de igual espesor tendrán el mismo color.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45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isocroma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= líneas que unen puntos de idénticos colores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45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zonas delgadas o hacia los bordes se mostrar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á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un color m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á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 pálido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45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tar isocronas (desde el interior hacia los bordes delgados) ayudara a determinar el orden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98440" y="1157400"/>
            <a:ext cx="6575400" cy="4378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93760" y="1155600"/>
            <a:ext cx="6578640" cy="438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1160" y="1155600"/>
            <a:ext cx="6578640" cy="4381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1120" y="59641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Biotita al rotar la platin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3440" y="177480"/>
            <a:ext cx="84996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Visión Conosc</a:t>
            </a:r>
            <a:r>
              <a:rPr b="0" lang="es-ES_tradnl" sz="3600" spc="-1" strike="noStrike">
                <a:solidFill>
                  <a:srgbClr val="ff0000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p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60640"/>
            <a:ext cx="8842320" cy="15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 utiliza una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lente condensador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bajo la platina y la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lente de Bertran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sobre el analiza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005440" y="2814480"/>
            <a:ext cx="413856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ayos de luz son refractados por la lente condensadora enfocándolos en el cristal desde muchas direcciones distintas y convergent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spués la luz deja el cristal y pasa por el analizador, se inserta la lente de Bertrand para reenfocar los rayos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e obtiene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Figura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Interferencia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uy provechoso para determinar propiedades ópticas de los mx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897280"/>
            <a:ext cx="5303880" cy="3580920"/>
            <a:chOff x="0" y="2897280"/>
            <a:chExt cx="5303880" cy="3580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629" t="3459" r="3890" b="2564"/>
            <a:stretch/>
          </p:blipFill>
          <p:spPr>
            <a:xfrm>
              <a:off x="0" y="2897280"/>
              <a:ext cx="5303880" cy="35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064120" y="3814920"/>
              <a:ext cx="181080" cy="67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854520" y="583416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7-13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954000"/>
            <a:ext cx="792468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piedad diagnostica import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mbios en la 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absorción  de color a LPP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l rotar la platina (común en biotita, anfíbol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blas de referencia identifican minerales al observar los colores en las diferentes direccione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mula Pleocroica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Turmalina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verde oscuro a azula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incol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a minerales pleocroicos un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icos el color varia entre dos tonos, para los b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icos, el color varia entre tres ton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646360" y="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Pleocroismo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477800" y="1587600"/>
            <a:ext cx="6137280" cy="40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16200" y="596412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Hornblenda al rotar la platin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6720" y="1359000"/>
            <a:ext cx="826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uando se inserta el analizador se observan colores m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s brillantes y fuertes que cuando se observa el mismos grano a lp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7520" y="4132440"/>
            <a:ext cx="8377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aramente se asemejan al color verdadero del minera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81440"/>
            <a:ext cx="851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os no resultan de la propiedad de absorber diferentes longitudes de onda, en cambio resultan de la interferencia de los rayos de luz pasando a trav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és del analizado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4880" y="3565440"/>
            <a:ext cx="6267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6960"/>
            <a:ext cx="883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Los colores con luz polarizada Cruzada (X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59000" y="2257560"/>
            <a:ext cx="65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Son los colores de interferenci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5668920"/>
            <a:ext cx="83772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pueden presentar colores de interferencia anorma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869000"/>
            <a:ext cx="72086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on útiles para la identificación y están tabulado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98440" y="1157400"/>
            <a:ext cx="6575400" cy="437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93760" y="1155600"/>
            <a:ext cx="6578640" cy="4381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81160" y="1155600"/>
            <a:ext cx="6578640" cy="43815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-195840" y="2066760"/>
            <a:ext cx="6581520" cy="1619280"/>
            <a:chOff x="-195840" y="2066760"/>
            <a:chExt cx="6581520" cy="1619280"/>
          </a:xfrm>
        </p:grpSpPr>
        <p:sp>
          <p:nvSpPr>
            <p:cNvPr id="73" name=""/>
            <p:cNvSpPr/>
            <p:nvPr/>
          </p:nvSpPr>
          <p:spPr>
            <a:xfrm>
              <a:off x="-195840" y="206676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Comic Sans MS"/>
                </a:rPr>
                <a:t>Que color de interferencia es este?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8640" y="2555640"/>
              <a:ext cx="430200" cy="113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56120" y="2670120"/>
            <a:ext cx="2020680" cy="195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5040" y="420372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8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87480" y="122868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6400" y="558720"/>
            <a:ext cx="8121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uando la luz entra en un mineral ani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opo la luz se divide en dos rayos, viajando cada uno a través del cristal siguiendo caminos ligeramente distintos, con velocidades distintas e índices de refracción ligeramente diferen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40120" indent="-240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s rayos de diferente velocidad, el rayo rápido y el lento, los cuales vibran en ángulos recto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578400"/>
            <a:ext cx="712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9200" y="4951440"/>
            <a:ext cx="8113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en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-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api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Birrefringencia aparent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` 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`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áxi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728640" y="5570640"/>
            <a:ext cx="10263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irrefringencia máxim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propiedad diagnostica de los minera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87480" y="122868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3040" y="584280"/>
            <a:ext cx="81216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uand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rayo lento emerge de un cristal anisótropo el rayo rápido ya ha salido y recorrido cierta distancia, esta distancia es el retardo (∆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retardo (∆) es proporcional al espesor (t) del cx y a l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`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578400"/>
            <a:ext cx="712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3033720"/>
            <a:ext cx="5052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os cristales isótropos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∆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491000"/>
            <a:ext cx="877716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termino (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en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-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apid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s a dimensional pero es usual expresar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nm ; el espesor t suele darse en mm (1mm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nm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5400" y="2233440"/>
            <a:ext cx="468612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`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en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-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apid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33600" y="3630600"/>
            <a:ext cx="65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os cristales anisótropos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tr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0,01 y 0,20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0960" y="352728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87480" y="122868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9360" y="584280"/>
            <a:ext cx="81216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uando los componentes norte-sur de l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rayos lento y rápido se combinan en el analizador, tienen lugar interferencias constructivas para algunos colores e interferencia destructivas para otro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78400"/>
            <a:ext cx="712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5240" y="3411360"/>
            <a:ext cx="853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intensidad y los tonos de los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colores de interferenci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cambian al girar la platina y desaparecen cada 90° cuando el mineral se extingu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440" y="2017800"/>
            <a:ext cx="85978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</a:t>
            </a: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colores de interferenci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ependen d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retardo de las diferentes longitudes de onda, que a su vez dependen de la orientación, birrefringencia y grosor de los granos de un cristal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160" y="4986360"/>
            <a:ext cx="85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colores de interferencia comunes se muestran en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la carta de colores de Michel-L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  <a:ea typeface="ヒラギノ角ゴ Pro W3"/>
              </a:rPr>
              <a:t>évy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manuel caviedes</cp:lastModifiedBy>
  <dcterms:modified xsi:type="dcterms:W3CDTF">2007-03-26T05:12:46Z</dcterms:modified>
  <cp:revision>308</cp:revision>
  <dc:subject/>
  <dc:title>Chapter 8: Major Elements</dc:title>
</cp:coreProperties>
</file>