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01600" y="-360"/>
            <a:ext cx="849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24160" indent="-203400">
              <a:spcBef>
                <a:spcPts val="799"/>
              </a:spcBef>
              <a:buClr>
                <a:srgbClr val="ff00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30960" indent="-203400">
              <a:spcBef>
                <a:spcPts val="799"/>
              </a:spcBef>
              <a:buClr>
                <a:srgbClr val="ff99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30960" indent="-203400">
              <a:spcBef>
                <a:spcPts val="799"/>
              </a:spcBef>
              <a:buClr>
                <a:srgbClr val="ff99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tical Mineralo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832040" y="2070000"/>
            <a:ext cx="5684760" cy="10461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Comic Sans MS"/>
              </a:rPr>
              <a:t>Mineralogía Óptica</a:t>
            </a:r>
            <a:endParaRPr b="0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1600" y="161640"/>
            <a:ext cx="849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a Indicatriz Isótr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6840" y="1061640"/>
            <a:ext cx="793728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perficie del cristal corta la indicatriz i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ótropa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férica según un circulo de radio 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dice de ref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168800" y="2633760"/>
            <a:ext cx="49752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Convenciones: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684360" indent="-2271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1)La superficie del cristal atraviesa el centro de la </a:t>
            </a:r>
            <a:r>
              <a:rPr b="0" lang="es-ES_tradnl" sz="1600" spc="-1" strike="noStrike">
                <a:solidFill>
                  <a:srgbClr val="990033"/>
                </a:solidFill>
                <a:latin typeface="Comic Sans MS"/>
              </a:rPr>
              <a:t>Indicatriz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684360" indent="-2271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2) n (vectores radiales de sección circular en este caso) iguales  en todas las direcciones de vibración posibles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684360" indent="-2271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3)La luz que entra vibra en la misma dirección(es) en que lo hacía antes de entrar.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684360" indent="-2271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La luz no polarizada seguirá así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684360" indent="-2271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l único efecto es una velocidad menor Ka&gt;Kc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58840" y="2327400"/>
            <a:ext cx="3922560" cy="4109760"/>
            <a:chOff x="258840" y="2327400"/>
            <a:chExt cx="3922560" cy="41097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rcRect l="0" t="0" r="4221" b="841"/>
            <a:stretch/>
          </p:blipFill>
          <p:spPr>
            <a:xfrm>
              <a:off x="258840" y="2327400"/>
              <a:ext cx="392256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4680" y="6038640"/>
              <a:ext cx="143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6-5 Bloss, Optical Crystallography, MSA</a:t>
              </a:r>
              <a:endParaRPr b="0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65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59480" y="4440240"/>
            <a:ext cx="41335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íquidos, gases, sólidos amorfos como el vidrio, y minerales isótropos (sistema cúbico) permanecen oscuros en cualquier orientación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352600" y="2259000"/>
            <a:ext cx="2739600" cy="2739600"/>
            <a:chOff x="2352600" y="2259000"/>
            <a:chExt cx="2739600" cy="2739600"/>
          </a:xfrm>
        </p:grpSpPr>
        <p:sp>
          <p:nvSpPr>
            <p:cNvPr id="170" name=""/>
            <p:cNvSpPr/>
            <p:nvPr/>
          </p:nvSpPr>
          <p:spPr>
            <a:xfrm>
              <a:off x="2352600" y="2259000"/>
              <a:ext cx="2739600" cy="273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60640" y="3171960"/>
              <a:ext cx="1065600" cy="923040"/>
            </a:xfrm>
            <a:prstGeom prst="hexagon">
              <a:avLst>
                <a:gd name="adj" fmla="val 28861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52600" y="2259000"/>
            <a:ext cx="2739600" cy="2739600"/>
            <a:chOff x="2352600" y="2259000"/>
            <a:chExt cx="2739600" cy="2739600"/>
          </a:xfrm>
        </p:grpSpPr>
        <p:sp>
          <p:nvSpPr>
            <p:cNvPr id="173" name=""/>
            <p:cNvSpPr/>
            <p:nvPr/>
          </p:nvSpPr>
          <p:spPr>
            <a:xfrm rot="5400000">
              <a:off x="2352240" y="2258640"/>
              <a:ext cx="2739600" cy="2739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3184920" y="2938320"/>
              <a:ext cx="1065600" cy="923040"/>
            </a:xfrm>
            <a:prstGeom prst="hexagon">
              <a:avLst>
                <a:gd name="adj" fmla="val 28861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352600" y="2259000"/>
            <a:ext cx="2739600" cy="2739600"/>
            <a:chOff x="2352600" y="2259000"/>
            <a:chExt cx="2739600" cy="2739600"/>
          </a:xfrm>
        </p:grpSpPr>
        <p:sp>
          <p:nvSpPr>
            <p:cNvPr id="176" name=""/>
            <p:cNvSpPr/>
            <p:nvPr/>
          </p:nvSpPr>
          <p:spPr>
            <a:xfrm rot="10800000">
              <a:off x="2352600" y="2258640"/>
              <a:ext cx="2739600" cy="2739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800000">
              <a:off x="3418560" y="3162600"/>
              <a:ext cx="1065600" cy="923040"/>
            </a:xfrm>
            <a:prstGeom prst="hexagon">
              <a:avLst>
                <a:gd name="adj" fmla="val 28861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352600" y="2259000"/>
            <a:ext cx="2739600" cy="2739600"/>
            <a:chOff x="2352600" y="2259000"/>
            <a:chExt cx="2739600" cy="2739600"/>
          </a:xfrm>
        </p:grpSpPr>
        <p:sp>
          <p:nvSpPr>
            <p:cNvPr id="179" name=""/>
            <p:cNvSpPr/>
            <p:nvPr/>
          </p:nvSpPr>
          <p:spPr>
            <a:xfrm rot="16200000">
              <a:off x="2352600" y="2259000"/>
              <a:ext cx="2739600" cy="2739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3194280" y="3396240"/>
              <a:ext cx="1065600" cy="923040"/>
            </a:xfrm>
            <a:prstGeom prst="hexagon">
              <a:avLst>
                <a:gd name="adj" fmla="val 28861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352600" y="2259000"/>
            <a:ext cx="2739600" cy="2739600"/>
            <a:chOff x="2352600" y="2259000"/>
            <a:chExt cx="2739600" cy="2739600"/>
          </a:xfrm>
        </p:grpSpPr>
        <p:sp>
          <p:nvSpPr>
            <p:cNvPr id="182" name=""/>
            <p:cNvSpPr/>
            <p:nvPr/>
          </p:nvSpPr>
          <p:spPr>
            <a:xfrm>
              <a:off x="2352600" y="2259000"/>
              <a:ext cx="2739600" cy="2739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60640" y="3171960"/>
              <a:ext cx="1065600" cy="923040"/>
            </a:xfrm>
            <a:prstGeom prst="hexagon">
              <a:avLst>
                <a:gd name="adj" fmla="val 28861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352600" y="2259000"/>
            <a:ext cx="2739600" cy="2739600"/>
            <a:chOff x="2352600" y="2259000"/>
            <a:chExt cx="2739600" cy="2739600"/>
          </a:xfrm>
        </p:grpSpPr>
        <p:sp>
          <p:nvSpPr>
            <p:cNvPr id="185" name=""/>
            <p:cNvSpPr/>
            <p:nvPr/>
          </p:nvSpPr>
          <p:spPr>
            <a:xfrm>
              <a:off x="3722400" y="2259000"/>
              <a:ext cx="0" cy="27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52600" y="3628800"/>
              <a:ext cx="27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rot="20557800">
            <a:off x="4178520" y="2074680"/>
            <a:ext cx="1018800" cy="164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000" y="279360"/>
            <a:ext cx="840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Entonces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cualquier material 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isótrop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dicatriz esférica), cuando se inserta el analizador (= “nícoles cruzados- o “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XP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) no hay paso de luz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extin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aún cuando se rote la platin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0840" y="5487840"/>
            <a:ext cx="355284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l campo gris debería tb estar extinto (el vidrio y la epoxyna de la sección son tb son isótropos), pero se dejado más clara para ilustración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598320" y="2552760"/>
            <a:ext cx="3362400" cy="3209760"/>
            <a:chOff x="598320" y="2552760"/>
            <a:chExt cx="3362400" cy="320976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598320" y="2552760"/>
              <a:ext cx="336240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942200" y="2607120"/>
              <a:ext cx="112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        E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51320" y="2593800"/>
            <a:ext cx="3265560" cy="3156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901960" y="5705640"/>
            <a:ext cx="14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6-7 Bloss, Optical Crystallography, MSA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82000" y="5816520"/>
            <a:ext cx="1436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6-8 Bloss, Optical Crystallography, MSA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87480" y="122868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" y="558720"/>
            <a:ext cx="81219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ambio Cuando la luz entra en un mineral ani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ropo la luz se divide en dos rayos, viajando cada uno a través del cristal siguiendo caminos ligeramente distintos, con velocidades distintas e índices de refracción ligeramente diferente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s rayos de diferente velocidad, el rayo rápido y el lento, los cuales vibran en ángulos recto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c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250920" y="1760400"/>
            <a:ext cx="8516520" cy="4873680"/>
            <a:chOff x="250920" y="1760400"/>
            <a:chExt cx="8516520" cy="4873680"/>
          </a:xfrm>
        </p:grpSpPr>
        <p:grpSp>
          <p:nvGrpSpPr>
            <p:cNvPr id="201" name=""/>
            <p:cNvGrpSpPr/>
            <p:nvPr/>
          </p:nvGrpSpPr>
          <p:grpSpPr>
            <a:xfrm>
              <a:off x="250920" y="1760400"/>
              <a:ext cx="4871520" cy="4873680"/>
              <a:chOff x="250920" y="1760400"/>
              <a:chExt cx="4871520" cy="4873680"/>
            </a:xfrm>
          </p:grpSpPr>
          <p:pic>
            <p:nvPicPr>
              <p:cNvPr id="2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1760400"/>
                <a:ext cx="4871520" cy="487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2191320" y="1798560"/>
                <a:ext cx="112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         E</a:t>
                </a:r>
                <a:endParaRPr b="0" lang="en-US" sz="20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5465160" y="1779480"/>
              <a:ext cx="3302280" cy="45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Fresnel y Arago (1811)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Doble imagen: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2 rayos con diferente propagación y dirección de vibración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da uno polarizado a 90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el uno del otro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714840" y="6232680"/>
            <a:ext cx="14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6-7 Bloss, Optical Crystallography, MSA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1600" y="0"/>
            <a:ext cx="849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Cristales Anisótrop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684360"/>
            <a:ext cx="81216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o de la calcita y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ble refrac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Erasmus Bartholinus 16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5383080" y="1751040"/>
            <a:ext cx="3381480" cy="4548600"/>
          </a:xfrm>
          <a:prstGeom prst="rect">
            <a:avLst/>
          </a:prstGeom>
          <a:solidFill>
            <a:srgbClr val="a4b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omic Sans MS"/>
              </a:rPr>
              <a:t>rayo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600" spc="-1" strike="noStrike">
                <a:solidFill>
                  <a:srgbClr val="ff0000"/>
                </a:solidFill>
                <a:latin typeface="Comic Sans MS"/>
              </a:rPr>
              <a:t>O 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(Ordinario)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igue la ley de Snell y sigue recto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Vibra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1" lang="es-ES_tradnl" sz="1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l plano que contiene al rayo O y al eje c (“eje óptico”)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omic Sans MS"/>
              </a:rPr>
              <a:t>rayo E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(Extraordinario)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deflectado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Vibra </a:t>
            </a:r>
            <a:r>
              <a:rPr b="0" lang="es-ES_tradnl" sz="1600" spc="-1" strike="noStrike">
                <a:solidFill>
                  <a:srgbClr val="ff0000"/>
                </a:solidFill>
                <a:latin typeface="Comic Sans MS"/>
              </a:rPr>
              <a:t>en el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plano que contiene al rayo y al eje c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c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410000" y="1157400"/>
            <a:ext cx="4456080" cy="57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Ambos rayos vibra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lelos a la superficie de incidencia para luz incidente normal  así la interfase que corta la indicatriz es siempre  válida, aún para el rayo 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de ahora trataremos estos dos rayos como colineales pero no interactuando, porque lo que cuenta es la dirección de vibració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9600" y="1104840"/>
            <a:ext cx="4216320" cy="4570560"/>
            <a:chOff x="39600" y="1104840"/>
            <a:chExt cx="4216320" cy="457056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39600" y="1104840"/>
              <a:ext cx="4216320" cy="45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718640" y="1141920"/>
              <a:ext cx="112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        E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782800" y="5149800"/>
            <a:ext cx="14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6-7 Bloss, Optical Crystallography, MSA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44920" y="1189080"/>
            <a:ext cx="4699080" cy="6306120"/>
          </a:xfrm>
          <a:prstGeom prst="rect">
            <a:avLst/>
          </a:prstGeom>
          <a:solidFill>
            <a:srgbClr val="a4b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33"/>
                </a:solidFill>
                <a:latin typeface="Comic Sans MS"/>
              </a:rPr>
              <a:t>IMPORTANTE:  Un rayo de luz dado que penetra  en un cristal anisótropo queda restringido a sólo 2 direcciones de vibración (mutuamente perpendiculares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33"/>
                </a:solidFill>
                <a:latin typeface="Comic Sans MS"/>
              </a:rPr>
              <a:t>Llamadas direcciones privilegiada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da rayo tiene un índice de ref. distinto :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(ind. Ref. vibr. del rayo O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(ind. Ref. vibr. del rayo E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 la calcita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&gt;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 que hace que el punto del rayo O aparece sobre el punto del rayo 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Algunas generalizaciones y vocabulario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8960" y="1595520"/>
            <a:ext cx="852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materiales amorfos y los minerales isométricos (e.g., 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granat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 son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isótropos,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no pueden reorientar la luz. Estos minerales están siempre en extinción con nícoles cruzados (XLP)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os los otros minerales son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anisótrop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son todos capaces de reorientar la luz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os los minerales </a:t>
            </a:r>
            <a:r>
              <a:rPr b="0" lang="es-ES_tradnl" sz="2000" spc="-1" strike="noStrike">
                <a:solidFill>
                  <a:srgbClr val="ff0066"/>
                </a:solidFill>
                <a:latin typeface="Comic Sans MS"/>
              </a:rPr>
              <a:t>anisótrop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contienen una o dos direcciones especiales de 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propa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que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n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reorientan la luz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500"/>
              </a:spcBef>
              <a:buClr>
                <a:srgbClr val="cc0066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inerales con 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un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irección especial se llaman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uniaxial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500"/>
              </a:spcBef>
              <a:buClr>
                <a:srgbClr val="cc0066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inerales con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d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irecciones especiales se llaman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biaxiale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68200" y="409680"/>
            <a:ext cx="8669520" cy="65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sustancias anisótropa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 = f(dirección de vibración)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catriz no es ya una esfer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catriz = elipsoide 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cristales hexagonales y tetragonales presentan un único índice de refracción cuando la luz vibra paralela al eje cristalográfico (c axis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s propiedades ópticas reflejan lo mismo: 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elipsoide de rotación alrededor de c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ópticamente un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á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xico, un solo eje es perpendicular a una sección circular) y c =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eje 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óptic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ej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ópticos son las direcciones que la luz puede recorrer un cristal sin que se divida en dos, generalmen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||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 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 a las caras del cristal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60600" y="152280"/>
            <a:ext cx="5264280" cy="3706920"/>
            <a:chOff x="2460600" y="152280"/>
            <a:chExt cx="5264280" cy="37069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rcRect l="2301" t="0" r="0" b="1436"/>
            <a:stretch/>
          </p:blipFill>
          <p:spPr>
            <a:xfrm>
              <a:off x="2460600" y="152280"/>
              <a:ext cx="526428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78680" y="250560"/>
              <a:ext cx="143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6-10 Bloss, Optical Crystallography, MSA</a:t>
              </a:r>
              <a:endParaRPr b="0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4395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ipsoide uniaxial y convencion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4575240" y="5719680"/>
            <a:ext cx="183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50840" y="1157400"/>
            <a:ext cx="7102080" cy="4614480"/>
            <a:chOff x="1050840" y="1157400"/>
            <a:chExt cx="7102080" cy="46144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1050840" y="1157400"/>
              <a:ext cx="7102080" cy="46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479240" y="4157640"/>
              <a:ext cx="14961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istal(-) :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lato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82920" y="4116600"/>
              <a:ext cx="15220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istal(+) :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lato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56360" y="5261760"/>
              <a:ext cx="1068480" cy="46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119240" y="1247760"/>
            <a:ext cx="14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6-11 Bloss, Optical Crystallography, MSA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9640" y="5521320"/>
            <a:ext cx="6572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1360" y="5808600"/>
            <a:ext cx="87440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 cada caso solo hay una sección circular y su radio es siempre igual a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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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 C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479760" y="952200"/>
            <a:ext cx="5541840" cy="57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Circula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je óptico : todos de índice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único e igu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on Princip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y el verdadero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índices máx &amp; min de un cris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al azar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'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das las secciones tienen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Cualquie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sección no-circular a través del centro de una indicatriz uniaxial tendrá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mo un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semieje y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'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o el verdadero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como el o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12040" y="1106640"/>
            <a:ext cx="3218040" cy="3952440"/>
            <a:chOff x="212040" y="1106640"/>
            <a:chExt cx="3218040" cy="395244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16720" y="1143000"/>
              <a:ext cx="3213360" cy="39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12040" y="110664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g. 6-12</a:t>
              </a:r>
              <a:endParaRPr b="0" lang="en-US" sz="16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6160" y="4629960"/>
              <a:ext cx="490680" cy="32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30040" y="223920"/>
            <a:ext cx="85330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pendiendo de la propagación de la luz se tiene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c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041360" y="123840"/>
            <a:ext cx="54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Esencialmente 2 posibilidad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(la luz viene hacia ust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605040" y="1074600"/>
            <a:ext cx="2155680" cy="2251080"/>
            <a:chOff x="3605040" y="1074600"/>
            <a:chExt cx="2155680" cy="2251080"/>
          </a:xfrm>
        </p:grpSpPr>
        <p:sp>
          <p:nvSpPr>
            <p:cNvPr id="245" name=""/>
            <p:cNvSpPr/>
            <p:nvPr/>
          </p:nvSpPr>
          <p:spPr>
            <a:xfrm>
              <a:off x="3605040" y="1074600"/>
              <a:ext cx="2155680" cy="2251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86120" y="1247760"/>
              <a:ext cx="495360" cy="9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4426920" y="1152720"/>
              <a:ext cx="233640" cy="10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3820680" y="1585440"/>
              <a:ext cx="839880" cy="60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647520" y="2209680"/>
              <a:ext cx="99540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838320" y="2227320"/>
              <a:ext cx="80496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426920" y="2227320"/>
              <a:ext cx="25092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78200" y="2209680"/>
              <a:ext cx="345960" cy="10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87920" y="2209680"/>
              <a:ext cx="822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05200" y="2209680"/>
              <a:ext cx="102060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695840" y="1663200"/>
              <a:ext cx="89208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756400" y="1498680"/>
            <a:ext cx="31953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1. sección circula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458640" indent="-174600">
              <a:lnSpc>
                <a:spcPct val="100000"/>
              </a:lnSpc>
              <a:buClr>
                <a:srgbClr val="ff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uz prop. || OA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458640" indent="-174600">
              <a:lnSpc>
                <a:spcPct val="100000"/>
              </a:lnSpc>
              <a:buClr>
                <a:srgbClr val="ff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s las direcciones de vibración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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 son el mismo 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0"/>
            <a:ext cx="3484440" cy="3508200"/>
            <a:chOff x="0" y="0"/>
            <a:chExt cx="3484440" cy="3508200"/>
          </a:xfrm>
        </p:grpSpPr>
        <p:grpSp>
          <p:nvGrpSpPr>
            <p:cNvPr id="258" name=""/>
            <p:cNvGrpSpPr/>
            <p:nvPr/>
          </p:nvGrpSpPr>
          <p:grpSpPr>
            <a:xfrm>
              <a:off x="0" y="0"/>
              <a:ext cx="3416400" cy="3508200"/>
              <a:chOff x="0" y="0"/>
              <a:chExt cx="3416400" cy="350820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3416400" cy="350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1370880" y="130320"/>
                <a:ext cx="83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O         E</a:t>
                </a:r>
                <a:endParaRPr b="0" lang="en-US" sz="1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2170080" y="3133800"/>
              <a:ext cx="13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Fig 6-7 Bloss, Optical Crystallography, MSA</a:t>
              </a:r>
              <a:endParaRPr b="0" lang="en-US" sz="1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rcRect l="50269" t="0" r="0" b="0"/>
          <a:stretch/>
        </p:blipFill>
        <p:spPr>
          <a:xfrm>
            <a:off x="0" y="3470400"/>
            <a:ext cx="2708280" cy="33876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1160" y="3486240"/>
            <a:ext cx="1066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tic Axis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50880" y="3519360"/>
            <a:ext cx="10940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Fig 6-13 Bloss, Optical Crystallography, MSA</a:t>
            </a:r>
            <a:endParaRPr b="0" lang="en-US" sz="9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84600" y="3408480"/>
            <a:ext cx="6234120" cy="36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o en los isótropo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no hay plano único conteniendo al rayo y al eje c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un rayo (rayo O) con  n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(no hay separación en dos rayos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Extin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con analizador permaneciendo así al rotarla platina (como isótropo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SzPct val="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a luz incidente es no-polarizada permanecerá así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c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l microscopio petrográfico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4952880" cy="425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29400" y="1905120"/>
            <a:ext cx="161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ambién llamado microscopio polarizant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c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041360" y="123840"/>
            <a:ext cx="54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Esencialmente 2 posibilidad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(luz hacia ust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27360" y="3605040"/>
            <a:ext cx="6416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buClr>
                <a:srgbClr val="ff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 rayo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ff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2 direcciones de vibración privilegiada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ff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- rayo con n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ff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-rayo con n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ependiendo de la sección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ff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anece igual al rota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598920" y="968400"/>
            <a:ext cx="1574640" cy="2597040"/>
            <a:chOff x="3598920" y="968400"/>
            <a:chExt cx="1574640" cy="2597040"/>
          </a:xfrm>
        </p:grpSpPr>
        <p:sp>
          <p:nvSpPr>
            <p:cNvPr id="270" name=""/>
            <p:cNvSpPr/>
            <p:nvPr/>
          </p:nvSpPr>
          <p:spPr>
            <a:xfrm>
              <a:off x="4378320" y="977760"/>
              <a:ext cx="0" cy="25718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98920" y="2259000"/>
              <a:ext cx="1574640" cy="79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05040" y="968400"/>
              <a:ext cx="1559160" cy="259704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-360" y="3470400"/>
            <a:ext cx="2779560" cy="3387240"/>
            <a:chOff x="-360" y="3470400"/>
            <a:chExt cx="2779560" cy="338724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4680" y="3476160"/>
              <a:ext cx="2774520" cy="33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-360" y="3470400"/>
              <a:ext cx="83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ig. 6-12</a:t>
              </a:r>
              <a:endParaRPr b="0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9360" y="6487200"/>
              <a:ext cx="42336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0"/>
            <a:ext cx="3484440" cy="3508200"/>
            <a:chOff x="0" y="0"/>
            <a:chExt cx="3484440" cy="3508200"/>
          </a:xfrm>
        </p:grpSpPr>
        <p:grpSp>
          <p:nvGrpSpPr>
            <p:cNvPr id="278" name=""/>
            <p:cNvGrpSpPr/>
            <p:nvPr/>
          </p:nvGrpSpPr>
          <p:grpSpPr>
            <a:xfrm>
              <a:off x="0" y="0"/>
              <a:ext cx="3416400" cy="3508200"/>
              <a:chOff x="0" y="0"/>
              <a:chExt cx="3416400" cy="3508200"/>
            </a:xfrm>
          </p:grpSpPr>
          <p:pic>
            <p:nvPicPr>
              <p:cNvPr id="2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3416400" cy="350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1370880" y="130320"/>
                <a:ext cx="83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O         E</a:t>
                </a:r>
                <a:endParaRPr b="0" lang="en-US" sz="1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170080" y="3133800"/>
              <a:ext cx="13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Fig 6-7 Bloss, Optical Crystallography, MSA</a:t>
              </a:r>
              <a:endParaRPr b="0" lang="en-US" sz="1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391000" y="1332000"/>
            <a:ext cx="29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2. sección elíptic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480" indent="-288720">
              <a:lnSpc>
                <a:spcPct val="100000"/>
              </a:lnSpc>
              <a:buClr>
                <a:srgbClr val="ff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ualquier orientació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90480" indent="-288720">
              <a:lnSpc>
                <a:spcPct val="100000"/>
              </a:lnSpc>
              <a:buClr>
                <a:srgbClr val="ff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inta a la circula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c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3103560" y="2039760"/>
            <a:ext cx="1961640" cy="1961640"/>
            <a:chOff x="3103560" y="2039760"/>
            <a:chExt cx="1961640" cy="1961640"/>
          </a:xfrm>
        </p:grpSpPr>
        <p:grpSp>
          <p:nvGrpSpPr>
            <p:cNvPr id="285" name=""/>
            <p:cNvGrpSpPr/>
            <p:nvPr/>
          </p:nvGrpSpPr>
          <p:grpSpPr>
            <a:xfrm>
              <a:off x="3103560" y="2039760"/>
              <a:ext cx="1961640" cy="1961640"/>
              <a:chOff x="3103560" y="2039760"/>
              <a:chExt cx="1961640" cy="1961640"/>
            </a:xfrm>
          </p:grpSpPr>
          <p:sp>
            <p:nvSpPr>
              <p:cNvPr id="286" name=""/>
              <p:cNvSpPr/>
              <p:nvPr/>
            </p:nvSpPr>
            <p:spPr>
              <a:xfrm>
                <a:off x="3103560" y="2039760"/>
                <a:ext cx="1961640" cy="1961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20803200">
                <a:off x="3866040" y="2475360"/>
                <a:ext cx="326880" cy="1199160"/>
              </a:xfrm>
              <a:custGeom>
                <a:avLst/>
                <a:gdLst>
                  <a:gd name="textAreaLeft" fmla="*/ 15840 w 326880"/>
                  <a:gd name="textAreaRight" fmla="*/ 311040 w 326880"/>
                  <a:gd name="textAreaTop" fmla="*/ 15840 h 1199160"/>
                  <a:gd name="textAreaBottom" fmla="*/ 1183320 h 1199160"/>
                </a:gdLst>
                <a:ahLst/>
                <a:rect l="textAreaLeft" t="textAreaTop" r="textAreaRight" b="textAreaBottom"/>
                <a:pathLst>
                  <a:path w="21600" h="79176">
                    <a:moveTo>
                      <a:pt x="3600" y="0"/>
                    </a:moveTo>
                    <a:arcTo wR="3600" hR="3600" stAng="16200000" swAng="-5400000"/>
                    <a:lnTo>
                      <a:pt x="0" y="75576"/>
                    </a:lnTo>
                    <a:arcTo wR="3600" hR="3600" stAng="10800000" swAng="-5400000"/>
                    <a:lnTo>
                      <a:pt x="18000" y="791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808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886200" y="2897640"/>
              <a:ext cx="289800" cy="308520"/>
              <a:chOff x="3886200" y="2897640"/>
              <a:chExt cx="289800" cy="308520"/>
            </a:xfrm>
          </p:grpSpPr>
          <p:sp>
            <p:nvSpPr>
              <p:cNvPr id="289" name=""/>
              <p:cNvSpPr/>
              <p:nvPr/>
            </p:nvSpPr>
            <p:spPr>
              <a:xfrm rot="2274000">
                <a:off x="3951000" y="2918520"/>
                <a:ext cx="159840" cy="26676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3950640" y="2948400"/>
                <a:ext cx="162000" cy="20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7560" y="3003480"/>
                <a:ext cx="126720" cy="10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2033640" y="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66"/>
                </a:solidFill>
                <a:latin typeface="Comic Sans MS"/>
              </a:rPr>
              <a:t>Rotación de la platin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65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6960" y="603360"/>
            <a:ext cx="70419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minerales</a:t>
            </a:r>
            <a:r>
              <a:rPr b="1" lang="es-ES_tradnl" sz="2000" spc="-1" strike="noStrike">
                <a:solidFill>
                  <a:srgbClr val="cc0066"/>
                </a:solidFill>
                <a:latin typeface="Comic Sans MS"/>
              </a:rPr>
              <a:t> Anisótropos</a:t>
            </a:r>
            <a:r>
              <a:rPr b="1" lang="es-ES_tradnl" sz="2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66"/>
                </a:solidFill>
                <a:latin typeface="Comic Sans MS"/>
              </a:rPr>
              <a:t>con una sección elíptica de la indicatriz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ambian de color mientras rota la platina; estos granos se oscurecen 4 veces en una rotación de 360° exactamente cada 90º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1236400">
            <a:off x="4431960" y="2036160"/>
            <a:ext cx="7624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86" y="17"/>
                </a:moveTo>
                <a:arcTo wR="10800" hR="10800" stAng="-5595450" swAng="5595450"/>
                <a:lnTo>
                  <a:pt x="10800" y="10800"/>
                </a:lnTo>
                <a:close/>
              </a:path>
              <a:path fill="none" w="21600" h="21600">
                <a:moveTo>
                  <a:pt x="10186" y="17"/>
                </a:moveTo>
                <a:arcTo wR="10800" hR="10800" stAng="-5595450" swAng="559545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951280" y="4462560"/>
            <a:ext cx="5545080" cy="1860120"/>
            <a:chOff x="2951280" y="4462560"/>
            <a:chExt cx="5545080" cy="1860120"/>
          </a:xfrm>
        </p:grpSpPr>
        <p:grpSp>
          <p:nvGrpSpPr>
            <p:cNvPr id="297" name=""/>
            <p:cNvGrpSpPr/>
            <p:nvPr/>
          </p:nvGrpSpPr>
          <p:grpSpPr>
            <a:xfrm>
              <a:off x="2951280" y="4462560"/>
              <a:ext cx="1860120" cy="1860120"/>
              <a:chOff x="2951280" y="4462560"/>
              <a:chExt cx="1860120" cy="186012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2951280" y="4462560"/>
                <a:ext cx="1860120" cy="1860120"/>
                <a:chOff x="2951280" y="4462560"/>
                <a:chExt cx="1860120" cy="18601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951280" y="4462560"/>
                  <a:ext cx="1860120" cy="18601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364200" y="5082480"/>
                  <a:ext cx="723600" cy="626760"/>
                </a:xfrm>
                <a:prstGeom prst="hexagon">
                  <a:avLst>
                    <a:gd name="adj" fmla="val 28863"/>
                    <a:gd name="vf" fmla="val 11547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3606840" y="5272200"/>
                <a:ext cx="241560" cy="252360"/>
                <a:chOff x="3606840" y="5272200"/>
                <a:chExt cx="241560" cy="2523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606840" y="5272200"/>
                  <a:ext cx="241560" cy="252360"/>
                </a:xfrm>
                <a:prstGeom prst="ellipse">
                  <a:avLst/>
                </a:prstGeom>
                <a:solidFill>
                  <a:srgbClr val="ffffc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3727800" y="5291280"/>
                  <a:ext cx="5544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>
                  <a:off x="3699000" y="5280840"/>
                  <a:ext cx="25920" cy="11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>
                  <a:off x="3630600" y="5329080"/>
                  <a:ext cx="93960" cy="6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3611520" y="5399280"/>
                  <a:ext cx="1116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3632760" y="5401440"/>
                  <a:ext cx="90000" cy="6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3699000" y="5401440"/>
                  <a:ext cx="2808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727080" y="5399280"/>
                  <a:ext cx="38520" cy="11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728160" y="5399280"/>
                  <a:ext cx="9216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729960" y="5399280"/>
                  <a:ext cx="114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728880" y="5337720"/>
                  <a:ext cx="100080" cy="6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3" name=""/>
            <p:cNvSpPr/>
            <p:nvPr/>
          </p:nvSpPr>
          <p:spPr>
            <a:xfrm>
              <a:off x="4843440" y="4529160"/>
              <a:ext cx="3652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66"/>
                  </a:solidFill>
                  <a:latin typeface="Comic Sans MS"/>
                </a:rPr>
                <a:t>Isótropo:</a:t>
              </a:r>
              <a:r>
                <a:rPr b="1" lang="es-ES_tradnl" sz="1800" spc="-1" strike="noStrike">
                  <a:solidFill>
                    <a:srgbClr val="cc0066"/>
                  </a:solidFill>
                  <a:latin typeface="Comic Sans MS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vidrio</a:t>
              </a:r>
              <a:r>
                <a:rPr b="1" lang="es-ES_tradnl" sz="1800" spc="-1" strike="noStrike">
                  <a:solidFill>
                    <a:srgbClr val="cc0066"/>
                  </a:solidFill>
                  <a:latin typeface="Comic Sans MS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o minerales isométricos u observando paralelo al eje óptico de minerales anisótropos</a:t>
              </a:r>
              <a:endParaRPr b="0" lang="en-US" sz="18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 rot="20557800">
            <a:off x="3962160" y="4233600"/>
            <a:ext cx="7610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27200" y="4103640"/>
            <a:ext cx="1981440" cy="587520"/>
            <a:chOff x="727200" y="4103640"/>
            <a:chExt cx="1981440" cy="587520"/>
          </a:xfrm>
        </p:grpSpPr>
        <p:sp>
          <p:nvSpPr>
            <p:cNvPr id="316" name=""/>
            <p:cNvSpPr/>
            <p:nvPr/>
          </p:nvSpPr>
          <p:spPr>
            <a:xfrm>
              <a:off x="727200" y="4103640"/>
              <a:ext cx="1947600" cy="587520"/>
            </a:xfrm>
            <a:prstGeom prst="leftRightArrow">
              <a:avLst>
                <a:gd name="adj1" fmla="val 50000"/>
                <a:gd name="adj2" fmla="val 65992"/>
              </a:avLst>
            </a:prstGeom>
            <a:solidFill>
              <a:srgbClr val="0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19160" y="41893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olarizador</a:t>
              </a:r>
              <a:endParaRPr b="0" lang="en-US" sz="18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951640" y="4462560"/>
            <a:ext cx="1860120" cy="1860120"/>
            <a:chOff x="2951640" y="4462560"/>
            <a:chExt cx="1860120" cy="1860120"/>
          </a:xfrm>
        </p:grpSpPr>
        <p:grpSp>
          <p:nvGrpSpPr>
            <p:cNvPr id="319" name=""/>
            <p:cNvGrpSpPr/>
            <p:nvPr/>
          </p:nvGrpSpPr>
          <p:grpSpPr>
            <a:xfrm>
              <a:off x="2951640" y="4462560"/>
              <a:ext cx="1860120" cy="1860120"/>
              <a:chOff x="2951640" y="4462560"/>
              <a:chExt cx="1860120" cy="1860120"/>
            </a:xfrm>
          </p:grpSpPr>
          <p:sp>
            <p:nvSpPr>
              <p:cNvPr id="320" name=""/>
              <p:cNvSpPr/>
              <p:nvPr/>
            </p:nvSpPr>
            <p:spPr>
              <a:xfrm rot="5400000">
                <a:off x="2951640" y="4462560"/>
                <a:ext cx="1860120" cy="1860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3516480" y="4923720"/>
                <a:ext cx="723600" cy="626760"/>
              </a:xfrm>
              <a:prstGeom prst="hexagon">
                <a:avLst>
                  <a:gd name="adj" fmla="val 28863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749760" y="5110200"/>
              <a:ext cx="241560" cy="252360"/>
              <a:chOff x="3749760" y="5110200"/>
              <a:chExt cx="241560" cy="252360"/>
            </a:xfrm>
          </p:grpSpPr>
          <p:sp>
            <p:nvSpPr>
              <p:cNvPr id="323" name=""/>
              <p:cNvSpPr/>
              <p:nvPr/>
            </p:nvSpPr>
            <p:spPr>
              <a:xfrm>
                <a:off x="3749760" y="5110200"/>
                <a:ext cx="241560" cy="25236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3870720" y="5129280"/>
                <a:ext cx="554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3841920" y="5118840"/>
                <a:ext cx="25920" cy="1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3773520" y="5167080"/>
                <a:ext cx="9396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3754440" y="5237280"/>
                <a:ext cx="1116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3775680" y="5239440"/>
                <a:ext cx="900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3841920" y="5239440"/>
                <a:ext cx="2808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70000" y="5237280"/>
                <a:ext cx="3852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871080" y="5237280"/>
                <a:ext cx="92160" cy="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872880" y="5237280"/>
                <a:ext cx="1144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871800" y="5175720"/>
                <a:ext cx="10008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2951640" y="4462920"/>
            <a:ext cx="1860120" cy="1860120"/>
            <a:chOff x="2951640" y="4462920"/>
            <a:chExt cx="1860120" cy="1860120"/>
          </a:xfrm>
        </p:grpSpPr>
        <p:grpSp>
          <p:nvGrpSpPr>
            <p:cNvPr id="335" name=""/>
            <p:cNvGrpSpPr/>
            <p:nvPr/>
          </p:nvGrpSpPr>
          <p:grpSpPr>
            <a:xfrm>
              <a:off x="2951640" y="4462920"/>
              <a:ext cx="1860120" cy="1860120"/>
              <a:chOff x="2951640" y="4462920"/>
              <a:chExt cx="1860120" cy="1860120"/>
            </a:xfrm>
          </p:grpSpPr>
          <p:sp>
            <p:nvSpPr>
              <p:cNvPr id="336" name=""/>
              <p:cNvSpPr/>
              <p:nvPr/>
            </p:nvSpPr>
            <p:spPr>
              <a:xfrm rot="10800000">
                <a:off x="2951640" y="4462920"/>
                <a:ext cx="1860120" cy="1860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0800000">
                <a:off x="3675240" y="5076360"/>
                <a:ext cx="723600" cy="626760"/>
              </a:xfrm>
              <a:prstGeom prst="hexagon">
                <a:avLst>
                  <a:gd name="adj" fmla="val 28863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3919320" y="5257800"/>
              <a:ext cx="241200" cy="252720"/>
              <a:chOff x="3919320" y="5257800"/>
              <a:chExt cx="241200" cy="252720"/>
            </a:xfrm>
          </p:grpSpPr>
          <p:sp>
            <p:nvSpPr>
              <p:cNvPr id="339" name=""/>
              <p:cNvSpPr/>
              <p:nvPr/>
            </p:nvSpPr>
            <p:spPr>
              <a:xfrm>
                <a:off x="3919320" y="5257800"/>
                <a:ext cx="241200" cy="25272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4040280" y="5277240"/>
                <a:ext cx="554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011120" y="5266440"/>
                <a:ext cx="25920" cy="1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>
                <a:off x="3943080" y="5314680"/>
                <a:ext cx="9396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3923640" y="5385240"/>
                <a:ext cx="111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3945240" y="5387040"/>
                <a:ext cx="900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011120" y="5387040"/>
                <a:ext cx="2808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039200" y="5385240"/>
                <a:ext cx="3852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040640" y="5385240"/>
                <a:ext cx="9180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42440" y="5385240"/>
                <a:ext cx="114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4041360" y="5323320"/>
                <a:ext cx="9972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2951280" y="4464360"/>
            <a:ext cx="1860120" cy="1860120"/>
            <a:chOff x="2951280" y="4464360"/>
            <a:chExt cx="1860120" cy="1860120"/>
          </a:xfrm>
        </p:grpSpPr>
        <p:grpSp>
          <p:nvGrpSpPr>
            <p:cNvPr id="351" name=""/>
            <p:cNvGrpSpPr/>
            <p:nvPr/>
          </p:nvGrpSpPr>
          <p:grpSpPr>
            <a:xfrm>
              <a:off x="2951280" y="4464360"/>
              <a:ext cx="1860120" cy="1860120"/>
              <a:chOff x="2951280" y="4464360"/>
              <a:chExt cx="1860120" cy="1860120"/>
            </a:xfrm>
          </p:grpSpPr>
          <p:sp>
            <p:nvSpPr>
              <p:cNvPr id="352" name=""/>
              <p:cNvSpPr/>
              <p:nvPr/>
            </p:nvSpPr>
            <p:spPr>
              <a:xfrm rot="16200000">
                <a:off x="2951280" y="4464360"/>
                <a:ext cx="1860120" cy="1860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6200000">
                <a:off x="3522600" y="5236200"/>
                <a:ext cx="723600" cy="626760"/>
              </a:xfrm>
              <a:prstGeom prst="hexagon">
                <a:avLst>
                  <a:gd name="adj" fmla="val 28863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3751200" y="5437080"/>
              <a:ext cx="241560" cy="252360"/>
              <a:chOff x="3751200" y="5437080"/>
              <a:chExt cx="241560" cy="252360"/>
            </a:xfrm>
          </p:grpSpPr>
          <p:sp>
            <p:nvSpPr>
              <p:cNvPr id="355" name=""/>
              <p:cNvSpPr/>
              <p:nvPr/>
            </p:nvSpPr>
            <p:spPr>
              <a:xfrm>
                <a:off x="3751200" y="5437080"/>
                <a:ext cx="241560" cy="25236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3872160" y="5456160"/>
                <a:ext cx="554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>
                <a:off x="3843360" y="5445720"/>
                <a:ext cx="25920" cy="1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3774960" y="5493960"/>
                <a:ext cx="9396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3755880" y="5564160"/>
                <a:ext cx="1116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3777120" y="5566320"/>
                <a:ext cx="900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3843360" y="5566320"/>
                <a:ext cx="2808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71440" y="5564160"/>
                <a:ext cx="3852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72520" y="5564160"/>
                <a:ext cx="92160" cy="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74320" y="5564160"/>
                <a:ext cx="1144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3873240" y="5502600"/>
                <a:ext cx="10008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2935440" y="4451400"/>
            <a:ext cx="1884960" cy="1872360"/>
            <a:chOff x="2935440" y="4451400"/>
            <a:chExt cx="1884960" cy="1872360"/>
          </a:xfrm>
        </p:grpSpPr>
        <p:grpSp>
          <p:nvGrpSpPr>
            <p:cNvPr id="367" name=""/>
            <p:cNvGrpSpPr/>
            <p:nvPr/>
          </p:nvGrpSpPr>
          <p:grpSpPr>
            <a:xfrm>
              <a:off x="2935440" y="4451400"/>
              <a:ext cx="1884960" cy="1872360"/>
              <a:chOff x="2935440" y="4451400"/>
              <a:chExt cx="1884960" cy="1872360"/>
            </a:xfrm>
          </p:grpSpPr>
          <p:sp>
            <p:nvSpPr>
              <p:cNvPr id="368" name=""/>
              <p:cNvSpPr/>
              <p:nvPr/>
            </p:nvSpPr>
            <p:spPr>
              <a:xfrm>
                <a:off x="2935440" y="4451400"/>
                <a:ext cx="1884960" cy="1872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353760" y="5075280"/>
                <a:ext cx="732960" cy="630720"/>
              </a:xfrm>
              <a:prstGeom prst="hexagon">
                <a:avLst>
                  <a:gd name="adj" fmla="val 29053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3599640" y="5267880"/>
              <a:ext cx="244440" cy="254160"/>
              <a:chOff x="3599640" y="5267880"/>
              <a:chExt cx="244440" cy="254160"/>
            </a:xfrm>
          </p:grpSpPr>
          <p:sp>
            <p:nvSpPr>
              <p:cNvPr id="371" name=""/>
              <p:cNvSpPr/>
              <p:nvPr/>
            </p:nvSpPr>
            <p:spPr>
              <a:xfrm>
                <a:off x="3599640" y="5267880"/>
                <a:ext cx="244440" cy="25416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3722040" y="5287320"/>
                <a:ext cx="5616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>
                <a:off x="3692520" y="5276520"/>
                <a:ext cx="2628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3624120" y="5325480"/>
                <a:ext cx="9504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3603960" y="5396040"/>
                <a:ext cx="112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625560" y="5397840"/>
                <a:ext cx="91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692520" y="5397840"/>
                <a:ext cx="28440" cy="11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21320" y="5396040"/>
                <a:ext cx="3924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722400" y="5396040"/>
                <a:ext cx="9324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24200" y="5396040"/>
                <a:ext cx="115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3723480" y="5334120"/>
                <a:ext cx="10116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2951280" y="4462560"/>
            <a:ext cx="1860120" cy="1860120"/>
            <a:chOff x="2951280" y="4462560"/>
            <a:chExt cx="1860120" cy="1860120"/>
          </a:xfrm>
        </p:grpSpPr>
        <p:sp>
          <p:nvSpPr>
            <p:cNvPr id="383" name=""/>
            <p:cNvSpPr/>
            <p:nvPr/>
          </p:nvSpPr>
          <p:spPr>
            <a:xfrm>
              <a:off x="3881160" y="4462560"/>
              <a:ext cx="0" cy="18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51280" y="5392440"/>
              <a:ext cx="186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701800" y="1638000"/>
            <a:ext cx="2767320" cy="2767320"/>
            <a:chOff x="2701800" y="1638000"/>
            <a:chExt cx="2767320" cy="2767320"/>
          </a:xfrm>
        </p:grpSpPr>
        <p:grpSp>
          <p:nvGrpSpPr>
            <p:cNvPr id="386" name=""/>
            <p:cNvGrpSpPr/>
            <p:nvPr/>
          </p:nvGrpSpPr>
          <p:grpSpPr>
            <a:xfrm>
              <a:off x="2701800" y="1638000"/>
              <a:ext cx="2767320" cy="2767320"/>
              <a:chOff x="2701800" y="1638000"/>
              <a:chExt cx="2767320" cy="2767320"/>
            </a:xfrm>
          </p:grpSpPr>
          <p:sp>
            <p:nvSpPr>
              <p:cNvPr id="387" name=""/>
              <p:cNvSpPr/>
              <p:nvPr/>
            </p:nvSpPr>
            <p:spPr>
              <a:xfrm rot="13162200">
                <a:off x="3102120" y="2038320"/>
                <a:ext cx="1966320" cy="196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2365400">
                <a:off x="3998160" y="2413080"/>
                <a:ext cx="327600" cy="1202040"/>
              </a:xfrm>
              <a:custGeom>
                <a:avLst/>
                <a:gdLst>
                  <a:gd name="textAreaLeft" fmla="*/ 15840 w 327600"/>
                  <a:gd name="textAreaRight" fmla="*/ 311760 w 327600"/>
                  <a:gd name="textAreaTop" fmla="*/ 15840 h 1202040"/>
                  <a:gd name="textAreaBottom" fmla="*/ 1186200 h 1202040"/>
                </a:gdLst>
                <a:ahLst/>
                <a:rect l="textAreaLeft" t="textAreaTop" r="textAreaRight" b="textAreaBottom"/>
                <a:pathLst>
                  <a:path w="21600" h="79192">
                    <a:moveTo>
                      <a:pt x="3600" y="0"/>
                    </a:moveTo>
                    <a:arcTo wR="3600" hR="3600" stAng="16200000" swAng="-5400000"/>
                    <a:lnTo>
                      <a:pt x="0" y="75592"/>
                    </a:lnTo>
                    <a:arcTo wR="3600" hR="3600" stAng="10800000" swAng="-5400000"/>
                    <a:lnTo>
                      <a:pt x="18000" y="7919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032000" y="2919240"/>
              <a:ext cx="266400" cy="162000"/>
              <a:chOff x="4032000" y="2919240"/>
              <a:chExt cx="266400" cy="162000"/>
            </a:xfrm>
          </p:grpSpPr>
          <p:sp>
            <p:nvSpPr>
              <p:cNvPr id="390" name=""/>
              <p:cNvSpPr/>
              <p:nvPr/>
            </p:nvSpPr>
            <p:spPr>
              <a:xfrm rot="5400000">
                <a:off x="4084920" y="2865960"/>
                <a:ext cx="160200" cy="26640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033800" y="3000240"/>
                <a:ext cx="263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163400" y="2919240"/>
                <a:ext cx="1080" cy="16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3105360" y="2039760"/>
            <a:ext cx="1961640" cy="1961640"/>
            <a:chOff x="3105360" y="2039760"/>
            <a:chExt cx="1961640" cy="1961640"/>
          </a:xfrm>
        </p:grpSpPr>
        <p:grpSp>
          <p:nvGrpSpPr>
            <p:cNvPr id="394" name=""/>
            <p:cNvGrpSpPr/>
            <p:nvPr/>
          </p:nvGrpSpPr>
          <p:grpSpPr>
            <a:xfrm>
              <a:off x="3105360" y="2039760"/>
              <a:ext cx="1961640" cy="1961640"/>
              <a:chOff x="3105360" y="2039760"/>
              <a:chExt cx="1961640" cy="1961640"/>
            </a:xfrm>
          </p:grpSpPr>
          <p:sp>
            <p:nvSpPr>
              <p:cNvPr id="395" name=""/>
              <p:cNvSpPr/>
              <p:nvPr/>
            </p:nvSpPr>
            <p:spPr>
              <a:xfrm rot="5400000">
                <a:off x="3105360" y="2039760"/>
                <a:ext cx="1961640" cy="1961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4603800">
                <a:off x="3868200" y="2365920"/>
                <a:ext cx="326880" cy="1199160"/>
              </a:xfrm>
              <a:custGeom>
                <a:avLst/>
                <a:gdLst>
                  <a:gd name="textAreaLeft" fmla="*/ 15840 w 326880"/>
                  <a:gd name="textAreaRight" fmla="*/ 311040 w 326880"/>
                  <a:gd name="textAreaTop" fmla="*/ 15840 h 1199160"/>
                  <a:gd name="textAreaBottom" fmla="*/ 1183320 h 1199160"/>
                </a:gdLst>
                <a:ahLst/>
                <a:rect l="textAreaLeft" t="textAreaTop" r="textAreaRight" b="textAreaBottom"/>
                <a:pathLst>
                  <a:path w="21600" h="79176">
                    <a:moveTo>
                      <a:pt x="3600" y="0"/>
                    </a:moveTo>
                    <a:arcTo wR="3600" hR="3600" stAng="16200000" swAng="-5400000"/>
                    <a:lnTo>
                      <a:pt x="0" y="75576"/>
                    </a:lnTo>
                    <a:arcTo wR="3600" hR="3600" stAng="10800000" swAng="-5400000"/>
                    <a:lnTo>
                      <a:pt x="18000" y="791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808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957480" y="2819520"/>
              <a:ext cx="308520" cy="289800"/>
              <a:chOff x="3957480" y="2819520"/>
              <a:chExt cx="308520" cy="289800"/>
            </a:xfrm>
          </p:grpSpPr>
          <p:sp>
            <p:nvSpPr>
              <p:cNvPr id="398" name=""/>
              <p:cNvSpPr/>
              <p:nvPr/>
            </p:nvSpPr>
            <p:spPr>
              <a:xfrm rot="7674000">
                <a:off x="4031640" y="2831040"/>
                <a:ext cx="159840" cy="26676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4007160" y="2883960"/>
                <a:ext cx="208080" cy="16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4060080" y="2900880"/>
                <a:ext cx="100080" cy="126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1" name=""/>
          <p:cNvGrpSpPr/>
          <p:nvPr/>
        </p:nvGrpSpPr>
        <p:grpSpPr>
          <a:xfrm>
            <a:off x="2701440" y="1638000"/>
            <a:ext cx="2767680" cy="2767680"/>
            <a:chOff x="2701440" y="1638000"/>
            <a:chExt cx="2767680" cy="2767680"/>
          </a:xfrm>
        </p:grpSpPr>
        <p:grpSp>
          <p:nvGrpSpPr>
            <p:cNvPr id="402" name=""/>
            <p:cNvGrpSpPr/>
            <p:nvPr/>
          </p:nvGrpSpPr>
          <p:grpSpPr>
            <a:xfrm>
              <a:off x="2701440" y="1638000"/>
              <a:ext cx="2767680" cy="2767680"/>
              <a:chOff x="2701440" y="1638000"/>
              <a:chExt cx="2767680" cy="2767680"/>
            </a:xfrm>
          </p:grpSpPr>
          <p:sp>
            <p:nvSpPr>
              <p:cNvPr id="403" name=""/>
              <p:cNvSpPr/>
              <p:nvPr/>
            </p:nvSpPr>
            <p:spPr>
              <a:xfrm rot="7761600">
                <a:off x="3101760" y="2038320"/>
                <a:ext cx="1966680" cy="196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6964800">
                <a:off x="3914640" y="2343600"/>
                <a:ext cx="327600" cy="1202040"/>
              </a:xfrm>
              <a:custGeom>
                <a:avLst/>
                <a:gdLst>
                  <a:gd name="textAreaLeft" fmla="*/ 15840 w 327600"/>
                  <a:gd name="textAreaRight" fmla="*/ 311760 w 327600"/>
                  <a:gd name="textAreaTop" fmla="*/ 15840 h 1202040"/>
                  <a:gd name="textAreaBottom" fmla="*/ 1186200 h 1202040"/>
                </a:gdLst>
                <a:ahLst/>
                <a:rect l="textAreaLeft" t="textAreaTop" r="textAreaRight" b="textAreaBottom"/>
                <a:pathLst>
                  <a:path w="21600" h="79192">
                    <a:moveTo>
                      <a:pt x="3600" y="0"/>
                    </a:moveTo>
                    <a:arcTo wR="3600" hR="3600" stAng="16200000" swAng="-5400000"/>
                    <a:lnTo>
                      <a:pt x="0" y="75592"/>
                    </a:lnTo>
                    <a:arcTo wR="3600" hR="3600" stAng="10800000" swAng="-5400000"/>
                    <a:lnTo>
                      <a:pt x="18000" y="7919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989520" y="2814480"/>
              <a:ext cx="161640" cy="266760"/>
              <a:chOff x="3989520" y="2814480"/>
              <a:chExt cx="161640" cy="266760"/>
            </a:xfrm>
          </p:grpSpPr>
          <p:sp>
            <p:nvSpPr>
              <p:cNvPr id="406" name=""/>
              <p:cNvSpPr/>
              <p:nvPr/>
            </p:nvSpPr>
            <p:spPr>
              <a:xfrm>
                <a:off x="3989520" y="2814480"/>
                <a:ext cx="159840" cy="26676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070160" y="2815920"/>
                <a:ext cx="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89520" y="2948400"/>
                <a:ext cx="161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3105000" y="2039760"/>
            <a:ext cx="1962000" cy="1962000"/>
            <a:chOff x="3105000" y="2039760"/>
            <a:chExt cx="1962000" cy="1962000"/>
          </a:xfrm>
        </p:grpSpPr>
        <p:grpSp>
          <p:nvGrpSpPr>
            <p:cNvPr id="410" name=""/>
            <p:cNvGrpSpPr/>
            <p:nvPr/>
          </p:nvGrpSpPr>
          <p:grpSpPr>
            <a:xfrm>
              <a:off x="3105000" y="2039760"/>
              <a:ext cx="1962000" cy="1962000"/>
              <a:chOff x="3105000" y="2039760"/>
              <a:chExt cx="1962000" cy="1962000"/>
            </a:xfrm>
          </p:grpSpPr>
          <p:sp>
            <p:nvSpPr>
              <p:cNvPr id="411" name=""/>
              <p:cNvSpPr/>
              <p:nvPr/>
            </p:nvSpPr>
            <p:spPr>
              <a:xfrm rot="10800000">
                <a:off x="3105000" y="2039760"/>
                <a:ext cx="1962000" cy="1962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0003200">
                <a:off x="3977280" y="2366640"/>
                <a:ext cx="326880" cy="1199160"/>
              </a:xfrm>
              <a:custGeom>
                <a:avLst/>
                <a:gdLst>
                  <a:gd name="textAreaLeft" fmla="*/ 15840 w 326880"/>
                  <a:gd name="textAreaRight" fmla="*/ 311040 w 326880"/>
                  <a:gd name="textAreaTop" fmla="*/ 15840 h 1199160"/>
                  <a:gd name="textAreaBottom" fmla="*/ 1183320 h 1199160"/>
                </a:gdLst>
                <a:ahLst/>
                <a:rect l="textAreaLeft" t="textAreaTop" r="textAreaRight" b="textAreaBottom"/>
                <a:pathLst>
                  <a:path w="21600" h="79176">
                    <a:moveTo>
                      <a:pt x="3600" y="0"/>
                    </a:moveTo>
                    <a:arcTo wR="3600" hR="3600" stAng="16200000" swAng="-5400000"/>
                    <a:lnTo>
                      <a:pt x="0" y="75576"/>
                    </a:lnTo>
                    <a:arcTo wR="3600" hR="3600" stAng="10800000" swAng="-5400000"/>
                    <a:lnTo>
                      <a:pt x="18000" y="791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808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988080" y="2802600"/>
              <a:ext cx="290160" cy="308520"/>
              <a:chOff x="3988080" y="2802600"/>
              <a:chExt cx="290160" cy="308520"/>
            </a:xfrm>
          </p:grpSpPr>
          <p:sp>
            <p:nvSpPr>
              <p:cNvPr id="414" name=""/>
              <p:cNvSpPr/>
              <p:nvPr/>
            </p:nvSpPr>
            <p:spPr>
              <a:xfrm rot="2274000">
                <a:off x="4052880" y="2823480"/>
                <a:ext cx="160200" cy="26640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4053240" y="2853360"/>
                <a:ext cx="161640" cy="207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069440" y="2908080"/>
                <a:ext cx="127080" cy="10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2701440" y="1638000"/>
            <a:ext cx="2767680" cy="2767680"/>
            <a:chOff x="2701440" y="1638000"/>
            <a:chExt cx="2767680" cy="2767680"/>
          </a:xfrm>
        </p:grpSpPr>
        <p:grpSp>
          <p:nvGrpSpPr>
            <p:cNvPr id="418" name=""/>
            <p:cNvGrpSpPr/>
            <p:nvPr/>
          </p:nvGrpSpPr>
          <p:grpSpPr>
            <a:xfrm>
              <a:off x="2701440" y="1638000"/>
              <a:ext cx="2767680" cy="2767680"/>
              <a:chOff x="2701440" y="1638000"/>
              <a:chExt cx="2767680" cy="2767680"/>
            </a:xfrm>
          </p:grpSpPr>
          <p:sp>
            <p:nvSpPr>
              <p:cNvPr id="419" name=""/>
              <p:cNvSpPr/>
              <p:nvPr/>
            </p:nvSpPr>
            <p:spPr>
              <a:xfrm rot="13162200">
                <a:off x="3101760" y="2038320"/>
                <a:ext cx="1966320" cy="1966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2365400">
                <a:off x="3998160" y="2413440"/>
                <a:ext cx="327600" cy="1202040"/>
              </a:xfrm>
              <a:custGeom>
                <a:avLst/>
                <a:gdLst>
                  <a:gd name="textAreaLeft" fmla="*/ 15840 w 327600"/>
                  <a:gd name="textAreaRight" fmla="*/ 311760 w 327600"/>
                  <a:gd name="textAreaTop" fmla="*/ 15840 h 1202040"/>
                  <a:gd name="textAreaBottom" fmla="*/ 1186200 h 1202040"/>
                </a:gdLst>
                <a:ahLst/>
                <a:rect l="textAreaLeft" t="textAreaTop" r="textAreaRight" b="textAreaBottom"/>
                <a:pathLst>
                  <a:path w="21600" h="79192">
                    <a:moveTo>
                      <a:pt x="3600" y="0"/>
                    </a:moveTo>
                    <a:arcTo wR="3600" hR="3600" stAng="16200000" swAng="-5400000"/>
                    <a:lnTo>
                      <a:pt x="0" y="75592"/>
                    </a:lnTo>
                    <a:arcTo wR="3600" hR="3600" stAng="10800000" swAng="-5400000"/>
                    <a:lnTo>
                      <a:pt x="18000" y="7919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4052520" y="2905200"/>
              <a:ext cx="266760" cy="162000"/>
              <a:chOff x="4052520" y="2905200"/>
              <a:chExt cx="266760" cy="162000"/>
            </a:xfrm>
          </p:grpSpPr>
          <p:sp>
            <p:nvSpPr>
              <p:cNvPr id="422" name=""/>
              <p:cNvSpPr/>
              <p:nvPr/>
            </p:nvSpPr>
            <p:spPr>
              <a:xfrm rot="5400000">
                <a:off x="4105800" y="2851920"/>
                <a:ext cx="160200" cy="26676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054320" y="2986200"/>
                <a:ext cx="2635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4184280" y="2905200"/>
                <a:ext cx="1080" cy="16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3105000" y="2041920"/>
            <a:ext cx="1961640" cy="1961640"/>
            <a:chOff x="3105000" y="2041920"/>
            <a:chExt cx="1961640" cy="1961640"/>
          </a:xfrm>
        </p:grpSpPr>
        <p:grpSp>
          <p:nvGrpSpPr>
            <p:cNvPr id="426" name=""/>
            <p:cNvGrpSpPr/>
            <p:nvPr/>
          </p:nvGrpSpPr>
          <p:grpSpPr>
            <a:xfrm>
              <a:off x="3105000" y="2041920"/>
              <a:ext cx="1961640" cy="1961640"/>
              <a:chOff x="3105000" y="2041920"/>
              <a:chExt cx="1961640" cy="1961640"/>
            </a:xfrm>
          </p:grpSpPr>
          <p:sp>
            <p:nvSpPr>
              <p:cNvPr id="427" name=""/>
              <p:cNvSpPr/>
              <p:nvPr/>
            </p:nvSpPr>
            <p:spPr>
              <a:xfrm rot="16200000">
                <a:off x="3105000" y="2041920"/>
                <a:ext cx="1961640" cy="1961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5403200">
                <a:off x="3976560" y="2477880"/>
                <a:ext cx="326880" cy="1199160"/>
              </a:xfrm>
              <a:custGeom>
                <a:avLst/>
                <a:gdLst>
                  <a:gd name="textAreaLeft" fmla="*/ 15840 w 326880"/>
                  <a:gd name="textAreaRight" fmla="*/ 311040 w 326880"/>
                  <a:gd name="textAreaTop" fmla="*/ 15840 h 1199160"/>
                  <a:gd name="textAreaBottom" fmla="*/ 1183320 h 1199160"/>
                </a:gdLst>
                <a:ahLst/>
                <a:rect l="textAreaLeft" t="textAreaTop" r="textAreaRight" b="textAreaBottom"/>
                <a:pathLst>
                  <a:path w="21600" h="79176">
                    <a:moveTo>
                      <a:pt x="3600" y="0"/>
                    </a:moveTo>
                    <a:arcTo wR="3600" hR="3600" stAng="16200000" swAng="-5400000"/>
                    <a:lnTo>
                      <a:pt x="0" y="75576"/>
                    </a:lnTo>
                    <a:arcTo wR="3600" hR="3600" stAng="10800000" swAng="-5400000"/>
                    <a:lnTo>
                      <a:pt x="18000" y="791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808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3995640" y="2926080"/>
              <a:ext cx="308520" cy="289800"/>
              <a:chOff x="3995640" y="2926080"/>
              <a:chExt cx="308520" cy="289800"/>
            </a:xfrm>
          </p:grpSpPr>
          <p:sp>
            <p:nvSpPr>
              <p:cNvPr id="430" name=""/>
              <p:cNvSpPr/>
              <p:nvPr/>
            </p:nvSpPr>
            <p:spPr>
              <a:xfrm rot="7674000">
                <a:off x="4069800" y="2937600"/>
                <a:ext cx="159840" cy="26676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flipV="1">
                <a:off x="4045320" y="2990520"/>
                <a:ext cx="208080" cy="16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4098240" y="3007440"/>
                <a:ext cx="100080" cy="126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3" name=""/>
          <p:cNvGrpSpPr/>
          <p:nvPr/>
        </p:nvGrpSpPr>
        <p:grpSpPr>
          <a:xfrm>
            <a:off x="2679480" y="1600920"/>
            <a:ext cx="2788200" cy="2784600"/>
            <a:chOff x="2679480" y="1600920"/>
            <a:chExt cx="2788200" cy="2784600"/>
          </a:xfrm>
        </p:grpSpPr>
        <p:grpSp>
          <p:nvGrpSpPr>
            <p:cNvPr id="434" name=""/>
            <p:cNvGrpSpPr/>
            <p:nvPr/>
          </p:nvGrpSpPr>
          <p:grpSpPr>
            <a:xfrm>
              <a:off x="2679480" y="1600920"/>
              <a:ext cx="2788200" cy="2784600"/>
              <a:chOff x="2679480" y="1600920"/>
              <a:chExt cx="2788200" cy="2784600"/>
            </a:xfrm>
          </p:grpSpPr>
          <p:sp>
            <p:nvSpPr>
              <p:cNvPr id="435" name=""/>
              <p:cNvSpPr/>
              <p:nvPr/>
            </p:nvSpPr>
            <p:spPr>
              <a:xfrm rot="7761600">
                <a:off x="3090240" y="1996560"/>
                <a:ext cx="1966320" cy="1993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6964800">
                <a:off x="3901680" y="2306160"/>
                <a:ext cx="327600" cy="1218600"/>
              </a:xfrm>
              <a:custGeom>
                <a:avLst/>
                <a:gdLst>
                  <a:gd name="textAreaLeft" fmla="*/ 15840 w 327600"/>
                  <a:gd name="textAreaRight" fmla="*/ 311760 w 327600"/>
                  <a:gd name="textAreaTop" fmla="*/ 15840 h 1218600"/>
                  <a:gd name="textAreaBottom" fmla="*/ 1202760 h 1218600"/>
                </a:gdLst>
                <a:ahLst/>
                <a:rect l="textAreaLeft" t="textAreaTop" r="textAreaRight" b="textAreaBottom"/>
                <a:pathLst>
                  <a:path w="21600" h="80283">
                    <a:moveTo>
                      <a:pt x="3600" y="0"/>
                    </a:moveTo>
                    <a:arcTo wR="3600" hR="3600" stAng="16200000" swAng="-5400000"/>
                    <a:lnTo>
                      <a:pt x="0" y="76683"/>
                    </a:lnTo>
                    <a:arcTo wR="3600" hR="3600" stAng="10800000" swAng="-5400000"/>
                    <a:lnTo>
                      <a:pt x="18000" y="80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3969720" y="2779560"/>
              <a:ext cx="164160" cy="266760"/>
              <a:chOff x="3969720" y="2779560"/>
              <a:chExt cx="164160" cy="266760"/>
            </a:xfrm>
          </p:grpSpPr>
          <p:sp>
            <p:nvSpPr>
              <p:cNvPr id="438" name=""/>
              <p:cNvSpPr/>
              <p:nvPr/>
            </p:nvSpPr>
            <p:spPr>
              <a:xfrm>
                <a:off x="3969720" y="2779560"/>
                <a:ext cx="162360" cy="26676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051800" y="2781000"/>
                <a:ext cx="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69720" y="2913480"/>
                <a:ext cx="1641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3098880" y="2035080"/>
            <a:ext cx="1971360" cy="2035080"/>
            <a:chOff x="3098880" y="2035080"/>
            <a:chExt cx="1971360" cy="2035080"/>
          </a:xfrm>
        </p:grpSpPr>
        <p:sp>
          <p:nvSpPr>
            <p:cNvPr id="442" name=""/>
            <p:cNvSpPr/>
            <p:nvPr/>
          </p:nvSpPr>
          <p:spPr>
            <a:xfrm>
              <a:off x="4084560" y="2035080"/>
              <a:ext cx="0" cy="20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98880" y="3052440"/>
              <a:ext cx="19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4556160" y="2206800"/>
            <a:ext cx="467676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Dos rayos con dirección de vibración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 . Cada 90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 la intensidad de uno de ellos es cero y el otro vibr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||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 al polarizador inferior, la luz no pasa y se ve extinguido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c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693720" y="794880"/>
            <a:ext cx="2597040" cy="1575000"/>
            <a:chOff x="693720" y="794880"/>
            <a:chExt cx="2597040" cy="1575000"/>
          </a:xfrm>
        </p:grpSpPr>
        <p:sp>
          <p:nvSpPr>
            <p:cNvPr id="447" name=""/>
            <p:cNvSpPr/>
            <p:nvPr/>
          </p:nvSpPr>
          <p:spPr>
            <a:xfrm rot="16200000">
              <a:off x="1212840" y="285840"/>
              <a:ext cx="1558800" cy="259704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3440" y="1590840"/>
              <a:ext cx="25714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984320" y="794880"/>
              <a:ext cx="7920" cy="1575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36520" y="16200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ote el cristal mientras observa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204920" y="3405240"/>
            <a:ext cx="1574640" cy="2597040"/>
            <a:chOff x="1204920" y="3405240"/>
            <a:chExt cx="1574640" cy="2597040"/>
          </a:xfrm>
        </p:grpSpPr>
        <p:sp>
          <p:nvSpPr>
            <p:cNvPr id="452" name=""/>
            <p:cNvSpPr/>
            <p:nvPr/>
          </p:nvSpPr>
          <p:spPr>
            <a:xfrm>
              <a:off x="1211400" y="3405240"/>
              <a:ext cx="1558800" cy="259704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84320" y="3414600"/>
              <a:ext cx="0" cy="25718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04920" y="4695840"/>
              <a:ext cx="1574640" cy="79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475080" y="961920"/>
            <a:ext cx="54766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 = dirección de vibración del polarizador es paralela 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E-ray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 Analizador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extint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 = dirección vibración del polarizador ||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O-rayo 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ambié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extin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con analizado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74800" y="2589120"/>
            <a:ext cx="1947600" cy="587520"/>
            <a:chOff x="874800" y="2589120"/>
            <a:chExt cx="1947600" cy="587520"/>
          </a:xfrm>
        </p:grpSpPr>
        <p:sp>
          <p:nvSpPr>
            <p:cNvPr id="457" name=""/>
            <p:cNvSpPr/>
            <p:nvPr/>
          </p:nvSpPr>
          <p:spPr>
            <a:xfrm>
              <a:off x="874800" y="2589120"/>
              <a:ext cx="1947600" cy="587520"/>
            </a:xfrm>
            <a:prstGeom prst="leftRightArrow">
              <a:avLst>
                <a:gd name="adj1" fmla="val 50000"/>
                <a:gd name="adj2" fmla="val 65992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19040" y="2644920"/>
              <a:ext cx="134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Times New Roman"/>
                </a:rPr>
                <a:t>polarizador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96000" y="12985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91000" y="22604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43480" y="44416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26280" y="59245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c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060720" y="4216320"/>
            <a:ext cx="5689440" cy="1282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3795200">
            <a:off x="1091880" y="907560"/>
            <a:ext cx="1559160" cy="259704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680" y="174600"/>
            <a:ext cx="8067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ote el cristal mientras observa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97080" y="1633680"/>
            <a:ext cx="5843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631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uz polarizada tiene un componente de cada un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631800" indent="-631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separa e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os rayo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631800" indent="-631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es O-rayo con n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631800" indent="-631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otro es E-rayo con n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631800" indent="-631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uando los rayos salen del cristal s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recombina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631800" indent="-6318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1640" y="293364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10120" y="268596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889560" y="1386720"/>
            <a:ext cx="1967400" cy="1655640"/>
            <a:chOff x="889560" y="1386720"/>
            <a:chExt cx="1967400" cy="1655640"/>
          </a:xfrm>
        </p:grpSpPr>
        <p:sp>
          <p:nvSpPr>
            <p:cNvPr id="471" name=""/>
            <p:cNvSpPr/>
            <p:nvPr/>
          </p:nvSpPr>
          <p:spPr>
            <a:xfrm flipV="1">
              <a:off x="889560" y="1386720"/>
              <a:ext cx="1967400" cy="165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1363680" y="1603440"/>
              <a:ext cx="1008000" cy="1209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076400" y="2209680"/>
              <a:ext cx="1587600" cy="792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2334960" y="1824120"/>
              <a:ext cx="314280" cy="371520"/>
            </a:xfrm>
            <a:prstGeom prst="line">
              <a:avLst/>
            </a:prstGeom>
            <a:ln w="19080">
              <a:solidFill>
                <a:srgbClr val="ff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216160" y="2215800"/>
              <a:ext cx="420840" cy="392040"/>
            </a:xfrm>
            <a:prstGeom prst="line">
              <a:avLst/>
            </a:prstGeom>
            <a:ln w="19080">
              <a:solidFill>
                <a:srgbClr val="ff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1420920" y="1846080"/>
              <a:ext cx="885600" cy="75564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1525320" y="1801800"/>
              <a:ext cx="677880" cy="80496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092240" y="1796760"/>
              <a:ext cx="420480" cy="392040"/>
            </a:xfrm>
            <a:prstGeom prst="line">
              <a:avLst/>
            </a:prstGeom>
            <a:ln w="19080">
              <a:solidFill>
                <a:srgbClr val="ff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1068120" y="2205000"/>
              <a:ext cx="314280" cy="371520"/>
            </a:xfrm>
            <a:prstGeom prst="line">
              <a:avLst/>
            </a:prstGeom>
            <a:ln w="19080">
              <a:solidFill>
                <a:srgbClr val="ff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801720" y="3432240"/>
            <a:ext cx="1947600" cy="587160"/>
            <a:chOff x="801720" y="3432240"/>
            <a:chExt cx="1947600" cy="587160"/>
          </a:xfrm>
        </p:grpSpPr>
        <p:sp>
          <p:nvSpPr>
            <p:cNvPr id="481" name=""/>
            <p:cNvSpPr/>
            <p:nvPr/>
          </p:nvSpPr>
          <p:spPr>
            <a:xfrm>
              <a:off x="801720" y="3432240"/>
              <a:ext cx="1947600" cy="587160"/>
            </a:xfrm>
            <a:prstGeom prst="leftRightArrow">
              <a:avLst>
                <a:gd name="adj1" fmla="val 50000"/>
                <a:gd name="adj2" fmla="val 66032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45960" y="3487680"/>
              <a:ext cx="134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Times New Roman"/>
                </a:rPr>
                <a:t>polarizador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c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0280" y="1080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Comic Sans MS"/>
              </a:rPr>
              <a:t>RE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71080" y="942840"/>
            <a:ext cx="54673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ita: Fig 6-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 rayos, c/u polar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bra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tre si  &amp; en el plano de  incidenci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triz- uniax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cualquier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-rayo vibra paralelo 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-rayo vibra paralelo 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Princip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Circu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270000" y="5989680"/>
            <a:ext cx="47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'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 “direcciones privilegiadas de vibración”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100480" y="3029040"/>
            <a:ext cx="1889280" cy="2334960"/>
            <a:chOff x="5100480" y="3029040"/>
            <a:chExt cx="1889280" cy="2334960"/>
          </a:xfrm>
        </p:grpSpPr>
        <p:pic>
          <p:nvPicPr>
            <p:cNvPr id="488" name="" descr=""/>
            <p:cNvPicPr/>
            <p:nvPr/>
          </p:nvPicPr>
          <p:blipFill>
            <a:blip r:embed="rId1"/>
            <a:srcRect l="46335" t="0" r="0" b="0"/>
            <a:stretch/>
          </p:blipFill>
          <p:spPr>
            <a:xfrm>
              <a:off x="5100480" y="3029040"/>
              <a:ext cx="1889280" cy="23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5102280" y="3029040"/>
              <a:ext cx="665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Optic Axis</a:t>
              </a:r>
              <a:endParaRPr b="0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102440" y="4138560"/>
            <a:ext cx="1957320" cy="2597040"/>
            <a:chOff x="7102440" y="4138560"/>
            <a:chExt cx="1957320" cy="2597040"/>
          </a:xfrm>
        </p:grpSpPr>
        <p:pic>
          <p:nvPicPr>
            <p:cNvPr id="491" name="" descr=""/>
            <p:cNvPicPr/>
            <p:nvPr/>
          </p:nvPicPr>
          <p:blipFill>
            <a:blip r:embed="rId2"/>
            <a:srcRect l="50269" t="0" r="0" b="0"/>
            <a:stretch/>
          </p:blipFill>
          <p:spPr>
            <a:xfrm>
              <a:off x="7102440" y="4138560"/>
              <a:ext cx="195732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102440" y="4160880"/>
              <a:ext cx="665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Optic Axis</a:t>
              </a:r>
              <a:endParaRPr b="0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81080" y="4276800"/>
            <a:ext cx="1195200" cy="1844640"/>
          </a:xfrm>
          <a:custGeom>
            <a:avLst/>
            <a:gdLst/>
            <a:ahLst/>
            <a:rect l="l" t="t" r="r" b="b"/>
            <a:pathLst>
              <a:path w="753" h="1162">
                <a:moveTo>
                  <a:pt x="61" y="1162"/>
                </a:moveTo>
                <a:cubicBezTo>
                  <a:pt x="30" y="772"/>
                  <a:pt x="0" y="382"/>
                  <a:pt x="115" y="191"/>
                </a:cubicBezTo>
                <a:cubicBezTo>
                  <a:pt x="230" y="0"/>
                  <a:pt x="647" y="46"/>
                  <a:pt x="753" y="17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259680" y="204840"/>
            <a:ext cx="2761920" cy="2746440"/>
            <a:chOff x="6259680" y="204840"/>
            <a:chExt cx="2761920" cy="2746440"/>
          </a:xfrm>
        </p:grpSpPr>
        <p:pic>
          <p:nvPicPr>
            <p:cNvPr id="495" name="" descr=""/>
            <p:cNvPicPr/>
            <p:nvPr/>
          </p:nvPicPr>
          <p:blipFill>
            <a:blip r:embed="rId3"/>
            <a:stretch/>
          </p:blipFill>
          <p:spPr>
            <a:xfrm>
              <a:off x="6259680" y="204840"/>
              <a:ext cx="276192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367400" y="331920"/>
              <a:ext cx="74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O         E</a:t>
              </a:r>
              <a:endParaRPr b="0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c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849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Comic Sans MS"/>
              </a:rPr>
              <a:t>Birrefringenc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602160" y="858960"/>
            <a:ext cx="530856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luz polarizada plana entra xl. &amp; resuelta en 2 rayos (si no es ||al eje óptico),que vibra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tre si &amp;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vi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a diferentes velocidad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pues tienen diferente 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Así viajarán diff # of </a:t>
            </a:r>
            <a:r>
              <a:rPr b="0" lang="es-ES_tradnl" sz="2000" spc="-1" strike="noStrike">
                <a:solidFill>
                  <a:srgbClr val="990033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aún si la frecuencia es igual o simila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Así si están en fase al entrar, no lo estarán al salir 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dif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 de 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trayectoria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tre O-rayo y E-rayo 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= t (|</a:t>
            </a:r>
            <a:r>
              <a:rPr b="0" lang="es-ES_tradnl" sz="2000" spc="-1" strike="noStrike">
                <a:solidFill>
                  <a:srgbClr val="990033"/>
                </a:solidFill>
                <a:latin typeface="Symbol"/>
                <a:ea typeface="Symbol"/>
              </a:rPr>
              <a:t>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990033"/>
                </a:solidFill>
                <a:latin typeface="Symbol"/>
                <a:ea typeface="Symbol"/>
              </a:rPr>
              <a:t>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'|)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(t =espe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lor absoluto pues el cristal puede ser (+) or (-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tonces = t(N-n) y cada mineral tiene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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único,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s así una función del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espeso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del 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miner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observado, y de la </a:t>
            </a:r>
            <a:r>
              <a:rPr b="0" lang="es-ES_tradnl" sz="2000" spc="-1" strike="noStrike">
                <a:solidFill>
                  <a:srgbClr val="990033"/>
                </a:solidFill>
                <a:latin typeface="Comic Sans MS"/>
              </a:rPr>
              <a:t>orient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0" y="1170000"/>
            <a:ext cx="3703680" cy="5462280"/>
            <a:chOff x="0" y="1170000"/>
            <a:chExt cx="3703680" cy="5462280"/>
          </a:xfrm>
        </p:grpSpPr>
        <p:pic>
          <p:nvPicPr>
            <p:cNvPr id="501" name="" descr=""/>
            <p:cNvPicPr/>
            <p:nvPr/>
          </p:nvPicPr>
          <p:blipFill>
            <a:blip r:embed="rId1"/>
            <a:stretch/>
          </p:blipFill>
          <p:spPr>
            <a:xfrm>
              <a:off x="0" y="1170000"/>
              <a:ext cx="3703680" cy="54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42840" y="1228680"/>
              <a:ext cx="143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ig 7-3 Bloss, Optical Crystallography, MSA</a:t>
              </a:r>
              <a:endParaRPr b="0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4880" y="431640"/>
            <a:ext cx="73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abíamos visto que los mineral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orienta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s  planos en que está vibrando la luz; parte de esa luz pasa a través del analizado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7120" y="2260440"/>
            <a:ext cx="4329360" cy="2355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85880" y="36939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60a07"/>
                </a:solidFill>
                <a:latin typeface="Comic Sans MS"/>
              </a:rPr>
              <a:t>olivino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6640" y="2998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60a07"/>
                </a:solidFill>
                <a:latin typeface="Comic Sans MS"/>
              </a:rPr>
              <a:t>plag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34000" y="2273400"/>
            <a:ext cx="3830400" cy="235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11800" y="5288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P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3080" y="5357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P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33640" y="0"/>
            <a:ext cx="8010360" cy="70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Comic Sans MS"/>
              </a:rPr>
              <a:t>Refracción: sucede cuando la luz pasa de un medio a otro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Rayo </a:t>
            </a:r>
            <a:r>
              <a:rPr b="0" lang="es-ES_tradnl" sz="2800" spc="-1" strike="noStrike">
                <a:solidFill>
                  <a:srgbClr val="00cc00"/>
                </a:solidFill>
                <a:latin typeface="Comic Sans MS"/>
              </a:rPr>
              <a:t>incidente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y rayo </a:t>
            </a:r>
            <a:r>
              <a:rPr b="0" lang="es-ES_tradnl" sz="2800" spc="-1" strike="noStrike">
                <a:solidFill>
                  <a:srgbClr val="00cc00"/>
                </a:solidFill>
                <a:latin typeface="Comic Sans MS"/>
              </a:rPr>
              <a:t>reflejado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1) </a:t>
            </a:r>
            <a:r>
              <a:rPr b="0" lang="es-ES_tradnl" sz="2800" spc="-1" strike="noStrike">
                <a:solidFill>
                  <a:srgbClr val="ff9933"/>
                </a:solidFill>
                <a:latin typeface="Symbol"/>
                <a:ea typeface="Symbol"/>
              </a:rPr>
              <a:t>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de incidencia i = </a:t>
            </a:r>
            <a:r>
              <a:rPr b="0" lang="es-ES_tradnl" sz="2800" spc="-1" strike="noStrike">
                <a:solidFill>
                  <a:srgbClr val="ff9933"/>
                </a:solidFill>
                <a:latin typeface="Symbol"/>
                <a:ea typeface="Symbol"/>
              </a:rPr>
              <a:t>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de reflexión r'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2) coplanares con </a:t>
            </a:r>
            <a:r>
              <a:rPr b="0" lang="es-ES_tradnl" sz="2800" spc="-1" strike="noStrike">
                <a:solidFill>
                  <a:srgbClr val="ffff00"/>
                </a:solidFill>
                <a:latin typeface="Comic Sans MS"/>
              </a:rPr>
              <a:t>“plano de incidencia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(</a:t>
            </a:r>
            <a:r>
              <a:rPr b="0" lang="es-ES_tradnl" sz="2800" spc="-1" strike="noStrike">
                <a:solidFill>
                  <a:srgbClr val="ff9933"/>
                </a:solidFill>
                <a:latin typeface="Symbol"/>
                <a:ea typeface="Symbol"/>
              </a:rPr>
              <a:t>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al </a:t>
            </a:r>
            <a:r>
              <a:rPr b="0" lang="es-ES_tradnl" sz="2800" spc="-1" strike="noStrike">
                <a:solidFill>
                  <a:srgbClr val="ffff00"/>
                </a:solidFill>
                <a:latin typeface="Comic Sans MS"/>
              </a:rPr>
              <a:t>plano de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Comic Sans MS"/>
              </a:rPr>
              <a:t>interfase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Rayo</a:t>
            </a:r>
            <a:r>
              <a:rPr b="0" lang="es-ES_tradnl" sz="2800" spc="-1" strike="noStrike">
                <a:solidFill>
                  <a:srgbClr val="00cc00"/>
                </a:solidFill>
                <a:latin typeface="Comic Sans MS"/>
              </a:rPr>
              <a:t> Refractado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3" marL="132876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1) Más lento en agua (o vidrio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3" marL="132876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3" marL="132876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2) </a:t>
            </a:r>
            <a:r>
              <a:rPr b="0" lang="es-ES_tradnl" sz="2800" spc="-1" strike="noStrike">
                <a:solidFill>
                  <a:srgbClr val="ff9933"/>
                </a:solidFill>
                <a:latin typeface="Symbol"/>
                <a:ea typeface="Symbol"/>
              </a:rPr>
              <a:t>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r </a:t>
            </a:r>
            <a:r>
              <a:rPr b="0" lang="es-ES_tradnl" sz="2800" spc="-1" strike="noStrike">
                <a:solidFill>
                  <a:srgbClr val="ff9933"/>
                </a:solidFill>
                <a:latin typeface="Symbol"/>
                <a:ea typeface="Symbol"/>
              </a:rPr>
              <a:t>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9933"/>
                </a:solidFill>
                <a:latin typeface="Symbol"/>
                <a:ea typeface="Symbol"/>
              </a:rPr>
              <a:t>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 i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3" marL="132876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920" y="4389480"/>
            <a:ext cx="2917800" cy="1566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17760" y="2622600"/>
            <a:ext cx="3240" cy="396540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2320" y="2960640"/>
            <a:ext cx="839880" cy="14288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35040" y="4432320"/>
            <a:ext cx="389160" cy="14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544760" y="2925360"/>
            <a:ext cx="907920" cy="14540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24303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cident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2720" y="29624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flejad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7600" y="34956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ir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57440" y="6040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fractado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9680" y="484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u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1320" y="3549600"/>
            <a:ext cx="388800" cy="181080"/>
          </a:xfrm>
          <a:custGeom>
            <a:avLst/>
            <a:gdLst/>
            <a:ahLst/>
            <a:rect l="l" t="t" r="r" b="b"/>
            <a:pathLst>
              <a:path w="245" h="114">
                <a:moveTo>
                  <a:pt x="0" y="114"/>
                </a:moveTo>
                <a:cubicBezTo>
                  <a:pt x="34" y="73"/>
                  <a:pt x="68" y="32"/>
                  <a:pt x="109" y="16"/>
                </a:cubicBezTo>
                <a:cubicBezTo>
                  <a:pt x="150" y="0"/>
                  <a:pt x="222" y="16"/>
                  <a:pt x="245" y="16"/>
                </a:cubicBezTo>
              </a:path>
            </a:pathLst>
          </a:custGeom>
          <a:noFill/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1760" y="3166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9600" y="3357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’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0640" y="5313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5040" y="3770280"/>
            <a:ext cx="277920" cy="150840"/>
          </a:xfrm>
          <a:custGeom>
            <a:avLst/>
            <a:gdLst/>
            <a:ahLst/>
            <a:rect l="l" t="t" r="r" b="b"/>
            <a:pathLst>
              <a:path w="175" h="95">
                <a:moveTo>
                  <a:pt x="0" y="8"/>
                </a:moveTo>
                <a:cubicBezTo>
                  <a:pt x="40" y="4"/>
                  <a:pt x="80" y="0"/>
                  <a:pt x="109" y="14"/>
                </a:cubicBezTo>
                <a:cubicBezTo>
                  <a:pt x="138" y="28"/>
                  <a:pt x="164" y="82"/>
                  <a:pt x="175" y="95"/>
                </a:cubicBezTo>
              </a:path>
            </a:pathLst>
          </a:custGeom>
          <a:noFill/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17760" y="5281560"/>
            <a:ext cx="233280" cy="112680"/>
          </a:xfrm>
          <a:custGeom>
            <a:avLst/>
            <a:gdLst/>
            <a:ahLst/>
            <a:rect l="l" t="t" r="r" b="b"/>
            <a:pathLst>
              <a:path w="147" h="71">
                <a:moveTo>
                  <a:pt x="0" y="65"/>
                </a:moveTo>
                <a:cubicBezTo>
                  <a:pt x="23" y="68"/>
                  <a:pt x="47" y="71"/>
                  <a:pt x="71" y="60"/>
                </a:cubicBezTo>
                <a:cubicBezTo>
                  <a:pt x="95" y="49"/>
                  <a:pt x="134" y="11"/>
                  <a:pt x="147" y="0"/>
                </a:cubicBezTo>
              </a:path>
            </a:pathLst>
          </a:custGeom>
          <a:noFill/>
          <a:ln w="1908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0320" y="1322280"/>
            <a:ext cx="8556480" cy="51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a sustancia x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air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air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??  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Es 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agu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mayor o menor que 1?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luz es más lenta en agua,vidrio, crist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yor n asociado con menor v !!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Ley de Snell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 sen i = n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 sen 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ra 2 medios conocidos(aire/agua) sen i/sen r =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/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=ct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 medida del ángulo de refracción es un método frecuente para determinar el índice de refracción de un mineral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38560" y="3492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Índice de refracció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681520" y="1698480"/>
            <a:ext cx="2698920" cy="1001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opiedades de los minerales en LPP : </a:t>
            </a:r>
            <a:r>
              <a:rPr b="1" lang="es-ES_tradnl" sz="2000" spc="-1" strike="noStrike">
                <a:solidFill>
                  <a:srgbClr val="e60a07"/>
                </a:solidFill>
                <a:latin typeface="Comic Sans MS"/>
              </a:rPr>
              <a:t>relieve en g.s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440" y="101916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lieve es una medida de la diferencia </a:t>
            </a: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relativa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en </a:t>
            </a: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tre un grano de mineral y su entorno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relieve se determina visualmente, en LPP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relieve se usa para determinar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2600" y="1766880"/>
            <a:ext cx="37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granate: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 = 1.72-1.89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uarzo: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 = 1.54-1.55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poxy: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 = 1.54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5520" y="600696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cuarzo tiene relieve bajo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440" y="2425680"/>
            <a:ext cx="4232160" cy="3427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368960" y="2844720"/>
            <a:ext cx="4572000" cy="3044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02600" y="60706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granate tiene relieve alto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0344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produce el relieve?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05720" y="2590920"/>
            <a:ext cx="7025040" cy="3405960"/>
            <a:chOff x="1305720" y="2590920"/>
            <a:chExt cx="7025040" cy="3405960"/>
          </a:xfrm>
        </p:grpSpPr>
        <p:grpSp>
          <p:nvGrpSpPr>
            <p:cNvPr id="86" name=""/>
            <p:cNvGrpSpPr/>
            <p:nvPr/>
          </p:nvGrpSpPr>
          <p:grpSpPr>
            <a:xfrm>
              <a:off x="1371600" y="3142800"/>
              <a:ext cx="6560640" cy="2854080"/>
              <a:chOff x="1371600" y="3142800"/>
              <a:chExt cx="6560640" cy="285408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683160" y="3418920"/>
                <a:ext cx="1628640" cy="1791360"/>
                <a:chOff x="3683160" y="3418920"/>
                <a:chExt cx="1628640" cy="1791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83160" y="3591000"/>
                  <a:ext cx="1628640" cy="976320"/>
                </a:xfrm>
                <a:custGeom>
                  <a:avLst/>
                  <a:gdLst/>
                  <a:ahLst/>
                  <a:rect l="l" t="t" r="r" b="b"/>
                  <a:pathLst>
                    <a:path w="1129" h="680">
                      <a:moveTo>
                        <a:pt x="72" y="376"/>
                      </a:moveTo>
                      <a:cubicBezTo>
                        <a:pt x="49" y="409"/>
                        <a:pt x="13" y="416"/>
                        <a:pt x="0" y="456"/>
                      </a:cubicBezTo>
                      <a:cubicBezTo>
                        <a:pt x="40" y="486"/>
                        <a:pt x="51" y="529"/>
                        <a:pt x="88" y="552"/>
                      </a:cubicBezTo>
                      <a:cubicBezTo>
                        <a:pt x="112" y="567"/>
                        <a:pt x="168" y="597"/>
                        <a:pt x="200" y="608"/>
                      </a:cubicBezTo>
                      <a:cubicBezTo>
                        <a:pt x="248" y="680"/>
                        <a:pt x="329" y="612"/>
                        <a:pt x="392" y="608"/>
                      </a:cubicBezTo>
                      <a:cubicBezTo>
                        <a:pt x="487" y="600"/>
                        <a:pt x="584" y="602"/>
                        <a:pt x="680" y="600"/>
                      </a:cubicBezTo>
                      <a:cubicBezTo>
                        <a:pt x="765" y="594"/>
                        <a:pt x="852" y="601"/>
                        <a:pt x="936" y="584"/>
                      </a:cubicBezTo>
                      <a:cubicBezTo>
                        <a:pt x="958" y="579"/>
                        <a:pt x="984" y="536"/>
                        <a:pt x="984" y="536"/>
                      </a:cubicBezTo>
                      <a:cubicBezTo>
                        <a:pt x="1000" y="485"/>
                        <a:pt x="1038" y="473"/>
                        <a:pt x="1088" y="464"/>
                      </a:cubicBezTo>
                      <a:cubicBezTo>
                        <a:pt x="1129" y="436"/>
                        <a:pt x="1123" y="449"/>
                        <a:pt x="1120" y="368"/>
                      </a:cubicBezTo>
                      <a:cubicBezTo>
                        <a:pt x="1115" y="249"/>
                        <a:pt x="1099" y="112"/>
                        <a:pt x="968" y="80"/>
                      </a:cubicBezTo>
                      <a:cubicBezTo>
                        <a:pt x="845" y="85"/>
                        <a:pt x="750" y="96"/>
                        <a:pt x="632" y="88"/>
                      </a:cubicBezTo>
                      <a:cubicBezTo>
                        <a:pt x="559" y="69"/>
                        <a:pt x="588" y="78"/>
                        <a:pt x="544" y="64"/>
                      </a:cubicBezTo>
                      <a:cubicBezTo>
                        <a:pt x="505" y="25"/>
                        <a:pt x="461" y="10"/>
                        <a:pt x="408" y="0"/>
                      </a:cubicBezTo>
                      <a:cubicBezTo>
                        <a:pt x="328" y="8"/>
                        <a:pt x="292" y="18"/>
                        <a:pt x="232" y="64"/>
                      </a:cubicBezTo>
                      <a:cubicBezTo>
                        <a:pt x="207" y="136"/>
                        <a:pt x="202" y="126"/>
                        <a:pt x="136" y="160"/>
                      </a:cubicBezTo>
                      <a:cubicBezTo>
                        <a:pt x="118" y="229"/>
                        <a:pt x="72" y="302"/>
                        <a:pt x="72" y="376"/>
                      </a:cubicBezTo>
                      <a:close/>
                    </a:path>
                  </a:pathLst>
                </a:custGeom>
                <a:solidFill>
                  <a:srgbClr val="008080">
                    <a:alpha val="65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3960000" y="4590360"/>
                  <a:ext cx="1176840" cy="619920"/>
                  <a:chOff x="3960000" y="4590360"/>
                  <a:chExt cx="1176840" cy="619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V="1">
                    <a:off x="4548600" y="4590360"/>
                    <a:ext cx="0" cy="61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V="1">
                    <a:off x="4254120" y="4590360"/>
                    <a:ext cx="0" cy="61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V="1">
                    <a:off x="4842360" y="4590360"/>
                    <a:ext cx="0" cy="61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V="1">
                    <a:off x="5136840" y="4590360"/>
                    <a:ext cx="0" cy="61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V="1">
                    <a:off x="3960000" y="4590360"/>
                    <a:ext cx="0" cy="61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3960000" y="3418920"/>
                  <a:ext cx="1176840" cy="1102320"/>
                  <a:chOff x="3960000" y="3418920"/>
                  <a:chExt cx="1176840" cy="110232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V="1">
                    <a:off x="4548600" y="3418920"/>
                    <a:ext cx="0" cy="1102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V="1">
                    <a:off x="4254120" y="3418920"/>
                    <a:ext cx="0" cy="1102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flipV="1">
                    <a:off x="4842360" y="3418920"/>
                    <a:ext cx="0" cy="1102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V="1">
                    <a:off x="5136840" y="3418920"/>
                    <a:ext cx="0" cy="1102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3960000" y="3418920"/>
                    <a:ext cx="0" cy="1102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1371600" y="3210480"/>
                <a:ext cx="1628640" cy="1999440"/>
                <a:chOff x="1371600" y="3210480"/>
                <a:chExt cx="1628640" cy="19994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371600" y="3659040"/>
                  <a:ext cx="1628640" cy="976680"/>
                </a:xfrm>
                <a:custGeom>
                  <a:avLst/>
                  <a:gdLst/>
                  <a:ahLst/>
                  <a:rect l="l" t="t" r="r" b="b"/>
                  <a:pathLst>
                    <a:path w="1129" h="680">
                      <a:moveTo>
                        <a:pt x="72" y="376"/>
                      </a:moveTo>
                      <a:cubicBezTo>
                        <a:pt x="49" y="409"/>
                        <a:pt x="13" y="416"/>
                        <a:pt x="0" y="456"/>
                      </a:cubicBezTo>
                      <a:cubicBezTo>
                        <a:pt x="40" y="486"/>
                        <a:pt x="51" y="529"/>
                        <a:pt x="88" y="552"/>
                      </a:cubicBezTo>
                      <a:cubicBezTo>
                        <a:pt x="112" y="567"/>
                        <a:pt x="168" y="597"/>
                        <a:pt x="200" y="608"/>
                      </a:cubicBezTo>
                      <a:cubicBezTo>
                        <a:pt x="248" y="680"/>
                        <a:pt x="329" y="612"/>
                        <a:pt x="392" y="608"/>
                      </a:cubicBezTo>
                      <a:cubicBezTo>
                        <a:pt x="487" y="600"/>
                        <a:pt x="584" y="602"/>
                        <a:pt x="680" y="600"/>
                      </a:cubicBezTo>
                      <a:cubicBezTo>
                        <a:pt x="765" y="594"/>
                        <a:pt x="852" y="601"/>
                        <a:pt x="936" y="584"/>
                      </a:cubicBezTo>
                      <a:cubicBezTo>
                        <a:pt x="958" y="579"/>
                        <a:pt x="984" y="536"/>
                        <a:pt x="984" y="536"/>
                      </a:cubicBezTo>
                      <a:cubicBezTo>
                        <a:pt x="1000" y="485"/>
                        <a:pt x="1038" y="473"/>
                        <a:pt x="1088" y="464"/>
                      </a:cubicBezTo>
                      <a:cubicBezTo>
                        <a:pt x="1129" y="436"/>
                        <a:pt x="1123" y="449"/>
                        <a:pt x="1120" y="368"/>
                      </a:cubicBezTo>
                      <a:cubicBezTo>
                        <a:pt x="1115" y="249"/>
                        <a:pt x="1099" y="112"/>
                        <a:pt x="968" y="80"/>
                      </a:cubicBezTo>
                      <a:cubicBezTo>
                        <a:pt x="845" y="85"/>
                        <a:pt x="750" y="96"/>
                        <a:pt x="632" y="88"/>
                      </a:cubicBezTo>
                      <a:cubicBezTo>
                        <a:pt x="559" y="69"/>
                        <a:pt x="588" y="78"/>
                        <a:pt x="544" y="64"/>
                      </a:cubicBezTo>
                      <a:cubicBezTo>
                        <a:pt x="505" y="25"/>
                        <a:pt x="461" y="10"/>
                        <a:pt x="408" y="0"/>
                      </a:cubicBezTo>
                      <a:cubicBezTo>
                        <a:pt x="328" y="8"/>
                        <a:pt x="292" y="18"/>
                        <a:pt x="232" y="64"/>
                      </a:cubicBezTo>
                      <a:cubicBezTo>
                        <a:pt x="207" y="136"/>
                        <a:pt x="202" y="126"/>
                        <a:pt x="136" y="160"/>
                      </a:cubicBezTo>
                      <a:cubicBezTo>
                        <a:pt x="118" y="229"/>
                        <a:pt x="72" y="302"/>
                        <a:pt x="72" y="376"/>
                      </a:cubicBezTo>
                      <a:close/>
                    </a:path>
                  </a:pathLst>
                </a:custGeom>
                <a:solidFill>
                  <a:srgbClr val="008080">
                    <a:alpha val="65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1578960" y="4589640"/>
                  <a:ext cx="1177200" cy="620280"/>
                  <a:chOff x="1578960" y="4589640"/>
                  <a:chExt cx="1177200" cy="6202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flipV="1">
                    <a:off x="2167560" y="4589640"/>
                    <a:ext cx="0" cy="62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V="1">
                    <a:off x="1873080" y="4589640"/>
                    <a:ext cx="0" cy="62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V="1">
                    <a:off x="2461680" y="4589640"/>
                    <a:ext cx="0" cy="62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V="1">
                    <a:off x="2756160" y="4589640"/>
                    <a:ext cx="0" cy="62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578960" y="4589640"/>
                    <a:ext cx="0" cy="62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 flipV="1">
                  <a:off x="1578960" y="3693600"/>
                  <a:ext cx="346320" cy="82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1856160" y="3830760"/>
                  <a:ext cx="207360" cy="68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2202120" y="3830760"/>
                  <a:ext cx="6912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flipV="1">
                  <a:off x="2409840" y="3830760"/>
                  <a:ext cx="69120" cy="68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2548800" y="3830760"/>
                  <a:ext cx="20736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2271600" y="3210840"/>
                  <a:ext cx="0" cy="55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2409840" y="3210840"/>
                  <a:ext cx="0" cy="55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2548800" y="3210840"/>
                  <a:ext cx="0" cy="55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2063880" y="3210480"/>
                  <a:ext cx="0" cy="41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1925640" y="3210480"/>
                  <a:ext cx="0" cy="41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992560" y="3142800"/>
                <a:ext cx="1939680" cy="2067480"/>
                <a:chOff x="5992560" y="3142800"/>
                <a:chExt cx="1939680" cy="20674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62040" y="3660120"/>
                  <a:ext cx="1629000" cy="975960"/>
                </a:xfrm>
                <a:custGeom>
                  <a:avLst/>
                  <a:gdLst/>
                  <a:ahLst/>
                  <a:rect l="l" t="t" r="r" b="b"/>
                  <a:pathLst>
                    <a:path w="1129" h="680">
                      <a:moveTo>
                        <a:pt x="72" y="376"/>
                      </a:moveTo>
                      <a:cubicBezTo>
                        <a:pt x="49" y="409"/>
                        <a:pt x="13" y="416"/>
                        <a:pt x="0" y="456"/>
                      </a:cubicBezTo>
                      <a:cubicBezTo>
                        <a:pt x="40" y="486"/>
                        <a:pt x="51" y="529"/>
                        <a:pt x="88" y="552"/>
                      </a:cubicBezTo>
                      <a:cubicBezTo>
                        <a:pt x="112" y="567"/>
                        <a:pt x="168" y="597"/>
                        <a:pt x="200" y="608"/>
                      </a:cubicBezTo>
                      <a:cubicBezTo>
                        <a:pt x="248" y="680"/>
                        <a:pt x="329" y="612"/>
                        <a:pt x="392" y="608"/>
                      </a:cubicBezTo>
                      <a:cubicBezTo>
                        <a:pt x="487" y="600"/>
                        <a:pt x="584" y="602"/>
                        <a:pt x="680" y="600"/>
                      </a:cubicBezTo>
                      <a:cubicBezTo>
                        <a:pt x="765" y="594"/>
                        <a:pt x="852" y="601"/>
                        <a:pt x="936" y="584"/>
                      </a:cubicBezTo>
                      <a:cubicBezTo>
                        <a:pt x="958" y="579"/>
                        <a:pt x="984" y="536"/>
                        <a:pt x="984" y="536"/>
                      </a:cubicBezTo>
                      <a:cubicBezTo>
                        <a:pt x="1000" y="485"/>
                        <a:pt x="1038" y="473"/>
                        <a:pt x="1088" y="464"/>
                      </a:cubicBezTo>
                      <a:cubicBezTo>
                        <a:pt x="1129" y="436"/>
                        <a:pt x="1123" y="449"/>
                        <a:pt x="1120" y="368"/>
                      </a:cubicBezTo>
                      <a:cubicBezTo>
                        <a:pt x="1115" y="249"/>
                        <a:pt x="1099" y="112"/>
                        <a:pt x="968" y="80"/>
                      </a:cubicBezTo>
                      <a:cubicBezTo>
                        <a:pt x="845" y="85"/>
                        <a:pt x="750" y="96"/>
                        <a:pt x="632" y="88"/>
                      </a:cubicBezTo>
                      <a:cubicBezTo>
                        <a:pt x="559" y="69"/>
                        <a:pt x="588" y="78"/>
                        <a:pt x="544" y="64"/>
                      </a:cubicBezTo>
                      <a:cubicBezTo>
                        <a:pt x="505" y="25"/>
                        <a:pt x="461" y="10"/>
                        <a:pt x="408" y="0"/>
                      </a:cubicBezTo>
                      <a:cubicBezTo>
                        <a:pt x="328" y="8"/>
                        <a:pt x="292" y="18"/>
                        <a:pt x="232" y="64"/>
                      </a:cubicBezTo>
                      <a:cubicBezTo>
                        <a:pt x="207" y="136"/>
                        <a:pt x="202" y="126"/>
                        <a:pt x="136" y="160"/>
                      </a:cubicBezTo>
                      <a:cubicBezTo>
                        <a:pt x="118" y="229"/>
                        <a:pt x="72" y="302"/>
                        <a:pt x="72" y="376"/>
                      </a:cubicBezTo>
                      <a:close/>
                    </a:path>
                  </a:pathLst>
                </a:custGeom>
                <a:solidFill>
                  <a:srgbClr val="008080">
                    <a:alpha val="65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6269760" y="4590000"/>
                  <a:ext cx="1177200" cy="620280"/>
                  <a:chOff x="6269760" y="4590000"/>
                  <a:chExt cx="1177200" cy="620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flipV="1">
                    <a:off x="6858360" y="4590000"/>
                    <a:ext cx="0" cy="62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V="1">
                    <a:off x="6563880" y="4590000"/>
                    <a:ext cx="0" cy="62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V="1">
                    <a:off x="7152480" y="4590000"/>
                    <a:ext cx="0" cy="62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V="1">
                    <a:off x="7446960" y="4590000"/>
                    <a:ext cx="0" cy="62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V="1">
                    <a:off x="6269760" y="4590000"/>
                    <a:ext cx="0" cy="62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99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 flipV="1">
                  <a:off x="7447320" y="3970080"/>
                  <a:ext cx="207720" cy="48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7170120" y="3832200"/>
                  <a:ext cx="20772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6893280" y="3832200"/>
                  <a:ext cx="6876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6408360" y="3832200"/>
                  <a:ext cx="13824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>
                  <a:off x="6200640" y="4107600"/>
                  <a:ext cx="69120" cy="34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6962400" y="3142800"/>
                  <a:ext cx="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7378200" y="3142800"/>
                  <a:ext cx="69120" cy="55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7655400" y="3280320"/>
                  <a:ext cx="27684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6269760" y="3142800"/>
                  <a:ext cx="138240" cy="55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5992560" y="3211560"/>
                  <a:ext cx="207720" cy="8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1616400" y="5279400"/>
                <a:ext cx="1442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xtl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&gt; n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epoxy</a:t>
                </a:r>
                <a:endParaRPr b="0" lang="en-US" sz="18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38880" y="5279400"/>
                <a:ext cx="128124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xtl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&lt; n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epoxy</a:t>
                </a:r>
                <a:endParaRPr b="0" lang="en-US" sz="18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29040" y="5279400"/>
                <a:ext cx="1442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xtl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= n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epoxy</a:t>
                </a:r>
                <a:endParaRPr b="0" lang="en-US" sz="18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05720" y="259092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lieve alto(+)</a:t>
              </a:r>
              <a:endParaRPr b="0" lang="en-US" sz="18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6004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lieve bajo (+)</a:t>
              </a:r>
              <a:endParaRPr b="0" lang="en-US" sz="18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548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Comic Sans MS"/>
                </a:rPr>
                <a:t>Relieve alto (-)</a:t>
              </a:r>
              <a:endParaRPr b="0" lang="en-US" sz="18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303200" y="1019160"/>
            <a:ext cx="679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ferencias en la velocidad de la luz (n) en materiales diferentes produce refracción de los rayos de luz, lo que conduce a focalizar o desfocalizar los bordes de los granos en relación a sus contorno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256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opiedades de los minerales en LPP: </a:t>
            </a:r>
            <a:r>
              <a:rPr b="1" lang="es-ES_tradnl" sz="2000" spc="-1" strike="noStrike">
                <a:solidFill>
                  <a:srgbClr val="e60a07"/>
                </a:solidFill>
                <a:latin typeface="Comic Sans MS"/>
              </a:rPr>
              <a:t>relieve en un c.t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39760" y="10666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relieve es una medida de la diferencia relativa en </a:t>
            </a: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tre un grano mineral y el medio circundant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relieve se determina visualmente en LPP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l relieve se usa para estimar </a:t>
            </a: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87480" y="2743200"/>
            <a:ext cx="4743360" cy="3173400"/>
            <a:chOff x="987480" y="2743200"/>
            <a:chExt cx="4743360" cy="31734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987480" y="2743200"/>
              <a:ext cx="4743360" cy="31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539880" y="45720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e60a07"/>
                  </a:solidFill>
                  <a:latin typeface="Comic Sans MS"/>
                </a:rPr>
                <a:t>olivino</a:t>
              </a:r>
              <a:endParaRPr b="0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76400" y="3809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e60a07"/>
                  </a:solidFill>
                  <a:latin typeface="Comic Sans MS"/>
                </a:rPr>
                <a:t>plagio</a:t>
              </a:r>
              <a:endParaRPr b="0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255280" y="3282840"/>
            <a:ext cx="4432680" cy="2535120"/>
            <a:chOff x="5255280" y="3282840"/>
            <a:chExt cx="4432680" cy="2535120"/>
          </a:xfrm>
        </p:grpSpPr>
        <p:sp>
          <p:nvSpPr>
            <p:cNvPr id="152" name=""/>
            <p:cNvSpPr/>
            <p:nvPr/>
          </p:nvSpPr>
          <p:spPr>
            <a:xfrm>
              <a:off x="5931000" y="4841640"/>
              <a:ext cx="2549520" cy="9763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255280" y="3282840"/>
              <a:ext cx="4432680" cy="2521800"/>
              <a:chOff x="5255280" y="3282840"/>
              <a:chExt cx="4432680" cy="2521800"/>
            </a:xfrm>
          </p:grpSpPr>
          <p:sp>
            <p:nvSpPr>
              <p:cNvPr id="154" name=""/>
              <p:cNvSpPr/>
              <p:nvPr/>
            </p:nvSpPr>
            <p:spPr>
              <a:xfrm>
                <a:off x="5277600" y="4887720"/>
                <a:ext cx="3792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olivino: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n = 1.64-1.88</a:t>
                </a:r>
                <a:endParaRPr b="0" lang="en-US" sz="1800" spc="-1" strike="noStrike">
                  <a:solidFill>
                    <a:srgbClr val="ff9933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plagio: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n = 1.53-1.57</a:t>
                </a:r>
                <a:endParaRPr b="0" lang="en-US" sz="1800" spc="-1" strike="noStrike">
                  <a:solidFill>
                    <a:srgbClr val="ff9933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epoxy: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n = 1.54</a:t>
                </a:r>
                <a:endParaRPr b="0" lang="en-US" sz="18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55280" y="3282840"/>
                <a:ext cx="4432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-Olivino tiene relieve alto</a:t>
                </a:r>
                <a:endParaRPr b="0" lang="en-US" sz="1800" spc="-1" strike="noStrike">
                  <a:solidFill>
                    <a:srgbClr val="ff9933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-Plagioclasa tiene relieve bajo</a:t>
                </a:r>
                <a:endParaRPr b="0" lang="en-US" sz="18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46280" y="0"/>
            <a:ext cx="77724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Comic Sans MS"/>
              </a:rPr>
              <a:t>La Indicatriz Optica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3440" y="1046160"/>
            <a:ext cx="84042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irve para explicar como el índice de refracción (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) de un material varía con la dirección de vibración de la onda luminosa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653760" indent="-2512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Infinitos vectores radiando desde el centro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653760" indent="-2512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largo de cada vector es proporcional a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 la luz que vibra en la dirección del vector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33"/>
                </a:solidFill>
                <a:latin typeface="Comic Sans MS"/>
              </a:rPr>
              <a:t>Indicatriz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= es la superficie que conecta todos los extremos de esos vector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 los medios </a:t>
            </a:r>
            <a:r>
              <a:rPr b="0" lang="es-ES_tradnl" sz="1800" spc="-1" strike="noStrike">
                <a:solidFill>
                  <a:srgbClr val="990033"/>
                </a:solidFill>
                <a:latin typeface="Comic Sans MS"/>
              </a:rPr>
              <a:t>Is</a:t>
            </a:r>
            <a:r>
              <a:rPr b="0" lang="es-ES_tradnl" sz="1800" spc="-1" strike="noStrike">
                <a:solidFill>
                  <a:srgbClr val="990033"/>
                </a:solidFill>
                <a:latin typeface="Comic Sans MS"/>
                <a:ea typeface="ヒラギノ角ゴ Pro W3"/>
              </a:rPr>
              <a:t>ó</a:t>
            </a:r>
            <a:r>
              <a:rPr b="0" lang="es-ES_tradnl" sz="1800" spc="-1" strike="noStrike">
                <a:solidFill>
                  <a:srgbClr val="990033"/>
                </a:solidFill>
                <a:latin typeface="Comic Sans MS"/>
              </a:rPr>
              <a:t>tropo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(por definición) el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no varia con la dirección de vibración de la luz. Tienen en todas las direcciones la misma velocidad de la luz y por lo tanto el mismo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01680" indent="-3016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¿Qué forma tiene una indicatriz isótropa?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materiales amorfos (vidrios, líquidos) y cristales isométricos (cúbicos) son (ópticamente) isótropos con una indicatriz </a:t>
            </a: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sférica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51480" y="6532560"/>
            <a:ext cx="27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-45B  Mineralogía de Silicatos, 2007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manuel caviedes</cp:lastModifiedBy>
  <dcterms:modified xsi:type="dcterms:W3CDTF">2007-03-19T06:47:37Z</dcterms:modified>
  <cp:revision>298</cp:revision>
  <dc:subject/>
  <dc:title>Chapter 8: Major Elements</dc:title>
</cp:coreProperties>
</file>