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83F-F8FF-4BB3-8E5C-0EF1A6DD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E18-D09D-4A3C-A324-EEBF97CD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066-A722-4583-88EF-8F1FB485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32E-43B6-4B96-BB95-DC0F3977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254-3988-4714-9B72-56FE0A34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301-1959-479D-84E5-0BAC5D6B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D60B-1361-400E-A69E-69A9C5D7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FDF-53F3-4FD8-A5D6-89E6CCA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6BE6-F040-4D90-9968-7E3472B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CEF4-F0BB-462E-9058-0688AEFF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399-8BB5-467A-AEED-51BF3CD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2B6-C5F9-4F8B-B0D2-49AFE4D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56DE-9FEC-48F1-B6A8-9F46D4A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7C5B-3D51-4250-BFE7-2FB7BFD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C28-9F89-4216-AAA6-C30BA45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33B8-2C11-4BD0-B708-4ECC1E2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74A-4E87-43C6-9E9F-D017961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8E0-11AC-4816-A94B-A67FEA4A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DC8-4CD7-425F-B5CE-CBC634C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998-324D-44F3-A423-86B6DCD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28D-9AB3-4A1F-856C-88E5066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EBD-EFA2-418B-92E0-AA2D20B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8D6-B8BE-497D-AA01-E0C5EA4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22F-3F41-40A7-9C47-636DC01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E99-68F1-4CC2-9FCC-E58AF3297E84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ADF4-2B10-4873-8CCF-DB5BC04B674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Litoestratigrafía y correlación estratigráf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66288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aboratorio Estratigraf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toño 200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Unidades litoestratigráficas informa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cuífe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Unidades industriales (estratos petrolífero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Lengu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L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Deslizamientos y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rrumb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ujos de lo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omos de s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e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rrelación estratigráf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stablece la relación entre dos o más columnas estratigráficas de zonas distant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stablece edades relativas y/o absolut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ermite hacer reconstrucciones paleogeográfic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ipos: Litocorrelación, biocorrelación, cronocorrel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rrelación litoestratigráf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Una unidad litoestratigráfica sólo debe extenderse más allá de la localidad tipo hasta donde se reconozca con certeza la presencia de los rasgos litológicos característicos de la unid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 hasta donde se compruebe a través de pruebas indirectas que estos rasgos continúa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05-55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18000" cy="36576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447920" y="121932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Sección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121932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Sección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44197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Ilustración de una correlación litoestratigráfic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5257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La correlación puede hacerse a través de </a:t>
            </a: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capas guía, secuencias de estratos distintivas, discordancias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Uso de pruebas indirectas para identificar unidad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e utilizan cuando los afloramientos son escasos o inexistent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jemplos: registros eléctricos, reflexiones sísmicas, vegetación característica, expresión geomórf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Empleo de capas guía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na capa guía debe tener un espesor reducido, gran extensión areal, ser fácilmente reconoci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ienden a ser eventos inusuales o distintivos (que permite que sean identificables), como por ejempl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- Una capa de cenizas en una secuencia sedimen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- Una capa de conglomerado en una secuencia de arenis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- Capas de carbón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304920" y="533520"/>
          <a:ext cx="4400280" cy="44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440028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4600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 de discordanc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4" name="05-5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5715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05-64" descr=""/>
          <p:cNvPicPr/>
          <p:nvPr/>
        </p:nvPicPr>
        <p:blipFill>
          <a:blip r:embed="rId1"/>
          <a:stretch/>
        </p:blipFill>
        <p:spPr>
          <a:xfrm>
            <a:off x="2057400" y="2003400"/>
            <a:ext cx="5240160" cy="4854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62520" y="5334120"/>
            <a:ext cx="609480" cy="304560"/>
          </a:xfrm>
          <a:prstGeom prst="rect">
            <a:avLst/>
          </a:prstGeom>
          <a:solidFill>
            <a:srgbClr val="0d0d0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5334120"/>
            <a:ext cx="609840" cy="228600"/>
          </a:xfrm>
          <a:prstGeom prst="rect">
            <a:avLst/>
          </a:prstGeom>
          <a:solidFill>
            <a:srgbClr val="0d0d0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472428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2670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2514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572000" y="6171840"/>
            <a:ext cx="1066680" cy="152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3276720"/>
            <a:ext cx="990360" cy="152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1119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125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05-6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78600" cy="3520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2590920" y="4419360"/>
            <a:ext cx="1523880" cy="2286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920" y="2057400"/>
            <a:ext cx="1371600" cy="76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ariaciones latera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8954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4648320"/>
            <a:ext cx="12189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76920" y="20574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4952880"/>
            <a:ext cx="6629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Por qué disminuye el espesor del estrato de arenisc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pasa con el conglomerado en la columna C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nidades Litoestratigráf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onjunto de estratos que constituyen una unidad, compuesto predominantemente de cierto tipo litológico o de una combinación de tipos litológicos, o características litológicas importantes en comú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uede estar formada por rocas sedimentarias, ígneas o metamórficas, o por una asociación de ell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05-67" descr=""/>
          <p:cNvPicPr/>
          <p:nvPr/>
        </p:nvPicPr>
        <p:blipFill>
          <a:blip r:embed="rId1"/>
          <a:stretch/>
        </p:blipFill>
        <p:spPr>
          <a:xfrm>
            <a:off x="1447920" y="1768320"/>
            <a:ext cx="6095880" cy="5089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00200" y="60948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secuencias indican T o R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facies son depositadas más cerca del continent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6324480"/>
            <a:ext cx="1143000" cy="1526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362320"/>
            <a:ext cx="1219320" cy="2286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647712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236232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e reconocen y definen por sus características físicas observables, y no por la interpretación de su historia geológica o modo de orig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Tipos de Unidades Litoestratigráf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Unidades Formal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Gru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Form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iembr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ap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orm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idad formal fundament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ivisión de una columna estratigráfica en base a sus caracteres litológ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spesor variable de metros a K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peable (escala 1:50000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4648320" y="1523880"/>
            <a:ext cx="4241520" cy="4759560"/>
            <a:chOff x="4648320" y="1523880"/>
            <a:chExt cx="4241520" cy="475956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4648320" y="1523880"/>
              <a:ext cx="4241520" cy="47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470080" y="1853640"/>
              <a:ext cx="316080" cy="1589040"/>
            </a:xfrm>
            <a:prstGeom prst="rect">
              <a:avLst/>
            </a:pr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315200" y="1676520"/>
            <a:ext cx="1308240" cy="228600"/>
          </a:xfrm>
          <a:prstGeom prst="rect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3429000"/>
            <a:ext cx="1066680" cy="304920"/>
          </a:xfrm>
          <a:prstGeom prst="rect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4038480"/>
            <a:ext cx="1295640" cy="304920"/>
          </a:xfrm>
          <a:prstGeom prst="rect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572000"/>
            <a:ext cx="1295640" cy="304920"/>
          </a:xfrm>
          <a:prstGeom prst="rect">
            <a:avLst/>
          </a:prstGeom>
          <a:noFill/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Gru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nidad de rango superior al de una form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ucesión de dos o más formaciones asociadas contigu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na formación puede pasar lateralmente de un grupo a otr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4419720" y="1523880"/>
            <a:ext cx="4562280" cy="5040360"/>
            <a:chOff x="4419720" y="1523880"/>
            <a:chExt cx="4562280" cy="504036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4419720" y="1523880"/>
              <a:ext cx="44967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8706240" y="1884240"/>
              <a:ext cx="275760" cy="2879640"/>
            </a:xfrm>
            <a:prstGeom prst="rect">
              <a:avLst/>
            </a:pr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iemb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nidad de rango inferior al de la form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No esenc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establece en base a diferencias claras en zonas adyacentes en una form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86400" y="1676520"/>
            <a:ext cx="4252680" cy="4876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543800" y="2133720"/>
            <a:ext cx="1084320" cy="34740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2743200"/>
            <a:ext cx="1085760" cy="4237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3124080"/>
            <a:ext cx="1295280" cy="5335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ap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Unidad de formal de menor jerarquí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e distingue litológicamente de otras por encima y por debajo de ella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Espesor de milímetros (láminas) a pocos metro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Pueden establecer formacione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Útiles en correlación o como referencia (capa guía)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05440" cy="4952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791320" y="4495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458200" cy="43797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838080" y="5334120"/>
            <a:ext cx="5334120" cy="8254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Otras Unidades formales: Subgrupo, Supergrupo, Complej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0:16:21Z</dcterms:created>
  <dc:creator>carola</dc:creator>
  <dc:description/>
  <dc:language>en-US</dc:language>
  <cp:lastModifiedBy>carola</cp:lastModifiedBy>
  <dcterms:modified xsi:type="dcterms:W3CDTF">2007-04-01T22:45:06Z</dcterms:modified>
  <cp:revision>6</cp:revision>
  <dc:subject/>
  <dc:title>Litoestratigrafía y correlación estratigráfica</dc:title>
</cp:coreProperties>
</file>