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D89-66DD-429A-B085-8A99108F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F6C-3BB2-4A92-84E9-CF9068BF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DE6-7117-40DF-98F0-DB318FBC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B4F9-DCC9-4F55-B6EB-A3D3C5FC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6E4-AC98-4E9B-B66F-341B4CE0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2D5F-FDD8-44D4-A8B7-45AADD00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A1F-8D41-494E-B046-156EAEFE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9D5-91F6-44BF-AB07-9DFFE1A2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463-C78C-4AFD-83F6-0F862F18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C44-ABC0-48F1-8BF7-EBD7EF0B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DF7-3DB2-47B3-85B4-E52B620A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FAB3-C64B-4A57-9CC5-C45B9D55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B768-580B-43B9-92DF-9E749E466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FORMACIÓN  DE  LA  CORTEZA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 de la corteza  está  documentada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vimientos  históricos  a  lo  largo  de   fall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rrazas   marinas    y   playas  solevanta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 (con  desarrollo   de   acantilado  costero);   por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tierras  sumergida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;    por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cuerpos   de   roca   fracturados,    fallados   y   plegad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;   etc...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deformación mas  intensa  está  representada  por  las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ADENAS   DE   MONTAÑAS   PLEGADAS,  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se desarrollan  a  lo largo  de los  contactos  convergentes de  pl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OS   MOVIMIENTOS   OBSERVABLES,   EN    PROCESO  DE   DESARROLLO,     pueden   ser   MOVIMIENTOS   ABRUPTOS                     ( 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Yakutat:  15  m ,  San Francisco:  7  m ,  y  Valdivia:  2 m )                                                                        o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VIMIENTOS   LENTOS    (ejemplos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Bakersfield    (California):     2.5  cm  x  año ,  Templo de Serapis ,  Mar  Báltico,  Costa  Austral de Ch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27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s  rocas   expuestas   a esfuerzos   de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MPRESIÓN, EXTENSIÓN  Y  CIZALL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  responden   deformándose   y generando  estructuras   (llamadas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secundari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en  oposición a  las  estructuras   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rimarias  o  singenéticas,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 son  comunes en  las  rocas  sedimentari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  roca  se  deforma  cuando  se  le   aplica  un  esfuerzo  que  excede  la  resistencia  del 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 respuesta  será  en  función  de  la  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RESIÓN   CONFINANTE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a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EMPERATURA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el 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TIEMPO  DE  APLICACIÓN,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los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 FLUIDOS   INTRA  -POROS  y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  el</a:t>
            </a: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  TIPO  DE RO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   general, cerca de la superficie,  la   roca   se  comporta   de manera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RAG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ígida)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 se fractura..   Las estructuras resultantes son: 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DIACLASAS  y  FALLAS</a:t>
            </a:r>
            <a:r>
              <a:rPr b="0" lang="es-ES_tradnl" sz="24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mayor  profundidad  (del orden de 3 km),  la  roca  se comporta  de  manera  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ÚCTIL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 (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lástica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)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 se  pliega  o  fluye  plásticamente.  La estructura  resultante  es  un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grandes  profundidades  se  llega  al  dominio  de   la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FUSIÓN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viscoso),  dónde  se  originan  pliegues  de  flujo o  aparición  de  esquistocida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IPOS DE ESTRUCTURAS                                                  (y esfuerzos asoci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PLIEGUE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(esfuerzo compresivo):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NTICLINALES    Y  SINCLIN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(simétrico,  asimétrico,  volcado,  recumbente,  isoclinal ;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ONOCLINALES;   DOMOS  Y  CUENCAS;   PLIEGUES   COMPLEJ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mentos de un pliegu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FLANCO  o  LIMBO,     PLANO AXIAL,    EJE   DE   PLIEGUE    o   CHARN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FRACTUR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esfuerzo compresivo, extensivo y de cizalle):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FALLA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ALLA   NORMAL,    FALLA   INVERSA   O   DE   EMPUJE,  FALLA   DE   RUMBO   O   TRANSCURRENTE  (SINESTRAL  Y  DEXTRAL);  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DIACLAS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mentos de una falla: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lano de falla,   traza de  falla,   desplazamiento   de    falla,   estrías de   falla,   brecha   de   falla,   escarpe  de  falla,    facetas    triang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ientación  espacial  de  un plano   (estrato,  flanco  o  limbo  del  pliegue, diaclasa   o  falla):     </a:t>
            </a:r>
            <a:r>
              <a:rPr b="1" lang="es-ES_tradnl" sz="2800" spc="-1" strike="noStrike">
                <a:solidFill>
                  <a:srgbClr val="00cc99"/>
                </a:solidFill>
                <a:latin typeface="Times New Roman"/>
              </a:rPr>
              <a:t>RUMBO  y  MANT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liegues y fallas se producen  desde  dimenciones  microscópicos  (microestructuras)  a  macro  y   megascópicas  (megaestructuras  de  cientos  miles de   kilómetros de extens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IPSOIDE  DE   ESFUER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PSOIDE   DE  DE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752480"/>
            <a:ext cx="3733920" cy="1752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4572000"/>
            <a:ext cx="3657600" cy="1752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ORDANCIA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superficie de tiemp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DE   EROS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CORDANCIA   ANG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23:25:44Z</dcterms:created>
  <dc:creator>Universidad de Chile</dc:creator>
  <dc:description/>
  <dc:language>en-US</dc:language>
  <cp:lastModifiedBy>Departamento de Geología</cp:lastModifiedBy>
  <cp:lastPrinted>2001-08-28T23:16:25Z</cp:lastPrinted>
  <dcterms:modified xsi:type="dcterms:W3CDTF">2001-08-30T21:59:45Z</dcterms:modified>
  <cp:revision>17</cp:revision>
  <dc:subject/>
  <dc:title>DEFORMACIÓN DE LA CORTEZA Disciplina geológica: GEOLOGÍA ESTRUCTURAL</dc:title>
</cp:coreProperties>
</file>