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D6C3-6B39-4714-BABD-210D212AF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B93B-7089-412A-95C2-D66D2FC0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392B-9470-47EB-A509-F98C7170A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9227-F41A-45BD-A7F8-DCEDCBBE6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7A2A-5389-4BFC-90A8-78727B64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BE4B-D990-41DC-A1A0-5200FF8E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20FD-5F27-4292-8813-21C03979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0A83-2AA7-40FC-99FD-80F16F5F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9C1A-625F-4E8F-8EE0-E54F43A8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23D4-A14F-4B47-A93E-E0C9A31B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B299-1026-4653-998E-07649F30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9D0B-9C7D-4E70-AC97-D3364318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70B3-6C8D-4799-B3A6-284563192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FORMACIÓN  DE  LA  CORTEZA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deformación  de la corteza  está  documentada  por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movimientos  históricos  a  lo  largo  de   fall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;   por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terrazas   marinas    y   playas  solevantad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 (con  desarrollo   de   acantilado  costero);   por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tierras  sumergid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;    por 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uerpos   de   roca   fracturados,    fallados   y   plegado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;   etc...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deformación mas  intensa  está  representada  por  las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ADENAS   DE   MONTAÑAS   PLEGADAS, 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se desarrollan  a  lo largo  de los  contactos  convergentes de  pla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OS   MOVIMIENTOS   OBSERVABLES,   EN    PROCESO  DE   DESARROLLO,     pueden   ser   MOVIMIENTOS   ABRUPTOS                     ( ejemplos: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Yakutat:  15  m ,  San Francisco:  7  m ,  y  Valdivia:  2 m )                                                                        o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MOVIMIENTOS   LENTOS    (ejemplos: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Bakersfield    (California):     2.5  cm  x  año ,  Templo de Serapis ,  Mar  Báltico,  Costa  Austral de Chi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27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6960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s  rocas   expuestas   a esfuerzos   de   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COMPRESIÓN, EXTENSIÓN  Y  CIZALLE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,   responden   deformándose   y generando  estructuras   (llamadas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secundarias,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en  oposición a  las  estructuras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rimarias  o  singenéticas,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 son  comunes en  las  rocas  sedimentari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s-ES_tradnl" sz="2800" spc="-1" strike="noStrike" u="sng">
                <a:solidFill>
                  <a:srgbClr val="ffffff"/>
                </a:solidFill>
                <a:uFillTx/>
                <a:latin typeface="Times New Roman"/>
              </a:rPr>
              <a:t>La  roca  se  deforma  cuando  se  le   aplica  un  esfuerzo  que  excede  la  resistencia  del  mater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 respuesta  será  en  función  de  la   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PRESIÓN   CONFINANTE,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la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  TEMPERATURA,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el 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   TIEMPO  DE  APLICACIÓN,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los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   FLUIDOS   INTRA  -POROS  y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el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  TIPO  DE RO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   general, cerca de la superficie,  la   roca   se  comporta   de manera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FRAGIL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rígida)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 se fractura..   Las estructuras resultantes son:  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DIACLASAS  y  FALLAS</a:t>
            </a:r>
            <a:r>
              <a:rPr b="0" lang="es-ES_tradnl" sz="24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 mayor  profundidad  (del orden de 3 km),  la  roca  se comporta  de  manera 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ÚCTIL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(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lástica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)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 se  pliega  o  fluye  plásticamente.  La estructura  resultante  es  un 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PLIE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 grandes  profundidades  se  llega  al  dominio  de   la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FUSIÓN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viscoso),  dónde  se  originan  pliegues  de  flujo o  aparición  de  esquistocidad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IPOS DE ESTRUCTURAS                                                  (y esfuerzos asociad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PLIEGUE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esfuerzo compresivo):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ANTICLINALES    Y  SINCLIN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(simétrico,  asimétrico,  volcado,  recumbente,  isoclinal ;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MONOCLINALES;   DOMOS  Y  CUENCAS;   PLIEGUES   COMPLEJO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lementos de un pliegu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FLANCO  o  LIMBO,     PLANO AXIAL,    EJE   DE   PLIEGUE    o   CHARN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FRACTUR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esfuerzo compresivo, extensivo y de cizalle):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FALLA 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FALLA   NORMAL,    FALLA   INVERSA   O   DE   EMPUJE,  FALLA   DE   RUMBO   O   TRANSCURRENTE  (SINESTRAL  Y  DEXTRAL); 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DIACLAS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mentos de una falla: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lano de falla,   traza de  falla,   desplazamiento   de    falla,   estrías de   falla,   brecha   de   falla,   escarpe  de  falla,    facetas    triangul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15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Orientación  espacial  de  un plano   (estrato,  flanco  o  limbo  del  pliegue, diaclasa   o  falla):     </a:t>
            </a:r>
            <a:r>
              <a:rPr b="1" lang="es-ES_tradnl" sz="2800" spc="-1" strike="noStrike">
                <a:solidFill>
                  <a:srgbClr val="00cc99"/>
                </a:solidFill>
                <a:latin typeface="Times New Roman"/>
              </a:rPr>
              <a:t>RUMBO  y  MANT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liegues y fallas se producen  desde  dimenciones  microscópicos  (microestructuras)  a  macro  y   megascópicas  (megaestructuras  de  cientos  miles de   kilómetros de extens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IPSOIDE  DE   ESFUER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IPSOIDE   DE  DE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66880" y="1752480"/>
            <a:ext cx="3733920" cy="1752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200" y="4572000"/>
            <a:ext cx="3657600" cy="1752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ORDANCIA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uperficie de tiemp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CORDANCIA  DE   EROS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CORDANCIA   ANGUL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23:25:44Z</dcterms:created>
  <dc:creator>Universidad de Chile</dc:creator>
  <dc:description/>
  <dc:language>en-US</dc:language>
  <cp:lastModifiedBy>Departamento de Geología</cp:lastModifiedBy>
  <cp:lastPrinted>2001-08-28T23:16:25Z</cp:lastPrinted>
  <dcterms:modified xsi:type="dcterms:W3CDTF">2001-08-30T21:59:45Z</dcterms:modified>
  <cp:revision>17</cp:revision>
  <dc:subject/>
  <dc:title>DEFORMACIÓN DE LA CORTEZA Disciplina geológica: GEOLOGÍA ESTRUCTURAL</dc:title>
</cp:coreProperties>
</file>