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957-E0BE-4A98-9384-6383A601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E32-6277-458B-AD05-0E2D9AB8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F7B-F353-4450-8B7B-ABC68040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B00-C58C-4726-9A5B-9D388210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7CB-5548-4341-8CF4-66ABAB57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27E-8ED2-459E-B5EB-131129DA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490-8495-49ED-A8EA-FC11308B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928-0A09-43A9-9D78-2DC1F8EC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C79-92DB-4A4E-B934-347A34D5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067-07E4-440C-A117-E3B25140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D1A-7BF7-4491-9D0B-767FF13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555-76A7-482A-92DA-040254CD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CF9C-BBFC-4DE2-992D-44F1E7402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SOST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. Cam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F3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0840" y="392040"/>
            <a:ext cx="815652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La altitud así calculada se denomina altitud de desniveles sin corre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Dado que las superficies equipotenciales no son paralelas, la suma de los desniveles dh depende de la trayectoria seguida entre la superficie W=W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0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en el punto 0 y el punto 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n general esta suma no coincide con la altitud h. Por esa misma razón, su suma en un circuito cerrado no es nula. Si tomamos los incrementos del potencial y llamamos potencial cero a la superficie correspondiente a W=W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0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, el potencial en el punto A ser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1840" y="1020600"/>
                <a:ext cx="18925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019320" y="4978440"/>
                <a:ext cx="333864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d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9280" y="420840"/>
            <a:ext cx="8201160" cy="63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De 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l valor de W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A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no depende de la trayectoria seguida entre el nivel 0 y el nivel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Dado que el valor de W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A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representa una medida unívoca del potencial en el punto A, esta propiedad es la que debería poseer la altit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Si usamos el valor g=9.8 m s</a:t>
            </a:r>
            <a:r>
              <a:rPr b="0" lang="es-MX" sz="2000" spc="-1" strike="noStrike" baseline="30000">
                <a:solidFill>
                  <a:srgbClr val="ffff00"/>
                </a:solidFill>
                <a:latin typeface="Verdana Ref"/>
              </a:rPr>
              <a:t>-2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, tendremos un mejor valor para la altitu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32240" y="595440"/>
                <a:ext cx="24778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81360" y="4927680"/>
                <a:ext cx="29811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49280" y="363600"/>
            <a:ext cx="841860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n general se usa un valor promedio de g. De esta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Sin embargo el problema está en cómo calcular este valor promedio de g. Este valor vendría dado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Pero para este cálculo se necesita conocer g(z) entre A y el nivel cero, lo que evidentemente no es posible. Además se requiere conocer de antemano h, que es precisamente lo que se pretende med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887560" y="1154160"/>
                <a:ext cx="27669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887560" y="3492360"/>
                <a:ext cx="297036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33360" y="333360"/>
            <a:ext cx="85644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Para resolver este problema y definir altitud con sentido y rigor científico, se introducen ciertas hipótesis </a:t>
            </a:r>
            <a:r>
              <a:rPr b="0" lang="es-MX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existen diferentes aproximaciones de la altitud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Verdana Ref"/>
              </a:rPr>
              <a:t>Altitud Diná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Se define tomando el valor de g promedio el valor de </a:t>
            </a:r>
            <a:r>
              <a:rPr b="1" i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sobre el elipsoide a la latitud 45</a:t>
            </a:r>
            <a:r>
              <a:rPr b="0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. Este valor es 9,80629 m s</a:t>
            </a:r>
            <a:r>
              <a:rPr b="0" lang="es-MX" sz="2000" spc="-1" strike="noStrike" baseline="30000">
                <a:solidFill>
                  <a:srgbClr val="ffff00"/>
                </a:solidFill>
                <a:latin typeface="Verdana Ref"/>
              </a:rPr>
              <a:t>-2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sta expresión es utilizada para medir altitudes en Meteor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Los errores introducidos son del ~ 3 m en 1000 m de desni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647720" y="2984400"/>
                <a:ext cx="5246640" cy="186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62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3360" y="318960"/>
            <a:ext cx="84186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Verdana Ref"/>
              </a:rPr>
              <a:t>Altitud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Propuesta por Molodensky y consiste en hacer la integral para el promedio de g utilizando la gravedad normal </a:t>
            </a:r>
            <a:r>
              <a:rPr b="1" i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i="1" lang="es-MX" sz="2000" spc="-1" strike="noStrike">
                <a:solidFill>
                  <a:srgbClr val="ffff00"/>
                </a:solidFill>
                <a:latin typeface="Verdana Ref"/>
              </a:rPr>
              <a:t>(z) 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n vez</a:t>
            </a:r>
            <a:r>
              <a:rPr b="1" i="1" lang="es-MX" sz="2000" spc="-1" strike="noStrike">
                <a:solidFill>
                  <a:srgbClr val="ffff00"/>
                </a:solidFill>
                <a:latin typeface="Verdana Ref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de g(z) y la altura H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N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en vez de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ste valor se puede aproximar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Donde R es el radio de la Ti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74760" y="2027160"/>
                <a:ext cx="439740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44800" y="4219560"/>
                <a:ext cx="285444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0520" y="420840"/>
            <a:ext cx="84326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Así las altitudes normales H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N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vienen dada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Como en esta fórmula la altitud H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N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aparece también en el denominador, se procede resolviendo la ecuación cuadrática resultante o por aproximaciones suces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Verdana Ref"/>
              </a:rPr>
              <a:t>Tarea: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 Investigue que es la altitud ortométrica con aproximaciones de Poincaré y Prey (Altitudes ortométricas de Helme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14760" y="1220760"/>
                <a:ext cx="331632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3360" y="536400"/>
            <a:ext cx="8578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SOSTAS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enómeno se observó a mediados del siglo XIX en un gran estudio en I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La plomada no se desviaba hacia la montaña en la cantidad que se esperab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debía existir una deficiencia de masa bajo las montañ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oncepto de “raíc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8690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45128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97560" y="3900600"/>
            <a:ext cx="1949400" cy="968400"/>
          </a:xfrm>
          <a:custGeom>
            <a:avLst/>
            <a:gdLst/>
            <a:ahLst/>
            <a:rect l="l" t="t" r="r" b="b"/>
            <a:pathLst>
              <a:path w="1228" h="610">
                <a:moveTo>
                  <a:pt x="0" y="603"/>
                </a:moveTo>
                <a:cubicBezTo>
                  <a:pt x="78" y="553"/>
                  <a:pt x="14" y="595"/>
                  <a:pt x="62" y="562"/>
                </a:cubicBezTo>
                <a:cubicBezTo>
                  <a:pt x="69" y="557"/>
                  <a:pt x="83" y="548"/>
                  <a:pt x="83" y="548"/>
                </a:cubicBezTo>
                <a:cubicBezTo>
                  <a:pt x="95" y="513"/>
                  <a:pt x="95" y="490"/>
                  <a:pt x="132" y="479"/>
                </a:cubicBezTo>
                <a:cubicBezTo>
                  <a:pt x="156" y="406"/>
                  <a:pt x="175" y="427"/>
                  <a:pt x="215" y="381"/>
                </a:cubicBezTo>
                <a:cubicBezTo>
                  <a:pt x="220" y="375"/>
                  <a:pt x="223" y="366"/>
                  <a:pt x="229" y="361"/>
                </a:cubicBezTo>
                <a:cubicBezTo>
                  <a:pt x="242" y="350"/>
                  <a:pt x="271" y="333"/>
                  <a:pt x="271" y="333"/>
                </a:cubicBezTo>
                <a:cubicBezTo>
                  <a:pt x="299" y="288"/>
                  <a:pt x="309" y="231"/>
                  <a:pt x="326" y="180"/>
                </a:cubicBezTo>
                <a:cubicBezTo>
                  <a:pt x="329" y="171"/>
                  <a:pt x="341" y="167"/>
                  <a:pt x="347" y="159"/>
                </a:cubicBezTo>
                <a:cubicBezTo>
                  <a:pt x="367" y="135"/>
                  <a:pt x="363" y="122"/>
                  <a:pt x="389" y="104"/>
                </a:cubicBezTo>
                <a:cubicBezTo>
                  <a:pt x="429" y="42"/>
                  <a:pt x="405" y="76"/>
                  <a:pt x="458" y="41"/>
                </a:cubicBezTo>
                <a:cubicBezTo>
                  <a:pt x="475" y="16"/>
                  <a:pt x="489" y="17"/>
                  <a:pt x="513" y="0"/>
                </a:cubicBezTo>
                <a:cubicBezTo>
                  <a:pt x="545" y="8"/>
                  <a:pt x="559" y="11"/>
                  <a:pt x="583" y="34"/>
                </a:cubicBezTo>
                <a:cubicBezTo>
                  <a:pt x="592" y="62"/>
                  <a:pt x="607" y="73"/>
                  <a:pt x="631" y="90"/>
                </a:cubicBezTo>
                <a:cubicBezTo>
                  <a:pt x="653" y="123"/>
                  <a:pt x="637" y="108"/>
                  <a:pt x="687" y="125"/>
                </a:cubicBezTo>
                <a:cubicBezTo>
                  <a:pt x="703" y="130"/>
                  <a:pt x="729" y="152"/>
                  <a:pt x="729" y="152"/>
                </a:cubicBezTo>
                <a:cubicBezTo>
                  <a:pt x="753" y="190"/>
                  <a:pt x="797" y="202"/>
                  <a:pt x="826" y="236"/>
                </a:cubicBezTo>
                <a:cubicBezTo>
                  <a:pt x="848" y="261"/>
                  <a:pt x="871" y="288"/>
                  <a:pt x="895" y="312"/>
                </a:cubicBezTo>
                <a:cubicBezTo>
                  <a:pt x="935" y="352"/>
                  <a:pt x="902" y="284"/>
                  <a:pt x="958" y="367"/>
                </a:cubicBezTo>
                <a:cubicBezTo>
                  <a:pt x="980" y="399"/>
                  <a:pt x="1007" y="431"/>
                  <a:pt x="1034" y="458"/>
                </a:cubicBezTo>
                <a:cubicBezTo>
                  <a:pt x="1049" y="502"/>
                  <a:pt x="1105" y="528"/>
                  <a:pt x="1145" y="548"/>
                </a:cubicBezTo>
                <a:cubicBezTo>
                  <a:pt x="1153" y="552"/>
                  <a:pt x="1158" y="559"/>
                  <a:pt x="1166" y="562"/>
                </a:cubicBezTo>
                <a:cubicBezTo>
                  <a:pt x="1179" y="568"/>
                  <a:pt x="1207" y="576"/>
                  <a:pt x="1207" y="576"/>
                </a:cubicBezTo>
                <a:cubicBezTo>
                  <a:pt x="1224" y="600"/>
                  <a:pt x="1217" y="589"/>
                  <a:pt x="1228" y="6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5877000"/>
            <a:ext cx="4824360" cy="0"/>
          </a:xfrm>
          <a:prstGeom prst="line">
            <a:avLst/>
          </a:prstGeom>
          <a:ln w="12600">
            <a:solidFill>
              <a:srgbClr val="8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7451280" y="5877000"/>
            <a:ext cx="1368360" cy="0"/>
          </a:xfrm>
          <a:prstGeom prst="line">
            <a:avLst/>
          </a:prstGeom>
          <a:ln w="12600">
            <a:solidFill>
              <a:srgbClr val="8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5861160"/>
            <a:ext cx="1949400" cy="411120"/>
          </a:xfrm>
          <a:custGeom>
            <a:avLst/>
            <a:gdLst/>
            <a:ahLst/>
            <a:rect l="l" t="t" r="r" b="b"/>
            <a:pathLst>
              <a:path w="1228" h="259">
                <a:moveTo>
                  <a:pt x="0" y="0"/>
                </a:moveTo>
                <a:cubicBezTo>
                  <a:pt x="70" y="12"/>
                  <a:pt x="71" y="40"/>
                  <a:pt x="125" y="76"/>
                </a:cubicBezTo>
                <a:cubicBezTo>
                  <a:pt x="163" y="132"/>
                  <a:pt x="272" y="112"/>
                  <a:pt x="333" y="118"/>
                </a:cubicBezTo>
                <a:cubicBezTo>
                  <a:pt x="374" y="132"/>
                  <a:pt x="400" y="150"/>
                  <a:pt x="437" y="173"/>
                </a:cubicBezTo>
                <a:cubicBezTo>
                  <a:pt x="450" y="181"/>
                  <a:pt x="465" y="182"/>
                  <a:pt x="479" y="187"/>
                </a:cubicBezTo>
                <a:cubicBezTo>
                  <a:pt x="486" y="189"/>
                  <a:pt x="500" y="194"/>
                  <a:pt x="500" y="194"/>
                </a:cubicBezTo>
                <a:cubicBezTo>
                  <a:pt x="547" y="226"/>
                  <a:pt x="597" y="243"/>
                  <a:pt x="652" y="257"/>
                </a:cubicBezTo>
                <a:cubicBezTo>
                  <a:pt x="717" y="254"/>
                  <a:pt x="784" y="259"/>
                  <a:pt x="847" y="243"/>
                </a:cubicBezTo>
                <a:cubicBezTo>
                  <a:pt x="855" y="241"/>
                  <a:pt x="860" y="233"/>
                  <a:pt x="867" y="229"/>
                </a:cubicBezTo>
                <a:cubicBezTo>
                  <a:pt x="910" y="207"/>
                  <a:pt x="945" y="180"/>
                  <a:pt x="992" y="167"/>
                </a:cubicBezTo>
                <a:cubicBezTo>
                  <a:pt x="995" y="165"/>
                  <a:pt x="1055" y="125"/>
                  <a:pt x="1055" y="125"/>
                </a:cubicBezTo>
                <a:cubicBezTo>
                  <a:pt x="1079" y="109"/>
                  <a:pt x="1115" y="113"/>
                  <a:pt x="1138" y="97"/>
                </a:cubicBezTo>
                <a:cubicBezTo>
                  <a:pt x="1152" y="88"/>
                  <a:pt x="1166" y="78"/>
                  <a:pt x="1180" y="69"/>
                </a:cubicBezTo>
                <a:cubicBezTo>
                  <a:pt x="1192" y="61"/>
                  <a:pt x="1221" y="55"/>
                  <a:pt x="1221" y="55"/>
                </a:cubicBezTo>
                <a:cubicBezTo>
                  <a:pt x="1223" y="41"/>
                  <a:pt x="1228" y="14"/>
                  <a:pt x="1228" y="14"/>
                </a:cubicBezTo>
              </a:path>
            </a:pathLst>
          </a:custGeom>
          <a:noFill/>
          <a:ln w="12600">
            <a:solidFill>
              <a:srgbClr val="8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3645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19280" y="3429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763640" y="3429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8000" y="3429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50920" y="3429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95640" y="3429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35733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4581360"/>
            <a:ext cx="14436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64500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645000"/>
            <a:ext cx="57636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4221000"/>
            <a:ext cx="1447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437000"/>
            <a:ext cx="1447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4221000"/>
            <a:ext cx="360360" cy="227160"/>
          </a:xfrm>
          <a:custGeom>
            <a:avLst/>
            <a:gdLst/>
            <a:ahLst/>
            <a:rect l="l" t="t" r="r" b="b"/>
            <a:pathLst>
              <a:path w="227" h="143">
                <a:moveTo>
                  <a:pt x="0" y="45"/>
                </a:moveTo>
                <a:cubicBezTo>
                  <a:pt x="49" y="94"/>
                  <a:pt x="98" y="143"/>
                  <a:pt x="136" y="136"/>
                </a:cubicBezTo>
                <a:cubicBezTo>
                  <a:pt x="174" y="129"/>
                  <a:pt x="200" y="64"/>
                  <a:pt x="2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3933720"/>
            <a:ext cx="360360" cy="166680"/>
          </a:xfrm>
          <a:custGeom>
            <a:avLst/>
            <a:gdLst/>
            <a:ahLst/>
            <a:rect l="l" t="t" r="r" b="b"/>
            <a:pathLst>
              <a:path w="227" h="105">
                <a:moveTo>
                  <a:pt x="0" y="90"/>
                </a:moveTo>
                <a:cubicBezTo>
                  <a:pt x="49" y="97"/>
                  <a:pt x="98" y="105"/>
                  <a:pt x="136" y="90"/>
                </a:cubicBezTo>
                <a:cubicBezTo>
                  <a:pt x="174" y="75"/>
                  <a:pt x="200" y="37"/>
                  <a:pt x="227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79640" y="378936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050920" y="4419720"/>
                <a:ext cx="177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56000" y="4437000"/>
                <a:ext cx="23004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4941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4869000"/>
            <a:ext cx="1942920" cy="0"/>
          </a:xfrm>
          <a:prstGeom prst="line">
            <a:avLst/>
          </a:prstGeom>
          <a:ln w="12600">
            <a:solidFill>
              <a:srgbClr val="8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9534000">
            <a:off x="6746040" y="3935520"/>
            <a:ext cx="760680" cy="753840"/>
          </a:xfrm>
          <a:custGeom>
            <a:avLst/>
            <a:gdLst>
              <a:gd name="textAreaLeft" fmla="*/ 0 w 760680"/>
              <a:gd name="textAreaRight" fmla="*/ 761040 w 7606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096200">
            <a:off x="6708240" y="3924000"/>
            <a:ext cx="863640" cy="2517840"/>
          </a:xfrm>
          <a:custGeom>
            <a:avLst/>
            <a:gdLst>
              <a:gd name="textAreaLeft" fmla="*/ 0 w 863640"/>
              <a:gd name="textAreaRight" fmla="*/ 864000 w 863640"/>
              <a:gd name="textAreaTop" fmla="*/ 0 h 2517840"/>
              <a:gd name="textAreaBottom" fmla="*/ 2517840 h 2517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16" stAng="10800000" swAng="5400000"/>
                <a:lnTo>
                  <a:pt x="12427" y="4644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7514"/>
                </a:lnTo>
                <a:lnTo>
                  <a:pt x="12427" y="7514"/>
                </a:lnTo>
                <a:arcTo wR="9557" hR="4646" stAng="16200000" swAng="-5400000"/>
                <a:lnTo>
                  <a:pt x="287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3284640"/>
            <a:ext cx="1224000" cy="64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bbe0e3"/>
                </a:solidFill>
                <a:latin typeface="Arial"/>
              </a:rPr>
              <a:t>Exceso de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40464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MODELOS DE ISOSTASIA DE PRATT y AI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att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Utiliza el nivel de compensación constante para todos los bloques de diferente densidad que representan la cort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y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Utiliza un nivel de compensación  y bloques de diferente profundidad considerando que c/u de ellos tiene densidad cons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2151000"/>
            <a:ext cx="67690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03280" y="40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lo de Pr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6985080" cy="1822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411280" y="3424320"/>
                <a:ext cx="460872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03280" y="40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lo de Pr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6769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4360" y="4365720"/>
                <a:ext cx="8132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549360"/>
            <a:ext cx="80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 de Airy introduce el concepto de “raíces” bajo las montañ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s raíces bajo las regiones elevadas son del orden de una 5 a 8 veces la altura topográ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6985080" cy="3232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08000" y="4869000"/>
                <a:ext cx="478980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pes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39640" y="2637000"/>
            <a:ext cx="0" cy="1942920"/>
          </a:xfrm>
          <a:prstGeom prst="line">
            <a:avLst/>
          </a:prstGeom>
          <a:ln w="25560">
            <a:solidFill>
              <a:srgbClr val="3399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3640" y="2637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5056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335772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4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86240" y="3271680"/>
            <a:ext cx="385560" cy="2971800"/>
          </a:xfrm>
          <a:prstGeom prst="line">
            <a:avLst/>
          </a:prstGeom>
          <a:ln cap="rnd" w="6480">
            <a:solidFill>
              <a:srgbClr val="cc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71760" y="5472000"/>
            <a:ext cx="5243400" cy="314280"/>
          </a:xfrm>
          <a:custGeom>
            <a:avLst/>
            <a:gdLst/>
            <a:ahLst/>
            <a:rect l="l" t="t" r="r" b="b"/>
            <a:pathLst>
              <a:path w="3303" h="198">
                <a:moveTo>
                  <a:pt x="0" y="198"/>
                </a:moveTo>
                <a:cubicBezTo>
                  <a:pt x="539" y="108"/>
                  <a:pt x="1079" y="18"/>
                  <a:pt x="1629" y="9"/>
                </a:cubicBezTo>
                <a:cubicBezTo>
                  <a:pt x="2179" y="0"/>
                  <a:pt x="2741" y="72"/>
                  <a:pt x="3303" y="144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6120" y="5472000"/>
            <a:ext cx="171360" cy="1288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360" y="357120"/>
            <a:ext cx="845820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Podemos definir una altitud de un punto P si consideramos cualquiera de estas 2 superficies equipotenciales. La altitud será la distancia desde ese punto  a c/u de estas superficies medida a lo largo de sus nor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Sobre el geoide esta distancia será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Sobre el elipsoide será h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86000" y="4341960"/>
            <a:ext cx="5557680" cy="758520"/>
          </a:xfrm>
          <a:custGeom>
            <a:avLst/>
            <a:gdLst/>
            <a:ahLst/>
            <a:rect l="l" t="t" r="r" b="b"/>
            <a:pathLst>
              <a:path w="3501" h="478">
                <a:moveTo>
                  <a:pt x="0" y="469"/>
                </a:moveTo>
                <a:cubicBezTo>
                  <a:pt x="262" y="234"/>
                  <a:pt x="524" y="0"/>
                  <a:pt x="1107" y="1"/>
                </a:cubicBezTo>
                <a:cubicBezTo>
                  <a:pt x="1690" y="2"/>
                  <a:pt x="2595" y="240"/>
                  <a:pt x="3501" y="478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43160" y="3519360"/>
            <a:ext cx="5586120" cy="1238400"/>
          </a:xfrm>
          <a:custGeom>
            <a:avLst/>
            <a:gdLst/>
            <a:ahLst/>
            <a:rect l="l" t="t" r="r" b="b"/>
            <a:pathLst>
              <a:path w="3519" h="780">
                <a:moveTo>
                  <a:pt x="0" y="726"/>
                </a:moveTo>
                <a:cubicBezTo>
                  <a:pt x="71" y="617"/>
                  <a:pt x="143" y="508"/>
                  <a:pt x="243" y="447"/>
                </a:cubicBezTo>
                <a:cubicBezTo>
                  <a:pt x="343" y="386"/>
                  <a:pt x="438" y="426"/>
                  <a:pt x="603" y="357"/>
                </a:cubicBezTo>
                <a:cubicBezTo>
                  <a:pt x="768" y="288"/>
                  <a:pt x="1047" y="66"/>
                  <a:pt x="1233" y="33"/>
                </a:cubicBezTo>
                <a:cubicBezTo>
                  <a:pt x="1419" y="0"/>
                  <a:pt x="1535" y="89"/>
                  <a:pt x="1719" y="159"/>
                </a:cubicBezTo>
                <a:cubicBezTo>
                  <a:pt x="1903" y="229"/>
                  <a:pt x="2180" y="414"/>
                  <a:pt x="2340" y="456"/>
                </a:cubicBezTo>
                <a:cubicBezTo>
                  <a:pt x="2500" y="498"/>
                  <a:pt x="2486" y="357"/>
                  <a:pt x="2682" y="411"/>
                </a:cubicBezTo>
                <a:cubicBezTo>
                  <a:pt x="2878" y="465"/>
                  <a:pt x="3198" y="622"/>
                  <a:pt x="3519" y="780"/>
                </a:cubicBezTo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62434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12264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314880" y="2874960"/>
            <a:ext cx="342720" cy="1467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604200">
            <a:off x="3314520" y="4214520"/>
            <a:ext cx="171360" cy="12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314880" y="3519360"/>
            <a:ext cx="171360" cy="69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7480" y="367200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7480" y="4214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33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461160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ccecff"/>
                </a:solidFill>
                <a:latin typeface="Times New Roman"/>
              </a:rPr>
              <a:t>h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72000" y="3573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99ff33"/>
                </a:solidFill>
                <a:latin typeface="Times New Roman"/>
              </a:rPr>
              <a:t>Superficie de 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29280" y="4824360"/>
            <a:ext cx="205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3300"/>
                </a:solidFill>
                <a:latin typeface="Times New Roman"/>
              </a:rPr>
              <a:t>Geoide W=W</a:t>
            </a:r>
            <a:r>
              <a:rPr b="1" i="1" lang="es-MX" sz="18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15160" y="5465880"/>
            <a:ext cx="205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00"/>
                </a:solidFill>
                <a:latin typeface="Times New Roman"/>
              </a:rPr>
              <a:t>Elipsoide U=W</a:t>
            </a:r>
            <a:r>
              <a:rPr b="1" i="1" lang="es-MX" sz="1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9960" y="314280"/>
            <a:ext cx="8444160" cy="62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n esta definición la altitud h está medida según la vertical fí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La altitud a un punto A es la distancia h entre este punto y la superficie del geoide W=W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0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. Pero esta distancia no se puede medir directamente. En la práctica se determina sumando incrementos de altitud o desniveles dh medidos a lo largo de la superficie de la Tierra desde el nivel de mar hasta el punto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ste tipo de medidas se realizan mediante niveles y mi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6022800"/>
            <a:ext cx="5948640" cy="581040"/>
          </a:xfrm>
          <a:custGeom>
            <a:avLst/>
            <a:gdLst/>
            <a:ahLst/>
            <a:rect l="l" t="t" r="r" b="b"/>
            <a:pathLst>
              <a:path w="3339" h="220">
                <a:moveTo>
                  <a:pt x="0" y="220"/>
                </a:moveTo>
                <a:cubicBezTo>
                  <a:pt x="541" y="114"/>
                  <a:pt x="1082" y="8"/>
                  <a:pt x="1638" y="4"/>
                </a:cubicBezTo>
                <a:cubicBezTo>
                  <a:pt x="2194" y="0"/>
                  <a:pt x="2766" y="96"/>
                  <a:pt x="3339" y="19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85920" y="4371840"/>
            <a:ext cx="5500800" cy="1986120"/>
          </a:xfrm>
          <a:custGeom>
            <a:avLst/>
            <a:gdLst/>
            <a:ahLst/>
            <a:rect l="l" t="t" r="r" b="b"/>
            <a:pathLst>
              <a:path w="3465" h="1251">
                <a:moveTo>
                  <a:pt x="0" y="1251"/>
                </a:moveTo>
                <a:cubicBezTo>
                  <a:pt x="47" y="1235"/>
                  <a:pt x="82" y="1216"/>
                  <a:pt x="126" y="1197"/>
                </a:cubicBezTo>
                <a:cubicBezTo>
                  <a:pt x="214" y="1159"/>
                  <a:pt x="319" y="1140"/>
                  <a:pt x="396" y="1080"/>
                </a:cubicBezTo>
                <a:cubicBezTo>
                  <a:pt x="467" y="1025"/>
                  <a:pt x="549" y="954"/>
                  <a:pt x="612" y="891"/>
                </a:cubicBezTo>
                <a:cubicBezTo>
                  <a:pt x="649" y="854"/>
                  <a:pt x="666" y="795"/>
                  <a:pt x="711" y="765"/>
                </a:cubicBezTo>
                <a:cubicBezTo>
                  <a:pt x="722" y="757"/>
                  <a:pt x="777" y="748"/>
                  <a:pt x="783" y="747"/>
                </a:cubicBezTo>
                <a:cubicBezTo>
                  <a:pt x="869" y="736"/>
                  <a:pt x="958" y="734"/>
                  <a:pt x="1044" y="729"/>
                </a:cubicBezTo>
                <a:cubicBezTo>
                  <a:pt x="1109" y="707"/>
                  <a:pt x="1169" y="669"/>
                  <a:pt x="1233" y="648"/>
                </a:cubicBezTo>
                <a:cubicBezTo>
                  <a:pt x="1264" y="617"/>
                  <a:pt x="1299" y="604"/>
                  <a:pt x="1332" y="576"/>
                </a:cubicBezTo>
                <a:cubicBezTo>
                  <a:pt x="1369" y="544"/>
                  <a:pt x="1402" y="511"/>
                  <a:pt x="1449" y="495"/>
                </a:cubicBezTo>
                <a:cubicBezTo>
                  <a:pt x="1461" y="486"/>
                  <a:pt x="1470" y="469"/>
                  <a:pt x="1485" y="468"/>
                </a:cubicBezTo>
                <a:cubicBezTo>
                  <a:pt x="1593" y="457"/>
                  <a:pt x="1701" y="481"/>
                  <a:pt x="1809" y="486"/>
                </a:cubicBezTo>
                <a:cubicBezTo>
                  <a:pt x="1884" y="482"/>
                  <a:pt x="1965" y="498"/>
                  <a:pt x="2034" y="468"/>
                </a:cubicBezTo>
                <a:cubicBezTo>
                  <a:pt x="2077" y="450"/>
                  <a:pt x="2206" y="377"/>
                  <a:pt x="2241" y="342"/>
                </a:cubicBezTo>
                <a:cubicBezTo>
                  <a:pt x="2279" y="304"/>
                  <a:pt x="2318" y="231"/>
                  <a:pt x="2358" y="198"/>
                </a:cubicBezTo>
                <a:cubicBezTo>
                  <a:pt x="2405" y="159"/>
                  <a:pt x="2474" y="150"/>
                  <a:pt x="2529" y="126"/>
                </a:cubicBezTo>
                <a:cubicBezTo>
                  <a:pt x="2622" y="86"/>
                  <a:pt x="2668" y="57"/>
                  <a:pt x="2772" y="45"/>
                </a:cubicBezTo>
                <a:cubicBezTo>
                  <a:pt x="2875" y="54"/>
                  <a:pt x="2918" y="62"/>
                  <a:pt x="3024" y="54"/>
                </a:cubicBezTo>
                <a:cubicBezTo>
                  <a:pt x="3042" y="48"/>
                  <a:pt x="3062" y="47"/>
                  <a:pt x="3078" y="36"/>
                </a:cubicBezTo>
                <a:cubicBezTo>
                  <a:pt x="3087" y="30"/>
                  <a:pt x="3095" y="22"/>
                  <a:pt x="3105" y="18"/>
                </a:cubicBezTo>
                <a:cubicBezTo>
                  <a:pt x="3122" y="10"/>
                  <a:pt x="3159" y="0"/>
                  <a:pt x="3159" y="0"/>
                </a:cubicBezTo>
                <a:cubicBezTo>
                  <a:pt x="3252" y="5"/>
                  <a:pt x="3304" y="5"/>
                  <a:pt x="3384" y="27"/>
                </a:cubicBezTo>
                <a:cubicBezTo>
                  <a:pt x="3402" y="32"/>
                  <a:pt x="3420" y="39"/>
                  <a:pt x="3438" y="45"/>
                </a:cubicBezTo>
                <a:cubicBezTo>
                  <a:pt x="3447" y="48"/>
                  <a:pt x="3465" y="54"/>
                  <a:pt x="3465" y="54"/>
                </a:cubicBezTo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85920" y="5743440"/>
            <a:ext cx="0" cy="6145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5920" y="5743440"/>
            <a:ext cx="228600" cy="6145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1087000">
            <a:off x="1057320" y="5654520"/>
            <a:ext cx="457200" cy="8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960" y="5392800"/>
            <a:ext cx="6158160" cy="457200"/>
          </a:xfrm>
          <a:custGeom>
            <a:avLst/>
            <a:gdLst/>
            <a:ahLst/>
            <a:rect l="l" t="t" r="r" b="b"/>
            <a:pathLst>
              <a:path w="3339" h="220">
                <a:moveTo>
                  <a:pt x="0" y="220"/>
                </a:moveTo>
                <a:cubicBezTo>
                  <a:pt x="541" y="114"/>
                  <a:pt x="1082" y="8"/>
                  <a:pt x="1638" y="4"/>
                </a:cubicBezTo>
                <a:cubicBezTo>
                  <a:pt x="2194" y="0"/>
                  <a:pt x="2766" y="96"/>
                  <a:pt x="3339" y="193"/>
                </a:cubicBezTo>
              </a:path>
            </a:pathLst>
          </a:custGeom>
          <a:noFill/>
          <a:ln cap="rnd" w="648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86080" y="4689360"/>
            <a:ext cx="5300640" cy="349200"/>
          </a:xfrm>
          <a:custGeom>
            <a:avLst/>
            <a:gdLst/>
            <a:ahLst/>
            <a:rect l="l" t="t" r="r" b="b"/>
            <a:pathLst>
              <a:path w="3339" h="220">
                <a:moveTo>
                  <a:pt x="0" y="220"/>
                </a:moveTo>
                <a:cubicBezTo>
                  <a:pt x="541" y="114"/>
                  <a:pt x="1082" y="8"/>
                  <a:pt x="1638" y="4"/>
                </a:cubicBezTo>
                <a:cubicBezTo>
                  <a:pt x="2194" y="0"/>
                  <a:pt x="2766" y="96"/>
                  <a:pt x="3339" y="193"/>
                </a:cubicBezTo>
              </a:path>
            </a:pathLst>
          </a:custGeom>
          <a:noFill/>
          <a:ln cap="rnd" w="648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147600">
            <a:off x="2695320" y="4733640"/>
            <a:ext cx="457200" cy="8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4280" y="4778280"/>
            <a:ext cx="228600" cy="6145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24280" y="4778280"/>
            <a:ext cx="0" cy="7556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05240" y="3686040"/>
            <a:ext cx="0" cy="14432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4520" y="3970440"/>
            <a:ext cx="5300640" cy="349200"/>
          </a:xfrm>
          <a:custGeom>
            <a:avLst/>
            <a:gdLst/>
            <a:ahLst/>
            <a:rect l="l" t="t" r="r" b="b"/>
            <a:pathLst>
              <a:path w="3339" h="220">
                <a:moveTo>
                  <a:pt x="0" y="220"/>
                </a:moveTo>
                <a:cubicBezTo>
                  <a:pt x="541" y="114"/>
                  <a:pt x="1082" y="8"/>
                  <a:pt x="1638" y="4"/>
                </a:cubicBezTo>
                <a:cubicBezTo>
                  <a:pt x="2194" y="0"/>
                  <a:pt x="2766" y="96"/>
                  <a:pt x="3339" y="193"/>
                </a:cubicBezTo>
              </a:path>
            </a:pathLst>
          </a:custGeom>
          <a:noFill/>
          <a:ln cap="rnd" w="648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75320" y="4059360"/>
            <a:ext cx="0" cy="4395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75320" y="4059360"/>
            <a:ext cx="228600" cy="4395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61000">
            <a:off x="5346360" y="3970080"/>
            <a:ext cx="457200" cy="8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62000" y="4689360"/>
            <a:ext cx="217800" cy="11606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392800"/>
            <a:ext cx="217440" cy="10936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91080" y="4371840"/>
            <a:ext cx="166680" cy="75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8120" y="6486480"/>
            <a:ext cx="110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Verdana Ref"/>
              </a:rPr>
              <a:t>W=W</a:t>
            </a:r>
            <a:r>
              <a:rPr b="1" i="1" lang="es-MX" sz="1400" spc="-1" strike="noStrike" baseline="-25000">
                <a:solidFill>
                  <a:srgbClr val="ffff00"/>
                </a:solidFill>
                <a:latin typeface="Verdana Ref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8120" y="5697360"/>
            <a:ext cx="110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Verdana Ref"/>
              </a:rPr>
              <a:t>W=W</a:t>
            </a:r>
            <a:r>
              <a:rPr b="1" i="1" lang="es-MX" sz="1400" spc="-1" strike="noStrike" baseline="-25000">
                <a:solidFill>
                  <a:srgbClr val="ffff00"/>
                </a:solidFill>
                <a:latin typeface="Verdana Ref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6720" y="4886280"/>
            <a:ext cx="110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Verdana Ref"/>
              </a:rPr>
              <a:t>W=W</a:t>
            </a:r>
            <a:r>
              <a:rPr b="1" i="1" lang="es-MX" sz="1400" spc="-1" strike="noStrike" baseline="-25000">
                <a:solidFill>
                  <a:srgbClr val="ffff00"/>
                </a:solidFill>
                <a:latin typeface="Verdana Ref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15160" y="4067280"/>
            <a:ext cx="110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Verdana Ref"/>
              </a:rPr>
              <a:t>W=W</a:t>
            </a:r>
            <a:r>
              <a:rPr b="1" i="1" lang="es-MX" sz="1400" spc="-1" strike="noStrike" baseline="-25000">
                <a:solidFill>
                  <a:srgbClr val="ffff00"/>
                </a:solidFill>
                <a:latin typeface="Verdana Ref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54440" y="419400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Verdana Ref"/>
              </a:rPr>
              <a:t>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54440" y="3970440"/>
            <a:ext cx="0" cy="7635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5560" y="512928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3300"/>
                </a:solidFill>
                <a:latin typeface="Verdana Ref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457960" y="353700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00"/>
                </a:solidFill>
                <a:latin typeface="Verdana Ref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26:26Z</dcterms:created>
  <dc:creator>jaime</dc:creator>
  <dc:description/>
  <dc:language>en-US</dc:language>
  <cp:lastModifiedBy>jaime</cp:lastModifiedBy>
  <dcterms:modified xsi:type="dcterms:W3CDTF">2007-03-23T15:24:38Z</dcterms:modified>
  <cp:revision>3</cp:revision>
  <dc:subject/>
  <dc:title>Diapositiva 1</dc:title>
</cp:coreProperties>
</file>