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384C-A9C8-4A5C-B5F0-D709F920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A06-69FF-4A42-A69C-17CBB85B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4F3D-1F21-44FD-B8BE-47EA5B26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593-36BF-4EAF-B400-F3B8D1E9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03D-A8CD-4068-B371-C51C6557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F47-330A-4045-8E96-83298ADF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496F-0FBC-4AB8-A499-295828D4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E10-C5BF-43CB-BD83-3FFE02F7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6F70-BB14-4FD8-BB4F-52C7C98C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2420-88E4-4B97-9155-E995AF1B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C5C-1DCB-4472-8AFF-F2DADBB2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592-A9B1-4EEC-AC82-FBD86171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FCA8-B008-44E0-BA7C-A42CC09F18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cion Canonica  en la Aproximacion Clas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e 07 Junio,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RAPIDEZ MOLECULAR(para una clase de moleculas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757680"/>
            <a:ext cx="2971800" cy="265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14400" y="1550880"/>
                <a:ext cx="16002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955960" y="1447920"/>
            <a:ext cx="603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 promedio de moleculas, por unidad de volumen, que tienen una rapidez v=|v| en el rango (v, v+d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1560" y="2286000"/>
                <a:ext cx="82454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ascaron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ascaro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p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613320" y="3657600"/>
                <a:ext cx="51195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β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033880" y="5032440"/>
                <a:ext cx="19717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F</m:t>
                        </m:r>
                      </m:e>
                    </m:nary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RAPIDEZ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6576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RAPIDEZ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90720" y="1574640"/>
            <a:ext cx="701028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638680" cy="270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505320" y="5181480"/>
                <a:ext cx="19047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44880" y="2428920"/>
            <a:ext cx="669420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92320" y="2100240"/>
            <a:ext cx="4170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86040" y="1995480"/>
            <a:ext cx="468144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9660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ores especificos de los solid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3136680" cy="3289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27160" y="1365120"/>
            <a:ext cx="77119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Y DE DULONG Y PETIT: A temperaturas suficientemente altas, todos los solidos tienen un calor especifico molar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independiente de la temperatura e igual a 3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ores especificos de los solid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3962520" cy="3282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36640" y="1119240"/>
            <a:ext cx="6416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aginemos, por simplicidad, que los atomos del solido estan localizados en los centros de cubos de lado “a”, por lo que las distancias intermoleculares son tambien igual a “a”. Se ilustra una vista de la suerficie (2-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2286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iferencia FISICA entre las escala de temperaturas  Kelvin y Cels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2480"/>
            <a:ext cx="2590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la escala Kelvin (T_abs),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 la temperatura en la cual esencialmente no hay movimiento atomico(molecular)  y se le llama cero absoluto (aprox. –27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). T_abs es una medida de l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netica promedio de las particulas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71800" y="1619280"/>
            <a:ext cx="61722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ores promedios, dispersion (o varianza), y desviacion estandar.-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3289320" cy="3962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75280" y="2403360"/>
            <a:ext cx="313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0" y="1600200"/>
                <a:ext cx="1219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º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72000" y="2895480"/>
                <a:ext cx="15429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uºu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14800" y="3886200"/>
                <a:ext cx="44956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(</m:t>
                        </m:r>
                        <m:r>
                          <m:t xml:space="preserve">Du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º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α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º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α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</m:e>
                    </m:nary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724280" y="5207040"/>
                <a:ext cx="342900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D</m:t>
                        </m:r>
                      </m:e>
                      <m:lim>
                        <m:r>
                          <m:t xml:space="preserve">»</m:t>
                        </m:r>
                      </m:lim>
                    </m:limLow>
                    <m:r>
                      <m:t xml:space="preserve">º</m:t>
                    </m:r>
                    <m:r>
                      <m:t xml:space="preserve">[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(</m:t>
                        </m:r>
                        <m:r>
                          <m:t xml:space="preserve">Du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sSup>
                      <m:e>
                        <m:r>
                          <m:t xml:space="preserve">]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58092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FIN PPT 07 JUNIO_07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AMES CLERCK MAXWELL (1831-1879): Derivo la distribucion de velocidades moleculares en 1859.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03680" y="310032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75080" y="3252960"/>
            <a:ext cx="37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266688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268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VELOCIDADES DE MAXWE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a un Gas Ideal en volumen V y @T.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895480" y="4800600"/>
                <a:ext cx="30164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2803680" y="310032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5080" y="3252960"/>
            <a:ext cx="37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55760" y="264312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50840" y="2567160"/>
            <a:ext cx="75596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semos en terminos clasicos y pongamos atencion sobre una molecula (A). El resto de las moleculas (A’) es la Fuente de Calor. Suponiendo, inicialmente, que la molecula es monoatomica y que los campos de fuerza externos son despreciables, entonces la energia de la molecula es su energia cinetic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icamente, podemos preguntar sobre la probabilidad que la molecula tenga una posicion y cantidad de movimiento tal que:  (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d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y (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d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048120" y="259092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º</m:t>
                    </m:r>
                    <m:r>
                      <m:rPr>
                        <m:lit/>
                        <m:nor/>
                      </m:rPr>
                      <m:t xml:space="preserve">dxdy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048120" y="3200400"/>
                <a:ext cx="25653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º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951200" y="3809880"/>
                <a:ext cx="5548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sSup>
                      <m:e>
                        <m:r>
                          <m:t xml:space="preserve">µ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/>
                    </m:acc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050840" y="4471920"/>
            <a:ext cx="618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alogamente, considerando: v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 (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, v+  d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752480" y="4876920"/>
                <a:ext cx="533412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sSup>
                      <m:e>
                        <m:r>
                          <m:t xml:space="preserve">µ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/>
                    </m:acc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 el gas consiste en una mezcla de moleculas con distinta masa, podemos preguntar cuantas moleculas de una clase dada tienen su velocidad en un determinado rango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398600" y="5394240"/>
                <a:ext cx="58276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54040" y="2666880"/>
                <a:ext cx="1697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803680" y="2414520"/>
            <a:ext cx="481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 promedio de moleculas (de una clase dada), por unidad de volumen, que tienen una velocidad entre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v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  (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392120" y="3962520"/>
                <a:ext cx="59706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α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mos que: f no depende  de la posici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 la molecula; depende solo del modulo de la velocidad y no de su direccion. [simetrias] TAREA: a) Calcular la constante C; b) Demostrar validez de la distribucion para moleculas poliatomicas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981080" y="3505320"/>
                <a:ext cx="48085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ò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ò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276720" y="4419720"/>
                <a:ext cx="24350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616200" y="5334120"/>
                <a:ext cx="16052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USION DE LA DISTRIBUCION DE MAXWELL: distribucion de una componente de la velocida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3048120" cy="266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7200" y="2013120"/>
                <a:ext cx="22860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336840" y="1957320"/>
            <a:ext cx="5502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 promedio de moleculas, por unidad de volumen, que tienen la componente x de la velocidad en el rango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d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232160" y="3276720"/>
                <a:ext cx="39322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e>
                        </m:nary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72000" y="4419720"/>
                <a:ext cx="33591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114800" y="5410080"/>
                <a:ext cx="440064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g</m:t>
                        </m:r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. Discusion de la distrib. de Maxwel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80880" y="3962520"/>
            <a:ext cx="85345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funcion g(vx) es simetrica c/r  vx=0, luego el valor promedio es cero. El maximo de la funcion ocurre para vx=0; se hace muy peque~na para       |ßm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| &gt;&gt; 1 . Es decir, el maximo de g se hace mas marcado cuando disminuye T. Lo mismo es valido para las otras componentes de la velocida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819520" y="2971800"/>
                <a:ext cx="24987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º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g</m:t>
                        </m:r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969920" y="2043000"/>
                <a:ext cx="429588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β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09920" y="1222200"/>
                <a:ext cx="16938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β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914400" y="5378400"/>
                <a:ext cx="26668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===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5427720"/>
                <a:ext cx="2438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--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03:20:17Z</dcterms:created>
  <dc:creator>Kelle Slater</dc:creator>
  <dc:description/>
  <dc:language>en-US</dc:language>
  <cp:lastModifiedBy>Luis Campusano</cp:lastModifiedBy>
  <cp:lastPrinted>2005-08-30T17:06:24Z</cp:lastPrinted>
  <dcterms:modified xsi:type="dcterms:W3CDTF">2007-06-07T03:46:17Z</dcterms:modified>
  <cp:revision>66</cp:revision>
  <dc:subject/>
  <dc:title>Chapter 5 The Nature of Light</dc:title>
</cp:coreProperties>
</file>