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09C-3860-4D46-A4D0-ED9A6005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012-5C45-4FEB-8CD8-399A2661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F34-F3D3-403D-8579-73167681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FAA-AF84-4A07-8182-170F0667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AB0-6158-43B0-9273-65D76E11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095-A3E4-4834-AFE6-9F464FCC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3B9-12EB-4A8E-917B-4ECE3C22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563-94E2-47FD-A778-D1F4ADF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4A5-5152-4C61-88EE-7DF59141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981-1310-47BA-B11C-A36589D9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204-13C3-447C-92C7-AD6EB251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B3A-E907-4674-82D5-051D8796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3008-EBEF-419C-924E-F07BC09A2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cion Canonica  en la Aproximacion Cla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e 07 Junio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MOLECULAR(para una clase de molecula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757680"/>
            <a:ext cx="2971800" cy="26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1550880"/>
                <a:ext cx="16002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55960" y="1447920"/>
            <a:ext cx="60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una rapidez v=|v| en el rango (v, v+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1560" y="2286000"/>
                <a:ext cx="824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p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613320" y="3657600"/>
                <a:ext cx="5119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33880" y="5032440"/>
                <a:ext cx="1971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57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574640"/>
            <a:ext cx="701028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270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05320" y="5181480"/>
                <a:ext cx="19047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4880" y="2428920"/>
            <a:ext cx="66942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92320" y="2100240"/>
            <a:ext cx="4170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86040" y="1995480"/>
            <a:ext cx="46814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96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3136680" cy="3289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27160" y="1365120"/>
            <a:ext cx="7711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DE DULONG Y PETIT: A temperaturas suficientemente altas, todos los solidos tienen un calor especifico molar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dependiente de la temperatura e igual a 3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962520" cy="328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6640" y="1119240"/>
            <a:ext cx="641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aginemos, por simplicidad, que los atomos del solido estan localizados en los centros de cubos de lado “a”, por lo que las distancias intermoleculares son tambien igual a “a”. Se ilustra una vista de la suerficie (2-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ferencia FISICA entre las escala de temperaturas  Kelvin y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2480"/>
            <a:ext cx="25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escala Kelvin (T_abs),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la temperatura en la cual esencialmente no hay movimiento atomico(molecular)  y se le llama cero absoluto (aprox. –27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. T_abs es una medida de l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netica promedio de las particulas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1800" y="1619280"/>
            <a:ext cx="6172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ores promedios, dispersion (o varianza), y desviacion estandar.-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289320" cy="396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75280" y="240336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0" y="1600200"/>
                <a:ext cx="121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º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0" y="2895480"/>
                <a:ext cx="1542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uºu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3886200"/>
                <a:ext cx="44956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724280" y="5207040"/>
                <a:ext cx="34290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»</m:t>
                        </m:r>
                      </m:lim>
                    </m:limLow>
                    <m:r>
                      <m:t xml:space="preserve">º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580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IN PPT 07 JUNIO_0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MES CLERCK MAXWELL (1831-1879): Derivo la distribucion de velocidades moleculares en 1859.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6668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268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VELOCIDADES DE MAXWE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 un Gas Ideal en volumen V y @T.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95480" y="4800600"/>
                <a:ext cx="30164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55760" y="264312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50840" y="2567160"/>
            <a:ext cx="7559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emos en terminos clasicos y pongamos atencion sobre una molecula (A). El resto de las moleculas (A’) es la Fuente de Calor. Suponiendo, inicialmente, que la molecula es monoatomica y que los campos de fuerza externos son despreciables, entonces la energia de la molecula es su energia cinetic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icamente, podemos preguntar sobre la probabilidad que la molecula tenga una posicion y cantidad de movimiento tal que: 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y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8120" y="259092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º</m:t>
                    </m:r>
                    <m:r>
                      <m:rPr>
                        <m:lit/>
                        <m:nor/>
                      </m:rPr>
                      <m:t xml:space="preserve">dxdy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8120" y="3200400"/>
                <a:ext cx="2565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º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51200" y="3809880"/>
                <a:ext cx="5548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50840" y="4471920"/>
            <a:ext cx="61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ogamente, considerando: 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, v+  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752480" y="4876920"/>
                <a:ext cx="5334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el gas consiste en una mezcla de moleculas con distinta masa, podemos preguntar cuantas moleculas de una clase dada tienen su velocidad en un determinado rang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98600" y="5394240"/>
                <a:ext cx="5827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4040" y="2666880"/>
                <a:ext cx="1697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03680" y="2414520"/>
            <a:ext cx="481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 (de una clase dada), por unidad de volumen, que tienen una velocidad entr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 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392120" y="3962520"/>
                <a:ext cx="5970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α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mos que: f no depende  de la posic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la molecula; depende solo del modulo de la velocidad y no de su direccion. [simetrias] TAREA: a) Calcular la constante C; b) Demostrar validez de la distribucion para moleculas poliatomica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3505320"/>
                <a:ext cx="48085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ò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ò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76720" y="4419720"/>
                <a:ext cx="24350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616200" y="5334120"/>
                <a:ext cx="1605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ION DE LA DISTRIBUCION DE MAXWELL: distribucion de una componente de la velocid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304812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2013120"/>
                <a:ext cx="22860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336840" y="1957320"/>
            <a:ext cx="5502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la componente x de la velocidad en el rango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d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232160" y="3276720"/>
                <a:ext cx="3932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0" y="4419720"/>
                <a:ext cx="335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14800" y="5410080"/>
                <a:ext cx="44006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. Discusion de la distrib. de Maxwel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0880" y="3962520"/>
            <a:ext cx="8534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funcion g(vx) es simetrica c/r  vx=0, luego el valor promedio es cero. El maximo de la funcion ocurre para vx=0; se hace muy peque~na para       |ßm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| &gt;&gt; 1 . Es decir, el maximo de g se hace mas marcado cuando disminuye T. Lo mismo es valido para las otras componentes de la velocida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19520" y="2971800"/>
                <a:ext cx="2498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69920" y="2043000"/>
                <a:ext cx="42958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09920" y="1222200"/>
                <a:ext cx="16938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5378400"/>
                <a:ext cx="2666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==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5427720"/>
                <a:ext cx="2438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-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3:20:17Z</dcterms:created>
  <dc:creator>Kelle Slater</dc:creator>
  <dc:description/>
  <dc:language>en-US</dc:language>
  <cp:lastModifiedBy>Luis Campusano</cp:lastModifiedBy>
  <cp:lastPrinted>2005-08-30T17:06:24Z</cp:lastPrinted>
  <dcterms:modified xsi:type="dcterms:W3CDTF">2007-06-07T03:46:17Z</dcterms:modified>
  <cp:revision>66</cp:revision>
  <dc:subject/>
  <dc:title>Chapter 5 The Nature of Light</dc:title>
</cp:coreProperties>
</file>