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36C-5B60-40CD-A39C-32408215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4CE-A5E9-430E-83A9-6CC74AC8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996-4D5D-4321-87DF-55800E44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64B-4913-4A1E-A281-4AE9BC3C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8BF-A389-4965-AEC3-7B86730D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8B3-CEE6-4AAB-B31E-AA277372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182-AFE3-42E7-8EF7-8C3BB6DA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E2A-19D4-4288-B377-53BD5E8D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C0F-D96A-4128-8257-28164FF8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538-069E-4E56-A187-CB42A856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145-3C69-4C1F-8CC9-32A0B066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45A-F868-4207-BD93-0A5EFF74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712A-30DC-4212-A540-6608E8500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cion Canonica  en la Aproximacion Clas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e 07 Junio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MOLECULAR(para una clase de molecula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757680"/>
            <a:ext cx="2971800" cy="26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1550880"/>
                <a:ext cx="16002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55960" y="1447920"/>
            <a:ext cx="603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una rapidez v=|v| en el rango (v, v+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1560" y="2286000"/>
                <a:ext cx="8245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p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613320" y="3657600"/>
                <a:ext cx="5119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33880" y="5032440"/>
                <a:ext cx="19717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57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1574640"/>
            <a:ext cx="701028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38680" cy="270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05320" y="5181480"/>
                <a:ext cx="19047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4880" y="2428920"/>
            <a:ext cx="66942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92320" y="2100240"/>
            <a:ext cx="4170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86040" y="1995480"/>
            <a:ext cx="468144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966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3136680" cy="3289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27160" y="1365120"/>
            <a:ext cx="7711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DE DULONG Y PETIT: A temperaturas suficientemente altas, todos los solidos tienen un calor especifico molar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ndependiente de la temperatura e igual a 3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3962520" cy="3282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6640" y="1119240"/>
            <a:ext cx="641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aginemos, por simplicidad, que los atomos del solido estan localizados en los centros de cubos de lado “a”, por lo que las distancias intermoleculares son tambien igual a “a”. Se ilustra una vista de la suerficie (2-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ferencia FISICA entre las escala de temperaturas  Kelvin y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2480"/>
            <a:ext cx="259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a escala Kelvin (T_abs),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la temperatura en la cual esencialmente no hay movimiento atomico(molecular)  y se le llama cero absoluto (aprox. –27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. T_abs es una medida de l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netica promedio de las particulas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71800" y="1619280"/>
            <a:ext cx="6172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ores promedios, dispersion (o varianza), y desviacion estandar.-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289320" cy="396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75280" y="240336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0" y="1600200"/>
                <a:ext cx="121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º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0" y="2895480"/>
                <a:ext cx="1542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uºu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3886200"/>
                <a:ext cx="44956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724280" y="5207040"/>
                <a:ext cx="34290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D</m:t>
                        </m:r>
                      </m:e>
                      <m:lim>
                        <m:r>
                          <m:t xml:space="preserve">»</m:t>
                        </m:r>
                      </m:lim>
                    </m:limLow>
                    <m:r>
                      <m:t xml:space="preserve">º</m:t>
                    </m:r>
                    <m:r>
                      <m:t xml:space="preserve">[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5809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FIN PPT 07 JUNIO_0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MES CLERCK MAXWELL (1831-1879): Derivo la distribucion de velocidades moleculares en 1859.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6668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268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VELOCIDADES DE MAXWE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 un Gas Ideal en volumen V y @T.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95480" y="4800600"/>
                <a:ext cx="30164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55760" y="264312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50840" y="2567160"/>
            <a:ext cx="7559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emos en terminos clasicos y pongamos atencion sobre una molecula (A). El resto de las moleculas (A’) es la Fuente de Calor. Suponiendo, inicialmente, que la molecula es monoatomica y que los campos de fuerza externos son despreciables, entonces la energia de la molecula es su energia cinetic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icamente, podemos preguntar sobre la probabilidad que la molecula tenga una posicion y cantidad de movimiento tal que: 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y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48120" y="259092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º</m:t>
                    </m:r>
                    <m:r>
                      <m:rPr>
                        <m:lit/>
                        <m:nor/>
                      </m:rPr>
                      <m:t xml:space="preserve">dxdy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48120" y="3200400"/>
                <a:ext cx="2565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º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51200" y="3809880"/>
                <a:ext cx="5548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50840" y="4471920"/>
            <a:ext cx="61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ogamente, considerando: 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 (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, v+  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752480" y="4876920"/>
                <a:ext cx="53341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el gas consiste en una mezcla de moleculas con distinta masa, podemos preguntar cuantas moleculas de una clase dada tienen su velocidad en un determinado rang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398600" y="5394240"/>
                <a:ext cx="58276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4040" y="2666880"/>
                <a:ext cx="1697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803680" y="2414520"/>
            <a:ext cx="481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 (de una clase dada), por unidad de volumen, que tienen una velocidad entre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 (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392120" y="3962520"/>
                <a:ext cx="5970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α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mos que: f no depende  de la posici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 la molecula; depende solo del modulo de la velocidad y no de su direccion. [simetrias] TAREA: a) Calcular la constante C; b) Demostrar validez de la distribucion para moleculas poliatomica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3505320"/>
                <a:ext cx="48085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ò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ò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76720" y="4419720"/>
                <a:ext cx="24350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616200" y="5334120"/>
                <a:ext cx="16052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USION DE LA DISTRIBUCION DE MAXWELL: distribucion de una componente de la velocida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304812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" y="2013120"/>
                <a:ext cx="22860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336840" y="1957320"/>
            <a:ext cx="5502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la componente x de la velocidad en el rango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d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232160" y="3276720"/>
                <a:ext cx="39322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72000" y="4419720"/>
                <a:ext cx="335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14800" y="5410080"/>
                <a:ext cx="44006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. Discusion de la distrib. de Maxwel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80880" y="3962520"/>
            <a:ext cx="85345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funcion g(vx) es simetrica c/r  vx=0, luego el valor promedio es cero. El maximo de la funcion ocurre para vx=0; se hace muy peque~na para       |ßm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| &gt;&gt; 1 . Es decir, el maximo de g se hace mas marcado cuando disminuye T. Lo mismo es valido para las otras componentes de la velocida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819520" y="2971800"/>
                <a:ext cx="2498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69920" y="2043000"/>
                <a:ext cx="42958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09920" y="1222200"/>
                <a:ext cx="16938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14400" y="5378400"/>
                <a:ext cx="2666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==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5427720"/>
                <a:ext cx="2438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-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3:20:17Z</dcterms:created>
  <dc:creator>Kelle Slater</dc:creator>
  <dc:description/>
  <dc:language>en-US</dc:language>
  <cp:lastModifiedBy>Luis Campusano</cp:lastModifiedBy>
  <cp:lastPrinted>2005-08-30T17:06:24Z</cp:lastPrinted>
  <dcterms:modified xsi:type="dcterms:W3CDTF">2007-06-07T03:46:17Z</dcterms:modified>
  <cp:revision>66</cp:revision>
  <dc:subject/>
  <dc:title>Chapter 5 The Nature of Light</dc:title>
</cp:coreProperties>
</file>