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417-51DD-4B60-9B0D-42601FAD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CA1-50B9-453F-B522-CC431E2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4B1-C749-49C1-AF27-730BB20B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DF4-C39A-4D76-A65C-A73A4BCF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618-FAEB-4C33-B8B4-50B6BBF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24E-738F-4B19-B223-6EC2DE54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E7B-F671-46EC-9650-FC1A264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F71-02E8-498D-82B0-D560739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36B-5703-4214-B875-10C9BB53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5EC-9360-40E2-8A37-49BA693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D9B-118A-48A0-B91C-C9DFD77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903-E84C-479B-9385-6DE81AF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134-1A88-4A07-9F4E-D97FA2735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cion Canonica  en la Aproximacion Cla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e 07 Junio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MOLECULAR(para una clase de molecula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757680"/>
            <a:ext cx="297180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1550880"/>
                <a:ext cx="1600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5960" y="144792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una rapidez v=|v| en el rango (v, v+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1560" y="2286000"/>
                <a:ext cx="824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13320" y="3657600"/>
                <a:ext cx="5119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33880" y="5032440"/>
                <a:ext cx="1971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01028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270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5181480"/>
                <a:ext cx="1904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4880" y="2428920"/>
            <a:ext cx="66942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92320" y="2100240"/>
            <a:ext cx="417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86040" y="1995480"/>
            <a:ext cx="468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96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136680" cy="328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27160" y="1365120"/>
            <a:ext cx="771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DE DULONG Y PETIT: A temperaturas suficientemente altas, todos los solidos tienen un calor especifico molar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ependiente de la temperatura e igual a 3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962520" cy="32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119240"/>
            <a:ext cx="641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aginemos, por simplicidad, que los atomos del solido estan localizados en los centros de cubos de lado “a”, por lo que las distancias intermoleculares son tambien igual a “a”. Se ilustra una vista de la suerficie (2-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FISICA entre las escala de temperaturas  Kelvin y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escala Kelvin (T_abs),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la temperatura en la cual esencialmente no hay movimiento atomico(molecular)  y se le llama cero absoluto (aprox. –27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. T_abs es una medida de 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etica promedio de las particul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1619280"/>
            <a:ext cx="6172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ores promedios, dispersion (o varianza), y desviacion estandar.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289320" cy="396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75280" y="2403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1600200"/>
                <a:ext cx="121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º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0" y="2895480"/>
                <a:ext cx="1542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ºu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886200"/>
                <a:ext cx="44956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24280" y="5207040"/>
                <a:ext cx="34290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»</m:t>
                        </m:r>
                      </m:lim>
                    </m:limLow>
                    <m:r>
                      <m:t xml:space="preserve">º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580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 PPT 07 JUNIO_0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LERCK MAXWELL (1831-1879): Derivo la distribucion de velocidades moleculares en 1859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6668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26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VELOCIDADES DE MAX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 un Gas Ideal en volumen V y @T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4800600"/>
                <a:ext cx="30164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5760" y="26431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2567160"/>
            <a:ext cx="755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emos en terminos clasicos y pongamos atencion sobre una molecula (A). El resto de las moleculas (A’) es la Fuente de Calor. Suponiendo, inicialmente, que la molecula es monoatomica y que los campos de fuerza externos son despreciables, entonces la energia de la molecula es su energia cinetic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icamente, podemos preguntar sobre la probabilidad que la molecula tenga una posicion y cantidad de movimiento tal que: 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y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59092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º</m:t>
                    </m:r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8120" y="3200400"/>
                <a:ext cx="2565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51200" y="3809880"/>
                <a:ext cx="554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50840" y="44719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ogamente, considerando: 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, v+  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4876920"/>
                <a:ext cx="5334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el gas consiste en una mezcla de moleculas con distinta masa, podemos preguntar cuantas moleculas de una clase dada tienen su velocidad en un determinado ran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98600" y="5394240"/>
                <a:ext cx="5827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4040" y="2666880"/>
                <a:ext cx="169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3680" y="241452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 (de una clase dada), por unidad de volumen, que tienen una velocidad entr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 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92120" y="3962520"/>
                <a:ext cx="5970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α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mos que: f no depende  de la posic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la molecula; depende solo del modulo de la velocidad y no de su direccion. [simetrias] TAREA: a) Calcular la constante C; b) Demostrar validez de la distribucion para moleculas poliatomic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505320"/>
                <a:ext cx="48085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ò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4419720"/>
                <a:ext cx="2435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16200" y="5334120"/>
                <a:ext cx="1605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ION DE LA DISTRIBUCION DE MAXWELL: distribucion de una componente de la velocid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04812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013120"/>
                <a:ext cx="228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336840" y="1957320"/>
            <a:ext cx="5502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la componente x de la velocidad en el rango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d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232160" y="3276720"/>
                <a:ext cx="3932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4419720"/>
                <a:ext cx="335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4400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. Discusion de la distrib. de Maxwel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8534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funcion g(vx) es simetrica c/r  vx=0, luego el valor promedio es cero. El maximo de la funcion ocurre para vx=0; se hace muy peque~na para       |ßm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| &gt;&gt; 1 . Es decir, el maximo de g se hace mas marcado cuando disminuye T. Lo mismo es valido para las otras componentes de la velocid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19520" y="2971800"/>
                <a:ext cx="24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69920" y="2043000"/>
                <a:ext cx="42958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09920" y="1222200"/>
                <a:ext cx="1693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5378400"/>
                <a:ext cx="2666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==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5427720"/>
                <a:ext cx="2438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-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3:20:17Z</dcterms:created>
  <dc:creator>Kelle Slater</dc:creator>
  <dc:description/>
  <dc:language>en-US</dc:language>
  <cp:lastModifiedBy>Luis Campusano</cp:lastModifiedBy>
  <cp:lastPrinted>2005-08-30T17:06:24Z</cp:lastPrinted>
  <dcterms:modified xsi:type="dcterms:W3CDTF">2007-06-07T03:46:17Z</dcterms:modified>
  <cp:revision>66</cp:revision>
  <dc:subject/>
  <dc:title>Chapter 5 The Nature of Light</dc:title>
</cp:coreProperties>
</file>