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6C8-DA46-496C-B218-BF9219F8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837-CCBB-4FD3-83E7-96A2FC3B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B79-AB98-438F-8139-1BC1C343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6DC-429B-4A45-9438-0DE0D9E0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D88D-DCD4-4BC0-9B5B-825664E0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328-C5C2-409F-B150-F116B1D2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77DC-770F-436B-9FF9-60AA43BA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ECAA-E504-46BC-93C4-5FD86648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1EA9-3139-4F4B-A567-03D4C5E7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DFB3-BC65-4706-B84E-ED15CC2D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0DA4-CB1C-491F-95FA-E778F5B6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5C9-2728-4446-B68E-F9F63F5A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1329-93DF-491A-8067-FCCB7274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AD0F-569E-443F-98DB-F3834A8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1F90-9822-4FC3-93E6-1AC7A1DD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108-B6F3-4FC4-9331-84143F81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2191-8304-48DB-BB33-10ADD037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7E8-9247-4CFD-AEEF-B373B0C7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89F-8198-46AE-99A8-6E0B961C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3932-12C3-473D-A58B-8FB89E6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A69-D529-4956-9A1B-A646F579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B9D-34E4-422E-B00F-4314EE96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3FC-7E6C-44D7-9E6C-C8019A25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2F2-364B-4BD9-AA07-545F6B20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312-9B17-4B13-AEA0-3683961F3D7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D1B1-6059-4475-B1AF-47F47003DCF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086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rebuchet MS"/>
              </a:rPr>
              <a:t>Presentaciones orales</a:t>
            </a:r>
            <a:br>
              <a:rPr sz="4000"/>
            </a:br>
            <a:br>
              <a:rPr sz="2100"/>
            </a:b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Método común para evaluar tanto el progreso de un proyecto como el del individuo.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7199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353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l hablar de los resultados esperados, es importante interpretarlos y compararlos con los re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30060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Es trascendente referirse a cómo las decisiones o diseños finales se relacionan directamente con los resultad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Se recomienda el uso de diapositivas con bosquejos para ilustrar puntos y títulos.</a:t>
            </a:r>
            <a:br>
              <a:rPr sz="31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0" lang="en-US" sz="3100" spc="-1" strike="noStrike">
                <a:solidFill>
                  <a:srgbClr val="eaeaea"/>
                </a:solidFill>
                <a:latin typeface="Trebuchet MS"/>
              </a:rPr>
              <a:t>Es factible incluir tres o cuatro líneas de texto que pueden usarse como elemento de discusión para cada una de las diapositivas.</a:t>
            </a:r>
            <a:endParaRPr b="1" lang="en-US" sz="3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35344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El cierr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49636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as dos últimas diapositivas presentan un resumen de los puntos clave de la exposi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da punto mencionado en esta fase debe haber sido tratado en el cuerpo de la conversación.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poyo visu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Toda presentación debe ocupar 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 objetivo de este tipo de material es transmitir información suficiente para la audiencia; en consecuencia, debe ser cuidadosamente desarroll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¿Cómo preparar apoyos visuales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recomienda una diapositiva por cada minuto de presentación. Si ésta toma más de dos minutos, contiene demasiada información y puede confundir a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 se debe hablar sin una diapositiva que enfatice los puntos tra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cc00"/>
                </a:solidFill>
                <a:latin typeface="Tahoma"/>
              </a:rPr>
              <a:t>¿Cuál es el formato ideal para cada diapositiva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s diapositivas se deben mantener simples y ordenad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Se sugiere la elección de plantillas simples para evitar añadir gráficas distracto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-312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800" spc="-1" strike="noStrike">
                <a:solidFill>
                  <a:srgbClr val="ffffff"/>
                </a:solidFill>
                <a:latin typeface="Tahoma"/>
              </a:rPr>
              <a:t>La elección de colores debe agregar impacto y realzar la legibilidad de cualquier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4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5172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Trebuchet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Trebuchet MS"/>
              </a:rPr>
              <a:t>Otras consideraciones al elaborar diapositiv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itular cad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etra grande (24 puntos mínimo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a orientación horizontal (permite que la diapositiva sea mostrada en la parte superior de la panta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egir las palabras adecuadas y concisas de los comentarios del presentad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forzar las palabras habladas por el expositor, no con la finalidad de repetir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una lista de las diapositivas para identificar el orden que debe te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superponer diapositivas, así como usar objetos de apoyo visu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aborar fotocopias claras de informaciones de textos y libros, así como gráficos de buena c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pocos números; su exceso puede aburrir a los recepto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 incluir ecuaciones, es imprescindible explicar su relevancia y result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nificar gráficos armonios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r transiciones sutiles entre cada nueva diaposit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ahoma"/>
              </a:rPr>
              <a:t>Elementos de las presentaciones oral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5327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udiencia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Contenido y su organización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Apoyo visual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ffff"/>
                </a:solidFill>
                <a:latin typeface="Trebuchet MS"/>
              </a:rPr>
              <a:t>Presentad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Respecto del presentador, es necesario considerar qu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expositor -y su equipo- posee más conocimiento acerca del te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audiencia presenta interés en lo que se va a exponer.</a:t>
            </a:r>
            <a:r>
              <a:rPr b="0" lang="es-ES_tradnl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Objetivos de los presen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Ganar la atención de la audienci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Convencer a la audiencia del valor de las ide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Hacer una presentación memorable, con apoyo visual efectivo y un estilo atractivo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-3981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Estimular a la audiencia con movimientos, voz y apropiado apoyo visual.</a:t>
            </a:r>
            <a:r>
              <a:rPr b="0" lang="en-US" sz="27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846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7599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Sugerencias para entregar un mensaje pertin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ransmitir información a través del lenguaje corpor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antener contacto visual con la audienc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ituarse donde no bloquee las diapos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57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ar las manos para enfatizar, especificar y realizar gestos que ilustren lo que se está diciendo.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Transmitir un mensaje a través del dis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tilizar un tono  y volumen apropi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vitar muletillas (tratar de hacer una presentación previa con el fin de corregirla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acticar el estilo de cada expositor, con el fin de ayudarse entre to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Respecto de los recursos a utilizar en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visar condiciones 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unter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Proyecto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Micrófono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-59220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rebuchet MS"/>
              </a:rPr>
              <a:t>Luc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1042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A modo de suger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Trebuchet MS"/>
              </a:rPr>
              <a:t>Nunca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concluir una presentación con las siguientes fra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so es todo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Alguna pregunta?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Evaluación de la 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 sugiere evaluar la exposición, grabándola en video, sea como ensayo o como presentación fi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rganizacionalmente, ¿qué se puede hacer para que la presentación resulte más fluid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-385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an efectivos resultan los apoyos visual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20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96360" cy="42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550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cambios se pueden realizar en las diapositivas para hacerlas más pertin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2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tan efectivas son las técnicas de comunica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-402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Se evidencian gestos molestos o distracción verbal que distraigan a la audienci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5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Preguntas para evaluar la expos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parte de la presentación es la más efectiv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-406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¿Qué se requiere para mejorar la próxima exposi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presentador debe evaluar a la audiencia, con el fin de capturar su interés.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El expositor reunirá información sobre el grado de conocimiento de la audiencia respecto del tema a tratar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963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86364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cc00"/>
                </a:solidFill>
                <a:latin typeface="Trebuchet MS"/>
              </a:rPr>
              <a:t>Fin de la presentación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aeaea"/>
              </a:buClr>
              <a:buFont typeface="Wingdings" charset="2"/>
              <a:buChar char="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cc00"/>
                </a:solidFill>
                <a:latin typeface="Trebuchet MS"/>
              </a:rPr>
              <a:t>Audiencia</a:t>
            </a:r>
            <a:br>
              <a:rPr sz="4000"/>
            </a:br>
            <a:r>
              <a:rPr b="1" i="1" lang="en-US" sz="3200" spc="-1" strike="noStrike">
                <a:solidFill>
                  <a:srgbClr val="eaeaea"/>
                </a:solidFill>
                <a:latin typeface="Trebuchet MS"/>
              </a:rPr>
              <a:t>Puede estar compuesta por:</a:t>
            </a: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leg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Gerent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ontratista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Vendedores.</a:t>
            </a:r>
            <a:br>
              <a:rPr sz="2800"/>
            </a:br>
            <a:r>
              <a:rPr b="1" i="1" lang="en-US" sz="2800" spc="-1" strike="noStrike">
                <a:solidFill>
                  <a:srgbClr val="eaeaea"/>
                </a:solidFill>
                <a:latin typeface="Trebuchet MS"/>
              </a:rPr>
              <a:t>Cliente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800"/>
            </a:br>
            <a:br>
              <a:rPr sz="8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Una presentación efectiva implica reflexión y esfuerzo.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eaeaea"/>
                </a:solidFill>
                <a:latin typeface="Tahoma"/>
              </a:rPr>
              <a:t>Esto se logra con un método organizado para desarrollar la conversación.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304560"/>
            <a:ext cx="7494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El contenido y su organización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94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cc00"/>
                </a:solidFill>
                <a:latin typeface="Trebuchet MS"/>
              </a:rPr>
              <a:t>Organizar las ideas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Es necesario distinguir entre aquéllas que son más apropiadas para presentarlas en la exposició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Utilizar formatos gráficos, ilustracion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La primera diapositiva o transparencia proporciona el título de la presentación: título del proyecto, objetivo, nombre de los miembros del equipo y fech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705800" cy="29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00"/>
                </a:solidFill>
                <a:latin typeface="Trebuchet MS"/>
              </a:rPr>
              <a:t>Organización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La Introducción: informar qué se va a decir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uerpo: exponer los puntos centrale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rebuchet MS"/>
              </a:rPr>
              <a:t>El cierre: sintetizar a grandes rasgos lo que se presentó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200" spc="-1" strike="noStrike">
                <a:solidFill>
                  <a:srgbClr val="ffcc00"/>
                </a:solidFill>
                <a:latin typeface="Trebuchet MS"/>
              </a:rPr>
              <a:t>La introducción</a:t>
            </a:r>
            <a:br>
              <a:rPr sz="2900"/>
            </a:br>
            <a:br>
              <a:rPr sz="8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Breve detalle de los puntos a tratar (10 a 15 segundos). Provee un mapa con los puntos importantes de la presentación.</a:t>
            </a:r>
            <a:br>
              <a:rPr sz="2900"/>
            </a:br>
            <a:br>
              <a:rPr sz="2900"/>
            </a:br>
            <a:r>
              <a:rPr b="1" i="1" lang="en-US" sz="2900" spc="-1" strike="noStrike">
                <a:solidFill>
                  <a:srgbClr val="eaeaea"/>
                </a:solidFill>
                <a:latin typeface="Trebuchet MS"/>
              </a:rPr>
              <a:t>Habitualmente se titula como “Descripción”, “Puntos a tratar” o, simplemente,“Introducción”.</a:t>
            </a: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ffcc00"/>
                </a:solidFill>
                <a:latin typeface="Trebuchet MS"/>
              </a:rPr>
              <a:t>El cuerpo</a:t>
            </a:r>
            <a:br>
              <a:rPr sz="4000"/>
            </a:br>
            <a:br>
              <a:rPr sz="800"/>
            </a:b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Posee los detalles importantes y los contenidos de la presentación.</a:t>
            </a:r>
            <a:br>
              <a:rPr sz="2800"/>
            </a:br>
            <a:br>
              <a:rPr sz="2800"/>
            </a:br>
            <a:r>
              <a:rPr b="0" i="1" lang="es-ES_tradnl" sz="2800" spc="-1" strike="noStrike">
                <a:solidFill>
                  <a:srgbClr val="ffcc00"/>
                </a:solidFill>
                <a:latin typeface="Trebuchet MS"/>
              </a:rPr>
              <a:t>Incluye:</a:t>
            </a:r>
            <a:r>
              <a:rPr b="0" i="1" lang="es-ES_tradnl" sz="2800" spc="-1" strike="noStrike">
                <a:solidFill>
                  <a:srgbClr val="eaeaea"/>
                </a:solidFill>
                <a:latin typeface="Trebuchet MS"/>
              </a:rPr>
              <a:t> </a:t>
            </a:r>
            <a:br>
              <a:rPr sz="2800"/>
            </a:br>
            <a:br>
              <a:rPr sz="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1. Exposición de la base o teoría del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trabajo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2. Presentación de los diseños o de los    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    métodos de la investigación.</a:t>
            </a:r>
            <a:br>
              <a:rPr sz="2800"/>
            </a:br>
            <a:r>
              <a:rPr b="0" lang="es-ES_tradnl" sz="2800" spc="-1" strike="noStrike">
                <a:solidFill>
                  <a:srgbClr val="eaeaea"/>
                </a:solidFill>
                <a:latin typeface="Trebuchet MS"/>
              </a:rPr>
              <a:t>3. Evidenciación de los resultado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0872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3:55:30Z</dcterms:created>
  <dc:creator>WinuE</dc:creator>
  <dc:description/>
  <dc:language>en-US</dc:language>
  <cp:lastModifiedBy>LI2</cp:lastModifiedBy>
  <dcterms:modified xsi:type="dcterms:W3CDTF">2007-06-11T18:22:24Z</dcterms:modified>
  <cp:revision>15</cp:revision>
  <dc:subject/>
  <dc:title>Expresión Escrita</dc:title>
</cp:coreProperties>
</file>