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A92-9FF7-4F39-ABBD-71D78097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131-5000-4589-B74C-CABD0728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1CF-E792-42C6-AB3F-6EC70870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117-FBC5-45B1-8C91-651A0699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0D32-23F4-4A06-92ED-7194146D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0C3E-87BA-40B9-B486-659B07A5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E074-316C-4D38-9243-A52030D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E141-3067-48D5-A997-A132AF96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D0CA-84F5-4385-A7A7-89E4EAE6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05A0-8198-495D-B4E7-5AEFEC6B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109A-338C-44C4-A578-01E5138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649-534D-4DDC-B3EE-0748652E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5F16-39CB-4C80-A3D4-67F049B4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9FE7-CF50-4B8D-A4DA-2A4C6D56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153C-3373-4661-A959-2FA19C66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B21B-ADDA-4E2E-93AE-23FC8B9E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A600-C7C4-4C1B-B1EC-90B59232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D67-0D58-450A-A83D-C5557D2C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B15-D528-471F-8B87-F73F0DD3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B03-5489-42BF-9030-C21FAA27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9B1-725A-4008-826C-EE137DC1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89C-73A8-4973-B707-82B8945F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A42-E0AD-424C-BEF8-0DB38462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712-1CCA-425B-A009-81A0C6F7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AC22-172B-4626-9DC0-EDA76047CC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DD51-5678-487B-954F-BD502BB68D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086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rebuchet MS"/>
              </a:rPr>
              <a:t>Presentaciones orales</a:t>
            </a:r>
            <a:br>
              <a:rPr sz="4000"/>
            </a:br>
            <a:br>
              <a:rPr sz="2100"/>
            </a:b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Método común para evaluar tanto el progreso de un proyecto como el del individuo.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353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l hablar de los resultados esperados, es importante interpretarlos y compararlos con los re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Es trascendente referirse a cómo las decisiones o diseños finales se relacionan directamente con los resultad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Se recomienda el uso de diapositivas con bosquejos para ilustrar puntos y títulos.</a:t>
            </a:r>
            <a:br>
              <a:rPr sz="31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Es factible incluir tres o cuatro líneas de texto que pueden usarse como elemento de discusión para cada una de las diapositivas.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ierr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49636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as dos últimas diapositivas presentan un resumen de los puntos clave de la expos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da punto mencionado en esta fase debe haber sido tratado en el cuerpo de la conversación.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poyo visu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oda presentación debe ocupar 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 objetivo de este tipo de material es transmitir información suficiente para la audiencia; en consecuencia, debe ser cuidadosamente desarrol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¿Cómo preparar apoyos visuales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recomienda una diapositiva por cada minuto de presentación. Si ésta toma más de dos minutos, contiene demasiada información y puede confundir a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 se debe hablar sin una diapositiva que enfatice los puntos tra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_tradnl" sz="3000" spc="-1" strike="noStrike">
                <a:solidFill>
                  <a:srgbClr val="ffcc00"/>
                </a:solidFill>
                <a:latin typeface="Tahoma"/>
              </a:rPr>
              <a:t>¿Cuál es el formato ideal para cada diapositiva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s diapositivas se deben mantener simples y orden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Se sugiere la elección de plantillas simples para evitar añadir gráficas distract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elección de colores debe agregar impacto y realzar la legibilidad de cualquier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Trebuchet MS"/>
              </a:rPr>
              <a:t>Otras consideraciones al elaborar diaposi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itular cad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etra grande (24 puntos mínim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a orientación horizontal (permite que la diapositiva sea mostrada en la parte superior de la panta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egir las palabras adecuadas y concisas de los comentarios del present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forzar las palabras habladas por el expositor, no con la finalidad de repetir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una lista de las diapositivas para identificar el orden que debe te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superponer diapositivas, así como usar objetos de apoyo vis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aborar fotocopias claras de informaciones de textos y libros, así como gráficos de buena c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pocos números; su exceso puede aburrir a los recept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 incluir ecuaciones, es imprescindible explicar su relevancia y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nificar gráficos armonios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r transiciones sutiles entre cada nuev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Elementos de las presentaciones oral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udienci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Contenido y su organizació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Presentad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Respecto del presentador, es necesario considerar qu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expositor -y su equipo- posee más conocimiento acerca del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audiencia presenta interés en lo que se va a exponer.</a:t>
            </a:r>
            <a:r>
              <a:rPr b="0" lang="es-ES_tradnl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Objetivos de los present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Ganar la atención de la audienci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onvencer a la audiencia del valor de las ide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Hacer una presentación memorable, con apoyo visual efectivo y un estilo atractivo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Estimular a la audiencia con movimientos, voz y apropiado apoyo visual.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759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Sugerencias para entregar un mensaje pertin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nsmitir información a través del lenguaje cor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contacto visual con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tuarse donde no bloquee las diapos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as manos para enfatizar, especificar y realizar gestos que ilustren lo que se está diciendo.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Transmitir un mensaje a través del dis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 tono  y volumen apropi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muletillas (tratar de hacer una presentación previa con el fin de corregirl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acticar el estilo de cada expositor, con el fin de ayudarse entre to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Respecto de los recursos a utilizar en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visar condicion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unter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royect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Micrófon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Luc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A modo de suger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rebuchet MS"/>
              </a:rPr>
              <a:t>Nunc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concluir una presentación con las siguientes fra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so es tod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Alguna pregunta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Evaluación de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evaluar la exposición, grabándola en video, sea como ensayo o como presentación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rganizacionalmente, ¿qué se puede hacer para que la presentación resulte más flui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an efectivos resultan los apoyos visua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cambios se pueden realizar en las diapositivas para hacerlas más pertin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tan efectivas son las técnicas de comunica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Se evidencian gestos molestos o distracción verbal que distraigan a la audienc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parte de la presentación es la más efectiv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se requiere para mejorar la próxima exposi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presentador debe evaluar a la audiencia, con el fin de capturar su interés.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expositor reunirá información sobre el grado de conocimiento de la audiencia respecto del tema a tratar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cc00"/>
                </a:solidFill>
                <a:latin typeface="Trebuchet MS"/>
              </a:rPr>
              <a:t>Fin de la presentación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r>
              <a:rPr b="1" i="1" lang="en-US" sz="3200" spc="-1" strike="noStrike">
                <a:solidFill>
                  <a:srgbClr val="eaeaea"/>
                </a:solidFill>
                <a:latin typeface="Trebuchet MS"/>
              </a:rPr>
              <a:t>Puede estar compuesta por: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leg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Gerent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ntratist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Vendedor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liente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800"/>
            </a:br>
            <a:br>
              <a:rPr sz="8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Una presentación efectiva implica reflexión y esfuerzo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Esto se logra con un método organizado para desarrollar la conversación.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Trebuchet MS"/>
              </a:rPr>
              <a:t>Organizar las ideas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s necesario distinguir entre aquéllas que son más apropiadas para presentarlas en la exposi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tilizar formatos gráficos, ilustracion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a primera diapositiva o transparencia proporciona el título de la presentación: título del proyecto, objetivo, nombre de los miembros del equipo y fech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Organización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La Introducción: informar qué se va a deci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uerpo: exponer los puntos centr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ierre: sintetizar a grandes rasgos lo que se presentó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La introducción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Breve detalle de los puntos a tratar (10 a 15 segundos). Provee un mapa con los puntos importantes de la presentación.</a:t>
            </a:r>
            <a:br>
              <a:rPr sz="2900"/>
            </a:br>
            <a:br>
              <a:rPr sz="29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Habitualmente se titula como “Descripción”, “Puntos a tratar” o, simplemente,“Introducción”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s-ES_tradnl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Posee los detalles importantes y los contenidos de la presentación.</a:t>
            </a:r>
            <a:br>
              <a:rPr sz="2800"/>
            </a:br>
            <a:br>
              <a:rPr sz="2800"/>
            </a:br>
            <a:r>
              <a:rPr b="0" i="1" lang="es-ES_tradnl" sz="2800" spc="-1" strike="noStrike">
                <a:solidFill>
                  <a:srgbClr val="ffcc00"/>
                </a:solidFill>
                <a:latin typeface="Trebuchet MS"/>
              </a:rPr>
              <a:t>Incluye:</a:t>
            </a: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 </a:t>
            </a:r>
            <a:br>
              <a:rPr sz="2800"/>
            </a:br>
            <a:br>
              <a:rPr sz="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1. Exposición de la base o teoría del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trabajo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2. Presentación de los diseños o de los  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métodos de la investigación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3. Evidenciación de los resultado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6-11T18:22:24Z</dcterms:modified>
  <cp:revision>15</cp:revision>
  <dc:subject/>
  <dc:title>Expresión Escrita</dc:title>
</cp:coreProperties>
</file>