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A43-6B46-4EBD-89BC-E4AD21B4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335-221E-4396-9E6B-A8E18F91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3B1-0AED-4107-85F2-1D7C77C3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E96-018C-41A4-8FF4-FA38D50E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36FF-5F92-4DCC-AD98-26D8A6FB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B656-F80A-4494-A705-451BD291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932D-7444-471A-AE78-E5E36853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A3EF-3059-4909-8013-8DF6FD21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F059-B758-49BC-A216-DB0B415F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EF6F-8C7E-4F29-8100-BF9669AA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B6B1-DF39-43EB-BF57-3D984133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813-41E1-4594-8E1A-38D0167D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D694-9D0E-47D1-952B-4D3129BD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06FA-9B7A-4C6D-BF2F-101A56D5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C46D-1B2E-42CA-961E-3BF08D5C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5065-B7DE-4451-B6A7-FE78A5D2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E2FD-BF81-4103-ABEF-BE44A9DF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989-2C1F-400C-B40B-3DB50125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50F-0DE9-4B9A-AFA7-F074AE95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1D6-B17A-459D-8B53-B46BB824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724-3F75-4654-8B4A-5240D9DA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FA5-26B0-4979-AF45-9B1D5451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F53-1785-42FF-B233-48E1ECAF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22B-8670-4CEF-A88E-8246AFEE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23B3-B5FC-4102-AB43-1DE1596626E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F871-4662-451F-9DC2-53092B04320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086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rebuchet MS"/>
              </a:rPr>
              <a:t>Presentaciones orales</a:t>
            </a:r>
            <a:br>
              <a:rPr sz="4000"/>
            </a:br>
            <a:br>
              <a:rPr sz="2100"/>
            </a:br>
            <a:r>
              <a:rPr b="1" lang="en-US" sz="2800" spc="-1" strike="noStrike">
                <a:solidFill>
                  <a:srgbClr val="eaeaea"/>
                </a:solidFill>
                <a:latin typeface="Trebuchet MS"/>
              </a:rPr>
              <a:t>Método común para evaluar tanto el progreso de un proyecto como el del individuo.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353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30060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l hablar de los resultados esperados, es importante interpretarlos y compararlos con los real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30060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Es trascendente referirse a cómo las decisiones o diseños finales se relacionan directamente con los resultad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br>
              <a:rPr sz="4000"/>
            </a:br>
            <a:br>
              <a:rPr sz="800"/>
            </a:br>
            <a:r>
              <a:rPr b="0" lang="en-US" sz="3100" spc="-1" strike="noStrike">
                <a:solidFill>
                  <a:srgbClr val="eaeaea"/>
                </a:solidFill>
                <a:latin typeface="Trebuchet MS"/>
              </a:rPr>
              <a:t>Se recomienda el uso de diapositivas con bosquejos para ilustrar puntos y títulos.</a:t>
            </a:r>
            <a:br>
              <a:rPr sz="31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en-US" sz="3100" spc="-1" strike="noStrike">
                <a:solidFill>
                  <a:srgbClr val="eaeaea"/>
                </a:solidFill>
                <a:latin typeface="Trebuchet MS"/>
              </a:rPr>
              <a:t>Es factible incluir tres o cuatro líneas de texto que pueden usarse como elemento de discusión para cada una de las diapositivas.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ierr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49636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as dos últimas diapositivas presentan un resumen de los puntos clave de la expos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da punto mencionado en esta fase debe haber sido tratado en el cuerpo de la conversación.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poyo visu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Toda presentación debe ocupar apoyo visual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 objetivo de este tipo de material es transmitir información suficiente para la audiencia; en consecuencia, debe ser cuidadosamente desarroll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¿Cómo preparar apoyos visuales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recomienda una diapositiva por cada minuto de presentación. Si ésta toma más de dos minutos, contiene demasiada información y puede confundir a la aud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 se debe hablar sin una diapositiva que enfatice los puntos tra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_tradnl" sz="3000" spc="-1" strike="noStrike">
                <a:solidFill>
                  <a:srgbClr val="ffcc00"/>
                </a:solidFill>
                <a:latin typeface="Tahoma"/>
              </a:rPr>
              <a:t>¿Cuál es el formato ideal para cada diapositiva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s diapositivas se deben mantener simples y orden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Se sugiere la elección de plantillas simples para evitar añadir gráficas distract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 elección de colores debe agregar impacto y realzar la legibilidad de cualquier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Trebuchet MS"/>
              </a:rPr>
              <a:t>Otras consideraciones al elaborar diaposi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itular cada diapo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letra grande (24 puntos mínim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tilizar una orientación horizontal (permite que la diapositiva sea mostrada en la parte superior de la panta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egir las palabras adecuadas y concisas de los comentarios del present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forzar las palabras habladas por el expositor, no con la finalidad de repetir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ntener una lista de las diapositivas para identificar el orden que debe te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63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tar superponer diapositivas, así como usar objetos de apoyo vis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aborar fotocopias claras de informaciones de textos y libros, así como gráficos de buena c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pocos números; su exceso puede aburrir a los recept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 incluir ecuaciones, es imprescindible explicar su relevancia y resul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nificar gráficos armonios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ar transiciones sutiles entre cada nueva diapo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Elementos de las presentaciones oral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Audienci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Contenido y su organizació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Apoyo visual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Presentado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rebuchet MS"/>
              </a:rPr>
              <a:t>Respecto del presentador, es necesario considerar qu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l expositor -y su equipo- posee más conocimiento acerca del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a audiencia presenta interés en lo que se va a exponer.</a:t>
            </a:r>
            <a:r>
              <a:rPr b="0" lang="es-ES_tradnl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84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Objetivos de los presentad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Ganar la atención de la audienci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Convencer a la audiencia del valor de las ideas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Hacer una presentación memorable, con apoyo visual efectivo y un estilo atractivo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Estimular a la audiencia con movimientos, voz y apropiado apoyo visual.</a:t>
            </a: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759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Sugerencias para entregar un mensaje pertin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ansmitir información a través del lenguaje corpor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ntener contacto visual con la aud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ituarse donde no bloquee las diaposi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las manos para enfatizar, especificar y realizar gestos que ilustren lo que se está diciendo.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96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Transmitir un mensaje a través del dis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tilizar un tono  y volumen apropi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tar muletillas (tratar de hacer una presentación previa con el fin de corregirla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acticar el estilo de cada expositor, con el fin de ayudarse entre to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Respecto de los recursos a utilizar en la 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visar condiciones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unter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royecto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Micrófon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Luc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A modo de suger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Trebuchet MS"/>
              </a:rPr>
              <a:t>Nunc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concluir una presentación con las siguientes fra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so es tod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Alguna pregunta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Evaluación de la 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evaluar la exposición, grabándola en video, sea como ensayo o como presentación fi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82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-385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rganizacionalmente, ¿qué se puede hacer para que la presentación resulte más fluid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-385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tan efectivos resultan los apoyos visual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63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cambios se pueden realizar en las diapositivas para hacerlas más pertin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tan efectivas son las técnicas de comunica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Se evidencian gestos molestos o distracción verbal que distraigan a la audienci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parte de la presentación es la más efectiv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se requiere para mejorar la próxima exposi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udiencia</a:t>
            </a:r>
            <a:br>
              <a:rPr sz="40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El presentador debe evaluar a la audiencia, con el fin de capturar su interés.</a:t>
            </a:r>
            <a:br>
              <a:rPr sz="29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El expositor reunirá información sobre el grado de conocimiento de la audiencia respecto del tema a tratar.</a:t>
            </a:r>
            <a:endParaRPr b="1" lang="en-US" sz="2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cc00"/>
                </a:solidFill>
                <a:latin typeface="Trebuchet MS"/>
              </a:rPr>
              <a:t>Fin de la presentación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udiencia</a:t>
            </a:r>
            <a:br>
              <a:rPr sz="4000"/>
            </a:br>
            <a:r>
              <a:rPr b="1" i="1" lang="en-US" sz="3200" spc="-1" strike="noStrike">
                <a:solidFill>
                  <a:srgbClr val="eaeaea"/>
                </a:solidFill>
                <a:latin typeface="Trebuchet MS"/>
              </a:rPr>
              <a:t>Puede estar compuesta por: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olega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Gerente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ontratista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Vendedore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lientes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El contenido y su organización</a:t>
            </a:r>
            <a:br>
              <a:rPr sz="4000"/>
            </a:br>
            <a:br>
              <a:rPr sz="800"/>
            </a:br>
            <a:br>
              <a:rPr sz="800"/>
            </a:b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Una presentación efectiva implica reflexión y esfuerzo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Esto se logra con un método organizado para desarrollar la conversación.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El contenido y su organización</a:t>
            </a:r>
            <a:br>
              <a:rPr sz="4000"/>
            </a:br>
            <a:br>
              <a:rPr sz="40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Trebuchet MS"/>
              </a:rPr>
              <a:t>Organizar las ideas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s necesario distinguir entre aquéllas que son más apropiadas para presentarlas en la exposi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tilizar formatos gráficos, ilustracion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La primera diapositiva o transparencia proporciona el título de la presentación: título del proyecto, objetivo, nombre de los miembros del equipo y fech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Organización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La Introducción: informar qué se va a deci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l cuerpo: exponer los puntos central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l cierre: sintetizar a grandes rasgos lo que se presentó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La introducción</a:t>
            </a:r>
            <a:br>
              <a:rPr sz="29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Breve detalle de los puntos a tratar (10 a 15 segundos). Provee un mapa con los puntos importantes de la presentación.</a:t>
            </a:r>
            <a:br>
              <a:rPr sz="2900"/>
            </a:br>
            <a:br>
              <a:rPr sz="29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Habitualmente se titula como “Descripción”, “Puntos a tratar” o, simplemente,“Introducción”.</a:t>
            </a:r>
            <a:endParaRPr b="1" lang="en-US" sz="2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s-ES_tradnl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br>
              <a:rPr sz="4000"/>
            </a:br>
            <a:br>
              <a:rPr sz="800"/>
            </a:br>
            <a:r>
              <a:rPr b="0" i="1" lang="es-ES_tradnl" sz="2800" spc="-1" strike="noStrike">
                <a:solidFill>
                  <a:srgbClr val="eaeaea"/>
                </a:solidFill>
                <a:latin typeface="Trebuchet MS"/>
              </a:rPr>
              <a:t>Posee los detalles importantes y los contenidos de la presentación.</a:t>
            </a:r>
            <a:br>
              <a:rPr sz="2800"/>
            </a:br>
            <a:br>
              <a:rPr sz="2800"/>
            </a:br>
            <a:r>
              <a:rPr b="0" i="1" lang="es-ES_tradnl" sz="2800" spc="-1" strike="noStrike">
                <a:solidFill>
                  <a:srgbClr val="ffcc00"/>
                </a:solidFill>
                <a:latin typeface="Trebuchet MS"/>
              </a:rPr>
              <a:t>Incluye:</a:t>
            </a:r>
            <a:r>
              <a:rPr b="0" i="1" lang="es-ES_tradnl" sz="2800" spc="-1" strike="noStrike">
                <a:solidFill>
                  <a:srgbClr val="eaeaea"/>
                </a:solidFill>
                <a:latin typeface="Trebuchet MS"/>
              </a:rPr>
              <a:t> </a:t>
            </a:r>
            <a:br>
              <a:rPr sz="2800"/>
            </a:br>
            <a:br>
              <a:rPr sz="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1. Exposición de la base o teoría del  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    trabajo.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2. Presentación de los diseños o de los    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    métodos de la investigación.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3. Evidenciación de los resultados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6-11T18:22:24Z</dcterms:modified>
  <cp:revision>15</cp:revision>
  <dc:subject/>
  <dc:title>Expresión Escrita</dc:title>
</cp:coreProperties>
</file>