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BA3-0136-418A-9F90-FD3FD4FB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8F2-5D76-4D33-8258-4E291E31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994-51F2-4074-8C57-454E803B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A9C-DCD8-44E6-8EFD-C749994D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A687-ADE6-4638-A03D-4B511575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7B6B-4DFA-4AE7-955C-661E2EC9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6957-5ECF-4541-91BF-4C98B8B9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7182-C813-4BBD-99B8-D73FDECC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F077-83E5-4D0E-B2F0-95834592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8DDA-B186-4212-BCA6-FEDD2224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C3AC-B770-40DB-8D80-68735D59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3DD-DD8B-41D1-B60E-989AA8AB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D205-636B-49B1-9540-1E82E946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8AFB-51B5-4ECC-9FB1-A4D15CD2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AA7C-1574-405B-B91E-BD0C2805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2C7A-7DBE-4803-A47E-271583B0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F935-4926-4124-9AEF-8E35F413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200-7019-49A4-BDB6-874B22C4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E83-5A9D-41D6-B438-6A086848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BBB-FC02-4406-882C-5BC1E5A6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E7F-0D53-401F-AF22-BC9B6C84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B5F-9748-4DB2-9200-473D134C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D65-2EEC-4717-A36A-F5AC711D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35D-CBF7-49A3-B6ED-43E4C426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0356-743F-4442-A752-503F810508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75DB-62F9-45A1-8FA3-5940551F593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762120"/>
            <a:ext cx="8713800" cy="4566960"/>
            <a:chOff x="0" y="762120"/>
            <a:chExt cx="8713800" cy="4566960"/>
          </a:xfrm>
        </p:grpSpPr>
        <p:sp>
          <p:nvSpPr>
            <p:cNvPr id="110" name=""/>
            <p:cNvSpPr/>
            <p:nvPr/>
          </p:nvSpPr>
          <p:spPr>
            <a:xfrm>
              <a:off x="1001520" y="479556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esentación y prueba de operació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79556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1520" y="426204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C:  Puesta en Marcha, </a:t>
              </a:r>
              <a:r>
                <a:rPr b="0" lang="es-E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NFORM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26204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01520" y="3744720"/>
              <a:ext cx="7712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744720"/>
              <a:ext cx="1001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01520" y="321120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321120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1520" y="2390400"/>
              <a:ext cx="7712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86000"/>
            </a:bodyPr>
            <a:p>
              <a:pPr marL="3167280" indent="-3167280">
                <a:lnSpc>
                  <a:spcPct val="100000"/>
                </a:lnSpc>
                <a:tabLst>
                  <a:tab algn="l" pos="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Definición diseño - Confección de Planos                                                          - Análisis Movimien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2390400"/>
              <a:ext cx="1001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01520" y="1857240"/>
              <a:ext cx="7712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Presentación de materiales, Brain Sto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857240"/>
              <a:ext cx="1001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1520" y="1295280"/>
              <a:ext cx="771228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boratori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295280"/>
              <a:ext cx="10015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762120"/>
              <a:ext cx="87138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7621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53290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1380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295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85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01520" y="1295280"/>
              <a:ext cx="0" cy="403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2390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32112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3744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42620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795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28600" y="22096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971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. Tormenta de ideas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deas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ocumentadas de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manera informal y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estructur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n la escritura libre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l emisor desarrolla las ideas con oraciones completas y anota si alguna información requiere más investiga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211640" y="2565360"/>
            <a:ext cx="866880" cy="485640"/>
          </a:xfrm>
          <a:prstGeom prst="rightArrow">
            <a:avLst>
              <a:gd name="adj1" fmla="val 50000"/>
              <a:gd name="adj2" fmla="val 4462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I. ¿Quién?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Un buen procedimiento es informar al lector (receptor) las ideas básica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¿Por qué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incluye el motivo del documento o logro del proyec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describe cómo se completó el trabajo a través de diseños, resultados y otros documentos generados en el proces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II. Leer - escuchar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requiere la información ya desarrollada, por tanto, es vital documentarse por medio de revistas, libros, documentos o Interne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Al leer, escuchar y discutir fuentes externas, el emisor logra desarrollar ideas importantes de modo más eficiente y eficaz”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V. Ordenando idea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l emisor, luego de la recolección de ideas, las organiza, según su inten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cronológico (documento que da instruccione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espacial (descripción de relaciones de objetos con otras cosa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de importancia (intención de desarrollar un argumento para persuadir o justificar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lógico (definición de una idea, cuando se comparan y contrastan temas de relevancia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borrador es un punto de partida para componer un documento, en este caso, de ingeniería. Es un texto breve, pero útil. 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Contiene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Grandes temas a discuti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Notas útil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Referencias externas que apoyen el tex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El punto de partida es ordenar los temas más importantes. Inicia el desarrollo del informe escri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Éste se expande, al añadir subtemas adecuados, con base en resultados técnicos del trabajo: uso de la información recolect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 su desarrollo inicial, se debe enfatizar la construcción de oraciones y párrafos, en torno a los subte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incluyen detalles suficientes para describir cada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 y REVISA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ditar es elemental para un lograr un buen escrito, esto es, una revisión exhaustiva de los contenidos propuest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Interesa analizar lo que se dice y lo que, en esencia, debería decirse. Por tanto, se corrige en aquellas áreas que no tienen mucho sentido o, si se requiere, se añade inform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Tomar distanci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dejar el documento por un tiempo, minutos o un par de h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 continuación, el emisor lee y relee el documento, marcando los párrafos u oraciones que necesitan rev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er en voz alta es un buen mecanismo para evaluar y modificar el borr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38240" y="2446200"/>
            <a:ext cx="591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óxima clase Etica 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erial en Ucur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Opinión de pares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Otra instancia es efectuar una evaluación crítica por parte de un compañero, pues se supone que los pares son la audiencia potencial o receptores del escri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Los evaluadores entregan sugerencias, críticas constructivas y sugerencias específicas para mejorar el texto, en las secciones que precisan más trabaj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emisor revisa el escrito basado en los comentarios obtenidos, a partir de las evaluaciones. Con lo anterior se busca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Lograr un texto más interesant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liminar vaguedad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xpandir hechos, detalles, ejempl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larificar la presentación de ideas en cada sección, párrafo y or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entrar las oraciones en el tem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Remover las oraciones que no tienen rel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sar un lenguaje técnico apropiado para el lecto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tilizar un vocabulario formal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914400"/>
            <a:ext cx="7943760" cy="34772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eparación de Informes esc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presentarse en forma clara, muy bien estructurad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información muy precisa y ordenada, utilizando tercera perso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debe extenderse en temas irrelevantes. Se debe redactar de tal for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ea comprensible por si mismo para una persona que no conoce el equipo y no ha participado a la experi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contener las siguientes par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1066680"/>
            <a:ext cx="807696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Página de encabezamiento: esta incluye el título de la experiencia, fech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úmero del grupo y nombres de los alumnos, nombre del alumno jefe de proy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Resumen Ejecutivo: en no más de 200 palabras, se resumen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 realizada, los resultados obtenidos y las principales conclus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 Introducción a la experiencia. Debe contener los siguientes puntos redac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forma razonablemente breve, (máximo tres páginas): (a) introduc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antecedentes, (b) objetivo y alcance de la experienci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c) descripción del equipo, metodologí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resultados esperados según la información bibliográf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40360" y="914400"/>
            <a:ext cx="8361720" cy="4483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Resultados: se deben entregar los resultados provenientes del tra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os datos y mediciones experimentales, en forma de tablas y/o gráf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gún corresponda. Utilizar el Sistema Internacional de Unidades (SI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comienda la presentación de los datos más relevantes en forma de tab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gráficos numéricos. En caso de efectuar un ajuste de función, se debe seña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laramente los parámetros del ajuste y los coeficientes de err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Discusión: consiste en un análisis crítico del trabajo realizado, incluyendo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álisis de los errores cometidos durante las mediciones. Comparar algun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lores de las variables de operación, coeficientes, rendimientos, etc., con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obtenidos de la lit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 es la parte más importante del inform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 La validez de los Resul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las Conclusiones está supeditado a esta Discusión.  El lector entendido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volucrado en el proyecto presta especial dedicación a este pu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6000" y="990720"/>
            <a:ext cx="794088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Conclusiones: en esta sección se incluyen las diversa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duc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antitativa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que se originan del trabajo realizado, respaldadas por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ultados obtenidos y en concordancia con los objetivos plante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ambién se pueden incluir recomendaciones o sugerencias para futur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7. Apéndices: incluye el siguiente material de apoyo al inform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a) hoja de datos experimentales, (b) ejemplo de cálculo, (c) nomenclatur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bibliografía. Las referencias a la bibliografía se anotan en el tex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l informe con un número entre paréntesis, el que corresponde al ord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dicado en la sección de bibliografía. La bibliografía debe incluir; auto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ítulo completo, volumen, páginas, año y edito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1341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rebuchet MS"/>
              </a:rPr>
              <a:t>Expresión Escri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¿Qué se entiende por escribir bi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el c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ponente básico de una buena comun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31840"/>
          <a:ext cx="62244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1840"/>
                    <a:ext cx="6224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659640" y="476280"/>
          <a:ext cx="2000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476280"/>
                    <a:ext cx="2000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Objetiv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 capaz de escribir, de manera eficiente, informes, documentos, memorias, resúmenes ejecu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ir un texto pulido, comprensible, sin errores ortográficos ni gramatic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 manuscrito en el que palabras, formato y figuras evidencien orgullo, preocupación y el sentirse realizado con lo producido, por parte del emisor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0"/>
          <a:ext cx="5320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0"/>
                    <a:ext cx="5320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613560" y="260280"/>
          <a:ext cx="200808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13560" y="260280"/>
                    <a:ext cx="200808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Características o atributos de un texto técnico adecuad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nci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le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Receptor ideal de un documento técnico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Una comunicación efectiva que incluya todos los detalles importantes del tema, presupone que el escrito es redactado para receptores (audiencia) que tienen primeras nociones respecto del mism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or ejemplo, grupo de pares (alumnos de ingeniería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 modo de síntesis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respecto de el o los receptores idea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Los temas del curso deben ser igual de claros para un profesor, un cliente o para el grupo de p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¿En qué consiste el proceso de escribir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rganiz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on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tar inform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732720" y="54936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54936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29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. PREESCRITURA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arrollo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 una versión inicial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l documen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Asegurar que todas las ideas, dibujos, tablas, referencias, resultados del tema se considere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564000" y="2781360"/>
            <a:ext cx="831960" cy="485640"/>
          </a:xfrm>
          <a:prstGeom prst="rightArrow">
            <a:avLst>
              <a:gd name="adj1" fmla="val 50000"/>
              <a:gd name="adj2" fmla="val 428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5-30T16:53:46Z</dcterms:modified>
  <cp:revision>26</cp:revision>
  <dc:subject/>
  <dc:title>Expresión Escrita</dc:title>
</cp:coreProperties>
</file>