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E2B-FCB2-445E-883B-A5898F17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B41-FB2E-49AA-8441-0FD18731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65C-EE52-459D-AECC-5E6FBC30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A21-ACCA-4C1A-8946-263D6747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5FE6-8358-43CE-83E2-F4BD07B3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D09F-757C-411E-B2D4-FB33EF8A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F63C-E751-4E81-BC85-97D556B8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F5AA-CF52-42C0-A3CC-5CD8B91D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A547-1D13-42EC-8CD4-D38A5902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94C0-3100-4F4B-A991-3F4A384C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0C56-9A34-4AC6-9839-9AC8806A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B11-BBA8-49E8-A3B1-BEB6CADF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D6BA-B47F-477A-B00F-D5CEAD5D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1E59-D453-42AA-BE5F-397A458D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835F-E49A-4A86-A0D7-C4FBC42B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6B73-4AF4-46C5-8256-ED5A6E07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202E-EA0E-45A9-A920-BE96CEA1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FC5-4262-4068-B8CD-8671442B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3EB-55F4-4513-A024-897759DA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CB3-2632-4F44-9DE4-0A0AAAFA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F19-CF79-40FB-9B54-1CB74047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108-1240-4216-B050-ED939EDD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2D6-3522-428A-8F0E-6D03B1F7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9D1-DEFD-4700-902C-9E6CCFB5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89C3-2DB2-4979-8708-2854DCDB51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021A-3457-4065-A8B5-05C3672EBB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762120"/>
            <a:ext cx="8713800" cy="4566960"/>
            <a:chOff x="0" y="762120"/>
            <a:chExt cx="8713800" cy="4566960"/>
          </a:xfrm>
        </p:grpSpPr>
        <p:sp>
          <p:nvSpPr>
            <p:cNvPr id="110" name=""/>
            <p:cNvSpPr/>
            <p:nvPr/>
          </p:nvSpPr>
          <p:spPr>
            <a:xfrm>
              <a:off x="1001520" y="479556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n y prueba de operació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9556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1520" y="426204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C:  Puesta en Marcha, </a:t>
              </a:r>
              <a:r>
                <a:rPr b="0" lang="es-E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FOR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204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520" y="3744720"/>
              <a:ext cx="7712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744720"/>
              <a:ext cx="1001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1520" y="321120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21120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1520" y="2390400"/>
              <a:ext cx="7712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86000"/>
            </a:bodyPr>
            <a:p>
              <a:pPr marL="3167280" indent="-3167280">
                <a:lnSpc>
                  <a:spcPct val="100000"/>
                </a:lnSpc>
                <a:tabLst>
                  <a:tab algn="l" pos="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Definición diseño - Confección de Planos                                                          - Análisis Movimi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90400"/>
              <a:ext cx="100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1857240"/>
              <a:ext cx="771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Presentación de materiales, Brain St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57240"/>
              <a:ext cx="1001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1520" y="1295280"/>
              <a:ext cx="77122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borator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95280"/>
              <a:ext cx="10015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762120"/>
              <a:ext cx="8713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7621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3290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1380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295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85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01520" y="1295280"/>
              <a:ext cx="0" cy="403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90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2112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744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2620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795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. Tormenta de ideas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deas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ocumentadas de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manera informal 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estructur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n la escritura libr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l emisor desarrolla las ideas con oraciones completas y anota si alguna información requiere más investiga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211640" y="2565360"/>
            <a:ext cx="866880" cy="485640"/>
          </a:xfrm>
          <a:prstGeom prst="rightArrow">
            <a:avLst>
              <a:gd name="adj1" fmla="val 50000"/>
              <a:gd name="adj2" fmla="val 4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I. ¿Quién?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Un buen procedimiento es informar al lector (receptor) las ideas básica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¿Por qué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incluye el motivo del documento o logro del proyec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describe cómo se completó el trabajo a través de diseños, resultados y otros documentos generados en el proces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II. Leer - escuch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requiere la información ya desarrollada, por tanto, es vital documentarse por medio de revistas, libros, documentos o Interne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Al leer, escuchar y discutir fuentes externas, el emisor logra desarrollar ideas importantes de modo más eficiente y eficaz”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V. Ordenando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 emisor, luego de la recolección de ideas, las organiza, según su inten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cronológico (documento que da instruccione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espacial (descripción de relaciones de objetos con otras cosa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de importancia (intención de desarrollar un argumento para persuadir o justificar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lógico (definición de una idea, cuando se comparan y contrastan temas de relevanci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borrador es un punto de partida para componer un documento, en este caso, de ingeniería. Es un texto breve, pero útil. 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ontie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randes temas a discuti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Notas útil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Referencias externas que apoyen el tex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El punto de partida es ordenar los temas más importantes. Inicia el desarrollo del informe escri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Éste se expande, al añadir subtemas adecuados, con base en resultados técnicos del trabajo: uso de la información recolect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 su desarrollo inicial, se debe enfatizar la construcción de oraciones y párrafos, en torno a los subt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incluyen detalles suficientes para describir cada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 y REVISA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ditar es elemental para un lograr un buen escrito, esto es, una revisión exhaustiva de los contenidos propuest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Interesa analizar lo que se dice y lo que, en esencia, debería decirse. Por tanto, se corrige en aquellas áreas que no tienen mucho sentido o, si se requiere, se añade inform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Tomar distanci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dejar el documento por un tiempo, minutos o un par de h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continuación, el emisor lee y relee el documento, marcando los párrafos u oraciones que necesitan re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er en voz alta es un buen mecanismo para evaluar y modificar el borr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2446200"/>
            <a:ext cx="591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óxima clase Etica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erial en Ucur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Opinión de pares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Otra instancia es efectuar una evaluación crítica por parte de un compañero, pues se supone que los pares son la audiencia potencial o receptores del escri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os evaluadores entregan sugerencias, críticas constructivas y sugerencias específicas para mejorar el texto, en las secciones que precisan más trabaj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emisor revisa el escrito basado en los comentarios obtenidos, a partir de las evaluaciones. Con lo anterior se busc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Lograr un texto más interesant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liminar vaguedad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xpandir hechos, detalles, ejempl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larificar la presentación de ideas en cada sección, párrafo y or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entrar las oraciones en el tem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Remover las oraciones que no tienen rel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sar un lenguaje técnico apropiado para el lecto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tilizar un vocabulario formal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14400"/>
            <a:ext cx="7943760" cy="3477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eparación de Informes esc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presentarse en forma clara, muy bien estructurad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información muy precisa y ordenada, utilizando tercera pers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debe extenderse en temas irrelevantes. Se debe redactar de tal 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ea comprensible por si mismo para una persona que no conoce el equipo y no ha participado a la experi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contener las siguiente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066680"/>
            <a:ext cx="807696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Página de encabezamiento: esta incluye el título de la experiencia, fec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úmero del grupo y nombres de los alumnos, nombre del alumno jefe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Resumen Ejecutivo: en no más de 200 palabras, se resumen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 realizada, los resultados obtenidos y las principales conclu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Introducción a la experiencia. Debe contener los siguientes puntos redac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forma razonablemente breve, (máximo tres páginas): (a) introd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ntecedentes, (b) objetivo y alcance de la experienc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c) descripción del equipo, metodologí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resultados esperados según la información bibliográ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40360" y="914400"/>
            <a:ext cx="8361720" cy="448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Resultados: se deben entregar los resultados provenientes del tra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datos y mediciones experimentales, en forma de tablas y/o gráf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ún corresponda. Utilizar el Sistema Internacional de Unidades (S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comienda la presentación de los datos más relevantes en forma de tab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gráficos numéricos. En caso de efectuar un ajuste de función, se debe seña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ramente los parámetros del ajuste y los coeficientes de err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Discusión: consiste en un análisis crítico del trabajo realizado, incluyendo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los errores cometidos durante las mediciones. Comparar algu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lores de las variables de operación, coeficientes, rendimientos, etc., con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obtenidos de la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es la parte más importante del inform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La validez de los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Conclusiones está supeditado a esta Discusión.  El lector entendid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volucrado en el proyecto presta especial dedicación a este p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6000" y="990720"/>
            <a:ext cx="794088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Conclusiones: en esta sección se incluyen las divers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du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antitativ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originan del trabajo realizado, respaldadas por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 obtenidos y en concordancia con los objetivos plante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mbién se pueden incluir recomendaciones o sugerencias para futu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 Apéndices: incluye el siguiente material de apoyo al infor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a) hoja de datos experimentales, (b) ejemplo de cálculo, (c) nomenclatur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bibliografía. Las referencias a la bibliografía se anotan en el tex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informe con un número entre paréntesis, el que corresponde al or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dicado en la sección de bibliografía. La bibliografía debe incluir; aut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ítulo completo, volumen, páginas, año y edito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rebuchet MS"/>
              </a:rPr>
              <a:t>Expresión Escri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¿Qué se entiende por escribir bi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el c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ponente básico de una buena comun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1840"/>
          <a:ext cx="6224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1840"/>
                    <a:ext cx="6224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59640" y="476280"/>
          <a:ext cx="2000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76280"/>
                    <a:ext cx="2000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capaz de escribir, de manera eficiente, informes, documentos, memorias, resúmenes ejecu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ir un texto pulido, comprensible, sin errores ortográficos ni gramati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 manuscrito en el que palabras, formato y figuras evidencien orgullo, preocupación y el sentirse realizado con lo producido, por parte del emiso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0"/>
          <a:ext cx="5320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5320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613560" y="260280"/>
          <a:ext cx="20080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60280"/>
                    <a:ext cx="2008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Características o atributos de un texto técnico adecuad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ci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l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Receptor ideal de un documento técnico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Una comunicación efectiva que incluya todos los detalles importantes del tema, presupone que el escrito es redactado para receptores (audiencia) que tienen primeras nociones respecto del mism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or ejemplo, grupo de pares (alumnos de ingeniería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 modo de síntesis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respecto de el o los receptores ide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Los temas del curso deben ser igual de claros para un profesor, un cliente o para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¿En qué consiste el proceso de escribi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on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tar inform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32720" y="54936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29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. PREESCRITURA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arrollo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 una versión inicial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l documen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Asegurar que todas las ideas, dibujos, tablas, referencias, resultados del tema se considere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564000" y="2781360"/>
            <a:ext cx="831960" cy="485640"/>
          </a:xfrm>
          <a:prstGeom prst="rightArrow">
            <a:avLst>
              <a:gd name="adj1" fmla="val 50000"/>
              <a:gd name="adj2" fmla="val 42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5-30T16:53:46Z</dcterms:modified>
  <cp:revision>26</cp:revision>
  <dc:subject/>
  <dc:title>Expresión Escrita</dc:title>
</cp:coreProperties>
</file>