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66A-F16E-43A2-8BFD-843FA028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A36-6E37-4953-93F5-A5F51291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7FC-A95E-4AC7-9687-9E4946B9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322-6041-4C83-AC5C-088F738B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53F-F2C5-4341-BE44-81703DF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85F-C6DF-4900-99AE-FFA301E8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078-CA7F-493B-A4B2-CD097B34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F85-0196-4FAD-9D97-7B4303BF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E6B-0C65-4130-9F4F-CFAA3D81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47D-5754-4299-96F7-4742AF8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C21-641C-4A60-BA43-8560BF9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462-A5A5-48BA-93CB-817B3601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439-E2CC-4437-BD5B-B6A130BA0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 próx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min máx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ciones infor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ificaciones al diseño, costo total, c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 étic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os as built: correcciones con lápiz rojo de plano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2924280"/>
            <a:ext cx="62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nder” el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501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7-04-27T17:58:35Z</dcterms:modified>
  <cp:revision>29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966081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.</vt:lpwstr>
  </property>
</Properties>
</file>