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9CA-B17D-4381-9347-3123943F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5ED-4D97-4823-BF0E-63B4DF66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741-A639-4D54-9A7B-00C17243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736-DF2E-4FD3-8096-CFE4BEBB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F38-D1D6-4092-B94B-52A682DB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636-3ECF-4FF4-9D42-52C34685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03B-3492-4680-A117-5653A851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E9D-078A-49E0-8D30-39FA73BE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133-82DD-4291-A88F-1B2A6AB2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B5A-919E-443B-A700-70C9F582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238-F1DD-4AE1-8118-EA848E3B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A06-1C85-43C6-942D-806ED8CC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0B1F-E35E-4F6A-8FF9-245980A0A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 próx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5 min máx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cciones infor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ificaciones al diseño, costo total, c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 étic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os as built: correcciones con lápiz rojo de plano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2924280"/>
            <a:ext cx="626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nder” el traba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501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6720" cy="3692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7-04-27T17:58:35Z</dcterms:modified>
  <cp:revision>29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966081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 de esta semana.</vt:lpwstr>
  </property>
</Properties>
</file>