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3B3-0861-4C68-92BA-76E26918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009-194C-48B1-B600-A66BBC6E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85B-4A3D-4195-B319-9FD43817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C48-ECA7-4876-80DE-E7E15F6D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F70A-1D2C-4260-ABE7-BFEA024D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50EB-4C9E-44E7-B68A-AD2CA76F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2C11-17CA-4DB5-920C-03861C2B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2A2E-934D-4102-B1F4-B147365E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BDD3-95F1-4E45-B032-ABB6BBE5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79CB-5A51-4E96-8FD4-807C78AA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F432-F6FF-4267-B036-7434BCB8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4E6-9C02-4A97-A1EF-F4D470A1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D48E-A7F6-4D01-A6EC-D99D71AD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D416-A800-4FAA-8AC5-D271BE72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15A2-90C3-4284-864C-18959A65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2227-5B11-432F-B438-7CE0FA26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7E71-59A0-46B0-B54B-1CBF43C8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AF3-315B-4AC8-8054-915724F9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A2F-CE0D-4D2E-BF1C-4DD280E0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C44-7403-41D6-8192-4DCA223A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305-CFBD-4DEE-8F73-7445EC71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198-8083-4654-982E-2689AA2C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3FA-6870-489F-9F02-45BAFF76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94F-082F-444B-866E-EE9C545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C83C-2419-4B5D-9FFC-10ECEC2641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6430-0462-486F-89B5-7A488BD6EF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09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30T16:35:23Z</dcterms:modified>
  <cp:revision>301</cp:revision>
  <dc:subject/>
  <dc:title>Reactor Agitado</dc:title>
</cp:coreProperties>
</file>