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DD4-CDFE-4797-8E95-1EEE045D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1C9-C536-4B88-B57B-5A7DC530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FAF-C465-49E3-B762-F3EDF4E6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D1E-A92E-461A-AD02-E6F2D64F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26B5-C63C-4B4C-843A-020A400F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E44D-2BDC-4219-B941-74017004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826A-41FE-42F8-A46E-73187EE2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9CF9-28A8-4946-BCA5-1AE78E16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B9DD-80AD-4D57-AA0F-6C12DE6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E5B6-8C1B-4543-B8FC-03A5B32A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2D4-9B6F-4886-ACCD-C055D5D4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6CA-6F87-47DA-AC0E-C2D6350B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87D3-F0C9-43A5-ACDD-D062F3F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D811-22DD-4F62-B13F-651D2BA9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24F9-E1D4-4502-80B6-99625765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F267-782D-4CEE-A2D3-A6650BE9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EC17-35C7-44D1-B19B-C0CEF889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DAE-974B-453C-BAE2-62D862B6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06F-CA43-4EF7-A903-C67B035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124-4CA2-48CD-BF94-F5207294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976-ADBF-4F7A-970F-04C170E9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E70-0347-4DE4-A555-1509B7D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5BA-1D10-4910-8CB1-CF5D409E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E93-BA1B-486B-849B-BF16086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93EA-7BFC-4993-A53A-5D3AF68E1A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4792-4BFB-4564-B1F7-811FC59DB7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6381720"/>
            <a:ext cx="407880" cy="47628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216000" y="1341360"/>
            <a:ext cx="8642160" cy="4753080"/>
            <a:chOff x="216000" y="1341360"/>
            <a:chExt cx="8642160" cy="4753080"/>
          </a:xfrm>
        </p:grpSpPr>
        <p:sp>
          <p:nvSpPr>
            <p:cNvPr id="209" name=""/>
            <p:cNvSpPr/>
            <p:nvPr/>
          </p:nvSpPr>
          <p:spPr>
            <a:xfrm>
              <a:off x="216000" y="2060640"/>
              <a:ext cx="8642160" cy="40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l puente debe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oportar una carga móvil (carrito tirado por una cuerda) de 3[Kgr]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Tener una luz de 35 [cm], con una altura libre mínima de 10 [cm] a lo largo de toda la luz, y un ancho mínimo de 15 [cms] para que pase el carro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Contar con rampas de acceso.(pueden estar aparte de la estructura)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Minimizar los costos.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SzPct val="113173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Su tamaño (o el de sus partes) debe ser menor a la de los casilleros (45x43x22 cm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000" y="1341360"/>
              <a:ext cx="8642160" cy="719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40458c"/>
                  </a:solidFill>
                  <a:latin typeface="Times New Roman"/>
                  <a:ea typeface="Times New Roman"/>
                </a:rPr>
                <a:t>ESPECIFICACIONES DEL DISEÑ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000" y="134136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000" y="60944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600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58160" y="1341360"/>
              <a:ext cx="0" cy="47530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6000" y="2060640"/>
              <a:ext cx="86421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4944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oyecto de Ingeniería 1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cp:lastPrinted>2007-03-14T15:16:13Z</cp:lastPrinted>
  <dcterms:modified xsi:type="dcterms:W3CDTF">2007-03-30T16:35:23Z</dcterms:modified>
  <cp:revision>301</cp:revision>
  <dc:subject/>
  <dc:title>Reactor Agitado</dc:title>
</cp:coreProperties>
</file>