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2D078-40F6-45B6-BA08-BB17814A1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DAD48-EAFA-4C06-979E-17C4E2951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3386A-07CF-40BB-9751-EFE2C936B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34B10-82A0-4A87-82EF-3FCE6F1D3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C5D90-9C33-4F45-9654-ED8E8F1EC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9AE3B-8040-43F0-B009-107D1E952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6556E-8993-408D-B526-DDAB8BA8E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4C032-CCD6-4B1B-BF69-3ECBD349D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9CAE5-D73E-42F0-8A36-F92F0BB5E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C82FA-297B-4D82-8F2D-277C52756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FF278-65AD-43F3-8EAA-485449D86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60599-AED3-431F-AEE8-C53F887CF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21C3E-14BE-43A0-81A1-58253BF2A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E73C7-41FF-4EA1-895D-B4845889C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EF5E0-82BB-4555-8B6F-502EEC184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ADD3D-BD5F-41B1-BAF3-D84EBA925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33E04-342B-4D63-A189-7BEDECF2E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19AEF-C538-48EE-9642-A02A6A9E6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7302E-8A6C-4C26-BB47-D931D8203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35154-C8B5-47A7-BD2B-319D16322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1F590-3A5E-43C9-B492-125013E68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558C1-9909-44C5-A66F-3578DCF80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4D959-B323-4728-B056-389E04D93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B22F1-C5CF-4B5F-99C3-668040B5A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AEBC8-D9EF-405E-A928-E9E5B24C0082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CB3A0-05E2-4B5C-881C-F6695E4DE63C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0" y="6381720"/>
            <a:ext cx="407880" cy="476280"/>
          </a:xfrm>
          <a:prstGeom prst="rect">
            <a:avLst/>
          </a:prstGeom>
          <a:ln w="0">
            <a:noFill/>
          </a:ln>
        </p:spPr>
      </p:pic>
      <p:grpSp>
        <p:nvGrpSpPr>
          <p:cNvPr id="208" name=""/>
          <p:cNvGrpSpPr/>
          <p:nvPr/>
        </p:nvGrpSpPr>
        <p:grpSpPr>
          <a:xfrm>
            <a:off x="216000" y="1341360"/>
            <a:ext cx="8642160" cy="4753080"/>
            <a:chOff x="216000" y="1341360"/>
            <a:chExt cx="8642160" cy="4753080"/>
          </a:xfrm>
        </p:grpSpPr>
        <p:sp>
          <p:nvSpPr>
            <p:cNvPr id="209" name=""/>
            <p:cNvSpPr/>
            <p:nvPr/>
          </p:nvSpPr>
          <p:spPr>
            <a:xfrm>
              <a:off x="216000" y="2060640"/>
              <a:ext cx="8642160" cy="40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El puente debe: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buSzPct val="113173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Soportar una carga móvil (carrito tirado por una cuerda) de 3[Kgr].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buSzPct val="113173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Tener una luz de 35 [cm], con una altura libre mínima de 10 [cm] a lo largo de toda la luz, y un ancho mínimo de 15 [cms] para que pase el carro.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buSzPct val="113173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Contar con rampas de acceso.(pueden estar aparte de la estructura).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buSzPct val="113173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Minimizar los costos. 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buSzPct val="113173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Su tamaño (o el de sus partes) debe ser menor a la de los casilleros (45x43x22 cms)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16000" y="1341360"/>
              <a:ext cx="8642160" cy="7192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ESPECIFICACIONES DEL DISEÑO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16000" y="1341360"/>
              <a:ext cx="864216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16000" y="6094440"/>
              <a:ext cx="864216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16000" y="1341360"/>
              <a:ext cx="0" cy="475308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8858160" y="1341360"/>
              <a:ext cx="0" cy="475308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16000" y="2060640"/>
              <a:ext cx="864216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216" name=""/>
          <p:cNvSpPr/>
          <p:nvPr/>
        </p:nvSpPr>
        <p:spPr>
          <a:xfrm>
            <a:off x="649440" y="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Proyecto de Ingeniería 1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4T02:20:09Z</dcterms:created>
  <dc:creator>Leonardo Valenzuela</dc:creator>
  <dc:description/>
  <dc:language>en-US</dc:language>
  <cp:lastModifiedBy>LI2</cp:lastModifiedBy>
  <cp:lastPrinted>2007-03-14T15:16:13Z</cp:lastPrinted>
  <dcterms:modified xsi:type="dcterms:W3CDTF">2007-03-30T16:35:23Z</dcterms:modified>
  <cp:revision>301</cp:revision>
  <dc:subject/>
  <dc:title>Reactor Agitado</dc:title>
</cp:coreProperties>
</file>