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B68-8B90-444C-AB90-BB909950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D61-EBEE-4B20-8AD4-75B0A894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C05-35C6-44C7-9A9F-B2ECAB66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AF4-D9F4-445B-8441-A6F5C152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A92B-A7FD-48AE-997D-5A11F7D9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17C5-1739-4F1C-8DF7-8BFCFC1E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4243-2FC1-4BF0-BF48-FF12F77B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C41B-19EB-4159-B3DC-2CD439B1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5F35-A88F-48B8-8F39-B530D7F1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6354-BB11-475A-AADF-99773EB5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2B42-793E-48C3-813E-76E82AE3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D4F-D375-4A21-B5F4-F1722C55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CCB9-B5AA-48AA-81D0-13736B53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35FD-7113-4257-AB5C-4051A28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A4F0-110E-49A1-A042-6B7DDD7D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9CC9-7EC5-44AC-85F1-2309D71A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BFD6-BE65-4BA7-8653-2B6C0037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DF6-11AC-433E-A726-44D7E688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C41-7494-4049-8974-9738293B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774-1CFA-4316-B7EB-EE46C4DF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D64-2458-4099-BD15-ADC3EF27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C6F-707C-4DB2-9645-A19F10FA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0BF-0701-4DFD-84C6-646D36E8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2CF-A490-4876-BBBA-9C51478D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BB57-BB1C-4AB0-A4D7-922414EEBB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63CC-6510-427D-BAC9-D233F57C06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  </a:t>
            </a:r>
            <a:r>
              <a:rPr b="1" i="1" lang="es-E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07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649440" y="1557360"/>
            <a:ext cx="7777080" cy="3287520"/>
            <a:chOff x="649440" y="1557360"/>
            <a:chExt cx="7777080" cy="3287520"/>
          </a:xfrm>
        </p:grpSpPr>
        <p:sp>
          <p:nvSpPr>
            <p:cNvPr id="317" name=""/>
            <p:cNvSpPr/>
            <p:nvPr/>
          </p:nvSpPr>
          <p:spPr>
            <a:xfrm>
              <a:off x="649440" y="1557360"/>
              <a:ext cx="777708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9440" y="2468520"/>
              <a:ext cx="65530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Madera: palitos de Broche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ahoma"/>
                </a:rPr>
                <a:t>Papel: tubos de media hoja oficio 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ø ≈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arton: Perfil “L” de 1 c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9440" y="2013120"/>
              <a:ext cx="655308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Descrip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2520" y="2468520"/>
              <a:ext cx="12240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,5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0,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,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2520" y="2013120"/>
              <a:ext cx="12240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ahoma"/>
                </a:rPr>
                <a:t>Cos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9440" y="155736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9440" y="484488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944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26520" y="1557360"/>
              <a:ext cx="0" cy="32875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440" y="2468520"/>
              <a:ext cx="7777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9440" y="2013120"/>
              <a:ext cx="777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2520" y="2013120"/>
              <a:ext cx="0" cy="28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16000" y="1341360"/>
            <a:ext cx="8642160" cy="3888000"/>
            <a:chOff x="216000" y="1341360"/>
            <a:chExt cx="8642160" cy="3888000"/>
          </a:xfrm>
        </p:grpSpPr>
        <p:sp>
          <p:nvSpPr>
            <p:cNvPr id="332" name=""/>
            <p:cNvSpPr/>
            <p:nvPr/>
          </p:nvSpPr>
          <p:spPr>
            <a:xfrm>
              <a:off x="216000" y="1989000"/>
              <a:ext cx="864216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Pape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6000" y="5229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600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858160" y="1341360"/>
              <a:ext cx="0" cy="3888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9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5744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81440" y="285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½ Hoja Ofi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5297000">
            <a:off x="610200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968360" y="3428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184360" y="4436640"/>
            <a:ext cx="7308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9440" y="40053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ø ≈ 1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6000" y="1341360"/>
            <a:ext cx="8642160" cy="4248360"/>
            <a:chOff x="216000" y="1341360"/>
            <a:chExt cx="8642160" cy="4248360"/>
          </a:xfrm>
        </p:grpSpPr>
        <p:sp>
          <p:nvSpPr>
            <p:cNvPr id="349" name=""/>
            <p:cNvSpPr/>
            <p:nvPr/>
          </p:nvSpPr>
          <p:spPr>
            <a:xfrm>
              <a:off x="216000" y="1797120"/>
              <a:ext cx="864216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Cart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000" y="55897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00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58160" y="1341360"/>
              <a:ext cx="0" cy="4248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5744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28720" y="5157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2 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089080" y="2421000"/>
            <a:ext cx="0" cy="244800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57440" y="5013360"/>
            <a:ext cx="86364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032360" y="2565000"/>
            <a:ext cx="2086920" cy="2160720"/>
            <a:chOff x="4032360" y="2565000"/>
            <a:chExt cx="2086920" cy="2160720"/>
          </a:xfrm>
        </p:grpSpPr>
        <p:sp>
          <p:nvSpPr>
            <p:cNvPr id="362" name=""/>
            <p:cNvSpPr/>
            <p:nvPr/>
          </p:nvSpPr>
          <p:spPr>
            <a:xfrm>
              <a:off x="403236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16200000">
              <a:off x="421560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16000" y="1341360"/>
            <a:ext cx="8642160" cy="3959280"/>
            <a:chOff x="216000" y="1341360"/>
            <a:chExt cx="8642160" cy="3959280"/>
          </a:xfrm>
        </p:grpSpPr>
        <p:sp>
          <p:nvSpPr>
            <p:cNvPr id="366" name=""/>
            <p:cNvSpPr/>
            <p:nvPr/>
          </p:nvSpPr>
          <p:spPr>
            <a:xfrm>
              <a:off x="216000" y="1989000"/>
              <a:ext cx="86421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6000" y="1341360"/>
              <a:ext cx="8642160" cy="647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Mader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6000" y="530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600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58160" y="1341360"/>
              <a:ext cx="0" cy="3959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6000" y="19890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5297000">
            <a:off x="419184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65800" y="4292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imes New Roman"/>
              </a:rPr>
              <a:t>Palito de Boche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216000" y="1341360"/>
            <a:ext cx="8642160" cy="4392720"/>
            <a:chOff x="216000" y="1341360"/>
            <a:chExt cx="8642160" cy="4392720"/>
          </a:xfrm>
        </p:grpSpPr>
        <p:sp>
          <p:nvSpPr>
            <p:cNvPr id="378" name=""/>
            <p:cNvSpPr/>
            <p:nvPr/>
          </p:nvSpPr>
          <p:spPr>
            <a:xfrm>
              <a:off x="216000" y="1797120"/>
              <a:ext cx="8642160" cy="39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Tra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00" y="573408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00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58160" y="1341360"/>
              <a:ext cx="0" cy="43927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36720" y="2565360"/>
            <a:ext cx="3024000" cy="2879280"/>
            <a:chOff x="2736720" y="2565360"/>
            <a:chExt cx="3024000" cy="2879280"/>
          </a:xfrm>
        </p:grpSpPr>
        <p:sp>
          <p:nvSpPr>
            <p:cNvPr id="387" name=""/>
            <p:cNvSpPr/>
            <p:nvPr/>
          </p:nvSpPr>
          <p:spPr>
            <a:xfrm>
              <a:off x="4110480" y="2735280"/>
              <a:ext cx="183600" cy="21171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2918520" y="2565360"/>
              <a:ext cx="2108520" cy="169560"/>
              <a:chOff x="2918520" y="2565360"/>
              <a:chExt cx="2108520" cy="169560"/>
            </a:xfrm>
          </p:grpSpPr>
          <p:sp>
            <p:nvSpPr>
              <p:cNvPr id="389" name=""/>
              <p:cNvSpPr/>
              <p:nvPr/>
            </p:nvSpPr>
            <p:spPr>
              <a:xfrm>
                <a:off x="2918520" y="2734920"/>
                <a:ext cx="2108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919960" y="2565360"/>
                <a:ext cx="2103840" cy="169560"/>
                <a:chOff x="2919960" y="2565360"/>
                <a:chExt cx="2103840" cy="169560"/>
              </a:xfrm>
            </p:grpSpPr>
            <p:sp>
              <p:nvSpPr>
                <p:cNvPr id="391" name=""/>
                <p:cNvSpPr/>
                <p:nvPr/>
              </p:nvSpPr>
              <p:spPr>
                <a:xfrm flipH="1">
                  <a:off x="291996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31942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34707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37458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40165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4291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>
                  <a:off x="45680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484272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4203360" y="476676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35440" y="2734920"/>
              <a:ext cx="0" cy="2117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36720" y="3666960"/>
              <a:ext cx="12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19040" y="485280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77680" y="2989080"/>
              <a:ext cx="12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387" idx="3"/>
              <a:endCxn id="403" idx="2"/>
            </p:cNvCxnSpPr>
            <p:nvPr/>
          </p:nvCxnSpPr>
          <p:spPr>
            <a:xfrm flipV="1">
              <a:off x="429372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216000" y="1341360"/>
            <a:ext cx="8642160" cy="4680000"/>
            <a:chOff x="216000" y="1341360"/>
            <a:chExt cx="8642160" cy="4680000"/>
          </a:xfrm>
        </p:grpSpPr>
        <p:sp>
          <p:nvSpPr>
            <p:cNvPr id="407" name=""/>
            <p:cNvSpPr/>
            <p:nvPr/>
          </p:nvSpPr>
          <p:spPr>
            <a:xfrm>
              <a:off x="216000" y="1797120"/>
              <a:ext cx="8642160" cy="42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6000" y="1341360"/>
              <a:ext cx="864216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Compres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6000" y="602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600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58160" y="1341360"/>
              <a:ext cx="0" cy="46800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6000" y="1797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665440" y="2205000"/>
            <a:ext cx="3514680" cy="2933640"/>
            <a:chOff x="2665440" y="2205000"/>
            <a:chExt cx="3514680" cy="2933640"/>
          </a:xfrm>
        </p:grpSpPr>
        <p:sp>
          <p:nvSpPr>
            <p:cNvPr id="416" name=""/>
            <p:cNvSpPr/>
            <p:nvPr/>
          </p:nvSpPr>
          <p:spPr>
            <a:xfrm>
              <a:off x="4551480" y="22050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0800000">
              <a:off x="4478040" y="2852640"/>
              <a:ext cx="183960" cy="2117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3744720" y="4969080"/>
              <a:ext cx="2108160" cy="169560"/>
              <a:chOff x="3744720" y="4969080"/>
              <a:chExt cx="2108160" cy="1695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3744720" y="4969080"/>
                <a:ext cx="21081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747960" y="4969080"/>
                <a:ext cx="2103480" cy="169560"/>
                <a:chOff x="3747960" y="4969080"/>
                <a:chExt cx="2103480" cy="169560"/>
              </a:xfrm>
            </p:grpSpPr>
            <p:sp>
              <p:nvSpPr>
                <p:cNvPr id="421" name=""/>
                <p:cNvSpPr/>
                <p:nvPr/>
              </p:nvSpPr>
              <p:spPr>
                <a:xfrm flipV="1">
                  <a:off x="56703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395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18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48441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45734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V="1">
                  <a:off x="429840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19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374796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9" name=""/>
            <p:cNvSpPr/>
            <p:nvPr/>
          </p:nvSpPr>
          <p:spPr>
            <a:xfrm>
              <a:off x="4937040" y="2852640"/>
              <a:ext cx="0" cy="2117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97440" y="3858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78400" y="234936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5440" y="407484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17" idx="3"/>
              <a:endCxn id="432" idx="0"/>
            </p:cNvCxnSpPr>
            <p:nvPr/>
          </p:nvCxnSpPr>
          <p:spPr>
            <a:xfrm flipV="1" rot="10800000">
              <a:off x="330588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216000" y="1341360"/>
            <a:ext cx="8642160" cy="4062600"/>
            <a:chOff x="216000" y="1341360"/>
            <a:chExt cx="8642160" cy="4062600"/>
          </a:xfrm>
        </p:grpSpPr>
        <p:sp>
          <p:nvSpPr>
            <p:cNvPr id="436" name=""/>
            <p:cNvSpPr/>
            <p:nvPr/>
          </p:nvSpPr>
          <p:spPr>
            <a:xfrm>
              <a:off x="216000" y="2060640"/>
              <a:ext cx="864216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nsaye de Moment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6000" y="54039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600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58160" y="1341360"/>
              <a:ext cx="0" cy="40626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757600" y="2133720"/>
            <a:ext cx="3422520" cy="2338200"/>
            <a:chOff x="2757600" y="2133720"/>
            <a:chExt cx="3422520" cy="2338200"/>
          </a:xfrm>
        </p:grpSpPr>
        <p:sp>
          <p:nvSpPr>
            <p:cNvPr id="445" name=""/>
            <p:cNvSpPr/>
            <p:nvPr/>
          </p:nvSpPr>
          <p:spPr>
            <a:xfrm>
              <a:off x="5081760" y="3200400"/>
              <a:ext cx="0" cy="677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06880" y="1919160"/>
              <a:ext cx="187200" cy="2546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927520" y="2363760"/>
              <a:ext cx="0" cy="21081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57600" y="42861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57600" y="40118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57600" y="37353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57600" y="346068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57600" y="31892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57600" y="2914560"/>
              <a:ext cx="169920" cy="182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57600" y="263844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57600" y="2363760"/>
              <a:ext cx="169920" cy="182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2927520" y="3557160"/>
              <a:ext cx="2117520" cy="1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36450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</a:rPr>
                <a:t>15 cm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7440" y="32860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00360" y="2133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Materi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0" name=""/>
            <p:cNvCxnSpPr>
              <a:stCxn id="446" idx="3"/>
              <a:endCxn id="459" idx="2"/>
            </p:cNvCxnSpPr>
            <p:nvPr/>
          </p:nvCxnSpPr>
          <p:spPr>
            <a:xfrm flipH="1" flipV="1" rot="5400000">
              <a:off x="392112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40458c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33440" y="189000"/>
            <a:ext cx="798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Actividad Artefacto Misterios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2133720"/>
            <a:ext cx="720108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14400" y="1828800"/>
            <a:ext cx="720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7636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5800" y="1905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89280" y="4627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6640" y="4475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4038480"/>
            <a:ext cx="475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ordinador de Equi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cargado de Seguridad / Material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cretari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ocero - Comunic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stigado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433440" y="1628640"/>
            <a:ext cx="8280000" cy="4321440"/>
            <a:chOff x="433440" y="1628640"/>
            <a:chExt cx="8280000" cy="4321440"/>
          </a:xfrm>
        </p:grpSpPr>
        <p:sp>
          <p:nvSpPr>
            <p:cNvPr id="220" name=""/>
            <p:cNvSpPr/>
            <p:nvPr/>
          </p:nvSpPr>
          <p:spPr>
            <a:xfrm>
              <a:off x="433440" y="3668760"/>
              <a:ext cx="828000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anejo de conceptos de ensayes y evaluación de materi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plicar estimación de costos al diseño de un puen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iseñar una estructura auto soportante que cumpla con las solicitaciones dada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Desarrollo de planos que permitan la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struir el puente y probarl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440" y="321300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S ESPECÍFIC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440" y="2084400"/>
              <a:ext cx="82800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Introducir al alumno al diseño y trabajo en proyectos, planteando un desafío concreto con restricciones real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3440" y="1628640"/>
              <a:ext cx="8280000" cy="455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OBJETIVO GENERA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3440" y="162864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440" y="595008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13440" y="1628640"/>
              <a:ext cx="0" cy="45576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3440" y="20844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713440" y="2084400"/>
              <a:ext cx="0" cy="38656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3440" y="321300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3440" y="3668760"/>
              <a:ext cx="828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494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1600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7c1eb"/>
                </a:solidFill>
                <a:latin typeface="Tahoma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944720" y="2060640"/>
            <a:ext cx="5904000" cy="2808000"/>
            <a:chOff x="1944720" y="2060640"/>
            <a:chExt cx="5904000" cy="2808000"/>
          </a:xfrm>
        </p:grpSpPr>
        <p:sp>
          <p:nvSpPr>
            <p:cNvPr id="237" name=""/>
            <p:cNvSpPr/>
            <p:nvPr/>
          </p:nvSpPr>
          <p:spPr>
            <a:xfrm>
              <a:off x="1944720" y="2840040"/>
              <a:ext cx="5904000" cy="20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B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444600" indent="93600">
                <a:lnSpc>
                  <a:spcPct val="150000"/>
                </a:lnSpc>
                <a:tabLst>
                  <a:tab algn="l" pos="0"/>
                  <a:tab algn="l" pos="71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</a:t>
              </a: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.- Construcció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4720" y="2060640"/>
              <a:ext cx="5904000" cy="77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ahoma"/>
                  <a:ea typeface="Times New Roman"/>
                </a:rPr>
                <a:t>ETAP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4720" y="2060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4720" y="48686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44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48720" y="2060640"/>
              <a:ext cx="0" cy="779400"/>
            </a:xfrm>
            <a:prstGeom prst="line">
              <a:avLst/>
            </a:prstGeom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44720" y="2840040"/>
              <a:ext cx="5904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4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8720" y="2840040"/>
              <a:ext cx="0" cy="20282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4944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216000" y="1511280"/>
            <a:ext cx="8713800" cy="4581360"/>
            <a:chOff x="216000" y="1511280"/>
            <a:chExt cx="8713800" cy="4581360"/>
          </a:xfrm>
        </p:grpSpPr>
        <p:sp>
          <p:nvSpPr>
            <p:cNvPr id="249" name=""/>
            <p:cNvSpPr/>
            <p:nvPr/>
          </p:nvSpPr>
          <p:spPr>
            <a:xfrm>
              <a:off x="1217520" y="563724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trega Informe Final- Presentacion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6000" y="563724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17520" y="518148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Diseño definitivo –Pruebas – Planos “As built”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6000" y="518148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17520" y="472572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C:  Correcciones a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000" y="472572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17520" y="427032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Confección de Plano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000" y="427032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17520" y="381456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B:  Definición de Planos – Pruebas preliminar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6000" y="381456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17520" y="3359160"/>
              <a:ext cx="7712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M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6000" y="3359160"/>
              <a:ext cx="100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17520" y="290340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1-A : Ensaye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6000" y="290340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7520" y="2447640"/>
              <a:ext cx="7712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ana pre-echon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000" y="2447640"/>
              <a:ext cx="100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7520" y="1966680"/>
              <a:ext cx="77122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átedra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6000" y="1966680"/>
              <a:ext cx="10015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000" y="1511280"/>
              <a:ext cx="87138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6000" y="1511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6000" y="6092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60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29800" y="1511280"/>
              <a:ext cx="0" cy="45813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6000" y="19666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6000" y="24476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17520" y="1966680"/>
              <a:ext cx="0" cy="412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000" y="2903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6000" y="33591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000" y="3814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000" y="42703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6000" y="4725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6000" y="51814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6000" y="563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84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1368360" y="1773360"/>
            <a:ext cx="6265800" cy="3192480"/>
            <a:chOff x="1368360" y="1773360"/>
            <a:chExt cx="6265800" cy="3192480"/>
          </a:xfrm>
        </p:grpSpPr>
        <p:sp>
          <p:nvSpPr>
            <p:cNvPr id="294" name=""/>
            <p:cNvSpPr/>
            <p:nvPr/>
          </p:nvSpPr>
          <p:spPr>
            <a:xfrm>
              <a:off x="1368360" y="2594160"/>
              <a:ext cx="6265800" cy="23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eguir indicaciones de Profesor, ayudantes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Utilizar implementos de Seguridad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rabajar en forma Responsab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68360" y="1773360"/>
              <a:ext cx="6265800" cy="820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NORMAS DE TRABAJO EN LABORATORI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68360" y="17733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68360" y="496584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683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34160" y="1773360"/>
              <a:ext cx="0" cy="3192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68360" y="259416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5236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216000" y="1341360"/>
            <a:ext cx="8642160" cy="4523040"/>
            <a:chOff x="216000" y="1341360"/>
            <a:chExt cx="8642160" cy="4523040"/>
          </a:xfrm>
        </p:grpSpPr>
        <p:sp>
          <p:nvSpPr>
            <p:cNvPr id="307" name=""/>
            <p:cNvSpPr/>
            <p:nvPr/>
          </p:nvSpPr>
          <p:spPr>
            <a:xfrm>
              <a:off x="216000" y="1824120"/>
              <a:ext cx="8642160" cy="40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xisten 3 materiales disponibles: Madera (palitos), papel (tubos), cartón (perfiles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n clase de Taller, se deben realizar los ensayes de: tracción, compresión y torsión, determinando el valor límite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La siguiente clase se debe entregar un informe que contenga la forma en que se a realizaron las pruebas, sus resultados y el material escogido, considerando los resultados de las pruebas y costos de cada un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6000" y="1341360"/>
              <a:ext cx="8642160" cy="48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TAPA A: Evaluación de Material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6000" y="586440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00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8160" y="1341360"/>
              <a:ext cx="0" cy="45230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6000" y="182412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16T16:12:45Z</dcterms:modified>
  <cp:revision>301</cp:revision>
  <dc:subject/>
  <dc:title>Reactor Agitado</dc:title>
</cp:coreProperties>
</file>