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7B0-3762-4043-A3DE-2974372E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04A-5433-41FF-A501-2DEE0C4A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8D7-3AB8-451C-8E58-B6784A03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BC1-4B8A-419D-86EA-0431A3AB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A537-11FB-4807-B464-C323A928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ADB6-E986-4110-A659-F6D9B3A2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A035-1697-431C-95B8-5BC8AECE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83AC-6A78-4EB6-9997-0C55E141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381A-D705-44EF-95A2-F2FB605C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CB6A-C39C-4F29-B8C9-C0830EEE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1DE0-2BE3-4400-A1AE-C38CF842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7F9-F2EC-4265-B720-033846BE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2090-6515-4840-AE05-8CD1AA23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3584-89F8-47C1-B66C-A609B08F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1C10-9D04-4724-97EE-0FD66CC0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0C91-C5B3-42A2-B744-E6D9B2B0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C2FF-AF61-4CE0-A3DA-A64F071C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8AE-E657-466C-8E61-47BAB1B7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574-EA35-4F8F-8C79-E871BD7F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DA6-A93A-4B68-A7D1-3495928F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2CB-4214-475C-BAD5-5F8D2B96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26D-A1BE-4F4B-BA26-10A78A23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E2B-2796-43C2-86A6-2F0EBDE5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6F9-BE52-4411-B2D8-3A4E610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0139-0A02-4C97-B0DF-DCF4D805091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0432-81D2-45E4-92DA-41EDFD2FBA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  </a:t>
            </a: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07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49440" y="1557360"/>
            <a:ext cx="7777080" cy="3287520"/>
            <a:chOff x="649440" y="1557360"/>
            <a:chExt cx="7777080" cy="3287520"/>
          </a:xfrm>
        </p:grpSpPr>
        <p:sp>
          <p:nvSpPr>
            <p:cNvPr id="317" name=""/>
            <p:cNvSpPr/>
            <p:nvPr/>
          </p:nvSpPr>
          <p:spPr>
            <a:xfrm>
              <a:off x="649440" y="1557360"/>
              <a:ext cx="777708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9440" y="2468520"/>
              <a:ext cx="65530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Madera: palitos de Broche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Papel: tubos de media hoja oficio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ø ≈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arton: Perfil “L” de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9440" y="2013120"/>
              <a:ext cx="655308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Descrip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2520" y="2468520"/>
              <a:ext cx="12240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,5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0,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,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2520" y="2013120"/>
              <a:ext cx="12240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Cos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9440" y="155736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9440" y="484488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44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2652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440" y="246852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9440" y="2013120"/>
              <a:ext cx="77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2520" y="2013120"/>
              <a:ext cx="0" cy="28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16000" y="1341360"/>
            <a:ext cx="8642160" cy="3888000"/>
            <a:chOff x="216000" y="1341360"/>
            <a:chExt cx="8642160" cy="3888000"/>
          </a:xfrm>
        </p:grpSpPr>
        <p:sp>
          <p:nvSpPr>
            <p:cNvPr id="332" name=""/>
            <p:cNvSpPr/>
            <p:nvPr/>
          </p:nvSpPr>
          <p:spPr>
            <a:xfrm>
              <a:off x="216000" y="1989000"/>
              <a:ext cx="864216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Pape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6000" y="5229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00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5816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9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57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81440" y="28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½ Hoja Ofi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5297000">
            <a:off x="610200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968360" y="3428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184360" y="4436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9440" y="40053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ø ≈ 1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6000" y="1341360"/>
            <a:ext cx="8642160" cy="4248360"/>
            <a:chOff x="216000" y="1341360"/>
            <a:chExt cx="8642160" cy="4248360"/>
          </a:xfrm>
        </p:grpSpPr>
        <p:sp>
          <p:nvSpPr>
            <p:cNvPr id="349" name=""/>
            <p:cNvSpPr/>
            <p:nvPr/>
          </p:nvSpPr>
          <p:spPr>
            <a:xfrm>
              <a:off x="216000" y="1797120"/>
              <a:ext cx="864216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Cart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000" y="55897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00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5816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744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28720" y="5157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089080" y="2421000"/>
            <a:ext cx="0" cy="2448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7440" y="5013360"/>
            <a:ext cx="863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032360" y="2565000"/>
            <a:ext cx="2086920" cy="2160720"/>
            <a:chOff x="4032360" y="2565000"/>
            <a:chExt cx="2086920" cy="2160720"/>
          </a:xfrm>
        </p:grpSpPr>
        <p:sp>
          <p:nvSpPr>
            <p:cNvPr id="362" name=""/>
            <p:cNvSpPr/>
            <p:nvPr/>
          </p:nvSpPr>
          <p:spPr>
            <a:xfrm>
              <a:off x="403236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6200000">
              <a:off x="421560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16000" y="1341360"/>
            <a:ext cx="8642160" cy="3959280"/>
            <a:chOff x="216000" y="1341360"/>
            <a:chExt cx="8642160" cy="3959280"/>
          </a:xfrm>
        </p:grpSpPr>
        <p:sp>
          <p:nvSpPr>
            <p:cNvPr id="366" name=""/>
            <p:cNvSpPr/>
            <p:nvPr/>
          </p:nvSpPr>
          <p:spPr>
            <a:xfrm>
              <a:off x="216000" y="1989000"/>
              <a:ext cx="86421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Mader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6000" y="530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600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5816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5297000">
            <a:off x="419184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65800" y="4292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Palito de Boch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216000" y="1341360"/>
            <a:ext cx="8642160" cy="4392720"/>
            <a:chOff x="216000" y="1341360"/>
            <a:chExt cx="8642160" cy="4392720"/>
          </a:xfrm>
        </p:grpSpPr>
        <p:sp>
          <p:nvSpPr>
            <p:cNvPr id="378" name=""/>
            <p:cNvSpPr/>
            <p:nvPr/>
          </p:nvSpPr>
          <p:spPr>
            <a:xfrm>
              <a:off x="216000" y="1797120"/>
              <a:ext cx="8642160" cy="39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Tra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00" y="573408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0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5816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36720" y="2565360"/>
            <a:ext cx="3024000" cy="2879280"/>
            <a:chOff x="2736720" y="2565360"/>
            <a:chExt cx="3024000" cy="2879280"/>
          </a:xfrm>
        </p:grpSpPr>
        <p:sp>
          <p:nvSpPr>
            <p:cNvPr id="387" name=""/>
            <p:cNvSpPr/>
            <p:nvPr/>
          </p:nvSpPr>
          <p:spPr>
            <a:xfrm>
              <a:off x="4110480" y="2735280"/>
              <a:ext cx="183600" cy="21171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18520" y="2565360"/>
              <a:ext cx="2108520" cy="169560"/>
              <a:chOff x="2918520" y="2565360"/>
              <a:chExt cx="2108520" cy="16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8520" y="2734920"/>
                <a:ext cx="2108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919960" y="2565360"/>
                <a:ext cx="2103840" cy="169560"/>
                <a:chOff x="2919960" y="2565360"/>
                <a:chExt cx="2103840" cy="169560"/>
              </a:xfrm>
            </p:grpSpPr>
            <p:sp>
              <p:nvSpPr>
                <p:cNvPr id="391" name=""/>
                <p:cNvSpPr/>
                <p:nvPr/>
              </p:nvSpPr>
              <p:spPr>
                <a:xfrm flipH="1">
                  <a:off x="291996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31942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34707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37458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40165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4291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45680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484272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4203360" y="476676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35440" y="2734920"/>
              <a:ext cx="0" cy="2117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6720" y="3666960"/>
              <a:ext cx="12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19040" y="485280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77680" y="298908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387" idx="3"/>
              <a:endCxn id="403" idx="2"/>
            </p:cNvCxnSpPr>
            <p:nvPr/>
          </p:nvCxnSpPr>
          <p:spPr>
            <a:xfrm flipV="1">
              <a:off x="429372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216000" y="1341360"/>
            <a:ext cx="8642160" cy="4680000"/>
            <a:chOff x="216000" y="1341360"/>
            <a:chExt cx="8642160" cy="4680000"/>
          </a:xfrm>
        </p:grpSpPr>
        <p:sp>
          <p:nvSpPr>
            <p:cNvPr id="407" name=""/>
            <p:cNvSpPr/>
            <p:nvPr/>
          </p:nvSpPr>
          <p:spPr>
            <a:xfrm>
              <a:off x="216000" y="1797120"/>
              <a:ext cx="864216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Compres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000" y="602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600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5816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665440" y="2205000"/>
            <a:ext cx="3514680" cy="2933640"/>
            <a:chOff x="2665440" y="2205000"/>
            <a:chExt cx="3514680" cy="2933640"/>
          </a:xfrm>
        </p:grpSpPr>
        <p:sp>
          <p:nvSpPr>
            <p:cNvPr id="416" name=""/>
            <p:cNvSpPr/>
            <p:nvPr/>
          </p:nvSpPr>
          <p:spPr>
            <a:xfrm>
              <a:off x="4551480" y="22050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0800000">
              <a:off x="4478040" y="2852640"/>
              <a:ext cx="183960" cy="2117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744720" y="4969080"/>
              <a:ext cx="2108160" cy="169560"/>
              <a:chOff x="3744720" y="4969080"/>
              <a:chExt cx="2108160" cy="1695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3744720" y="4969080"/>
                <a:ext cx="21081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747960" y="4969080"/>
                <a:ext cx="2103480" cy="169560"/>
                <a:chOff x="3747960" y="4969080"/>
                <a:chExt cx="2103480" cy="16956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56703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395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18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48441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45734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429840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19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7479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937040" y="2852640"/>
              <a:ext cx="0" cy="2117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97440" y="3858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8400" y="23493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5440" y="4074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17" idx="3"/>
              <a:endCxn id="432" idx="0"/>
            </p:cNvCxnSpPr>
            <p:nvPr/>
          </p:nvCxnSpPr>
          <p:spPr>
            <a:xfrm flipV="1" rot="10800000">
              <a:off x="330588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216000" y="1341360"/>
            <a:ext cx="8642160" cy="4062600"/>
            <a:chOff x="216000" y="1341360"/>
            <a:chExt cx="8642160" cy="4062600"/>
          </a:xfrm>
        </p:grpSpPr>
        <p:sp>
          <p:nvSpPr>
            <p:cNvPr id="436" name=""/>
            <p:cNvSpPr/>
            <p:nvPr/>
          </p:nvSpPr>
          <p:spPr>
            <a:xfrm>
              <a:off x="216000" y="2060640"/>
              <a:ext cx="864216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Mo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6000" y="54039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600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5816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757600" y="2133720"/>
            <a:ext cx="3422520" cy="2338200"/>
            <a:chOff x="2757600" y="2133720"/>
            <a:chExt cx="3422520" cy="2338200"/>
          </a:xfrm>
        </p:grpSpPr>
        <p:sp>
          <p:nvSpPr>
            <p:cNvPr id="445" name=""/>
            <p:cNvSpPr/>
            <p:nvPr/>
          </p:nvSpPr>
          <p:spPr>
            <a:xfrm>
              <a:off x="5081760" y="32004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06880" y="1919160"/>
              <a:ext cx="187200" cy="2546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927520" y="2363760"/>
              <a:ext cx="0" cy="2108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57600" y="42861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57600" y="40118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57600" y="37353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7600" y="346068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57600" y="31892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57600" y="29145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57600" y="26384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57600" y="23637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2927520" y="3557160"/>
              <a:ext cx="2117520" cy="1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36450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7440" y="32860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00360" y="2133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0" name=""/>
            <p:cNvCxnSpPr>
              <a:stCxn id="446" idx="3"/>
              <a:endCxn id="459" idx="2"/>
            </p:cNvCxnSpPr>
            <p:nvPr/>
          </p:nvCxnSpPr>
          <p:spPr>
            <a:xfrm flipH="1" flipV="1" rot="5400000">
              <a:off x="392112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33440" y="189000"/>
            <a:ext cx="798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ctividad Artefacto Misterios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2133720"/>
            <a:ext cx="72010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14400" y="1828800"/>
            <a:ext cx="720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9280" y="4627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6640" y="4475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038480"/>
            <a:ext cx="47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ordinador de Equi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cargado de Seguridad / Material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cretari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ocero - Comunic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stig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433440" y="1628640"/>
            <a:ext cx="8280000" cy="4321440"/>
            <a:chOff x="433440" y="1628640"/>
            <a:chExt cx="8280000" cy="4321440"/>
          </a:xfrm>
        </p:grpSpPr>
        <p:sp>
          <p:nvSpPr>
            <p:cNvPr id="220" name=""/>
            <p:cNvSpPr/>
            <p:nvPr/>
          </p:nvSpPr>
          <p:spPr>
            <a:xfrm>
              <a:off x="433440" y="3668760"/>
              <a:ext cx="828000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anejo de conceptos de ensayes y evaluación de materi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plicar estimación de costos al diseño de un puen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iseñar una estructura auto soportante que cumpla con las solicitaciones dada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esarrollo de planos que permitan la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struir el puente y probarl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440" y="321300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S ESPECÍFIC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40" y="2084400"/>
              <a:ext cx="8280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Introducir al alumno al diseño y trabajo en proyectos, planteando un desafío concreto con restricciones re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440" y="162864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 GENER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3440" y="162864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440" y="595008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1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3440" y="20844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1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3440" y="32130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3440" y="366876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44720" y="2060640"/>
            <a:ext cx="5904000" cy="2808000"/>
            <a:chOff x="1944720" y="2060640"/>
            <a:chExt cx="5904000" cy="2808000"/>
          </a:xfrm>
        </p:grpSpPr>
        <p:sp>
          <p:nvSpPr>
            <p:cNvPr id="237" name=""/>
            <p:cNvSpPr/>
            <p:nvPr/>
          </p:nvSpPr>
          <p:spPr>
            <a:xfrm>
              <a:off x="1944720" y="2840040"/>
              <a:ext cx="5904000" cy="20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B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4720" y="2060640"/>
              <a:ext cx="5904000" cy="77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ETAP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4720" y="2060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4720" y="4868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4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8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44720" y="28400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4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8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494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16000" y="1511280"/>
            <a:ext cx="8713800" cy="4581360"/>
            <a:chOff x="216000" y="1511280"/>
            <a:chExt cx="8713800" cy="4581360"/>
          </a:xfrm>
        </p:grpSpPr>
        <p:sp>
          <p:nvSpPr>
            <p:cNvPr id="249" name=""/>
            <p:cNvSpPr/>
            <p:nvPr/>
          </p:nvSpPr>
          <p:spPr>
            <a:xfrm>
              <a:off x="1217520" y="563724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trega Informe Final- Presentacion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000" y="563724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7520" y="518148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Diseño definitivo –Pruebas – Planos “As built”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6000" y="518148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7520" y="472572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Correcciones a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000" y="472572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7520" y="427032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Confección de Plan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000" y="427032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7520" y="381456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Definición de Planos – Pruebas prelimina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000" y="381456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17520" y="335916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M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000" y="335916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7520" y="290340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A : Ensaye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6000" y="290340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7520" y="244764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pre-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000" y="244764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7520" y="1966680"/>
              <a:ext cx="7712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átedr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6000" y="1966680"/>
              <a:ext cx="10015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000" y="1511280"/>
              <a:ext cx="8713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000" y="1511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6000" y="6092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0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298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000" y="19666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6000" y="2447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7520" y="1966680"/>
              <a:ext cx="0" cy="412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000" y="2903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000" y="33591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000" y="3814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000" y="42703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6000" y="4725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6000" y="51814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6000" y="563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84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1368360" y="1773360"/>
            <a:ext cx="6265800" cy="3192480"/>
            <a:chOff x="1368360" y="1773360"/>
            <a:chExt cx="6265800" cy="3192480"/>
          </a:xfrm>
        </p:grpSpPr>
        <p:sp>
          <p:nvSpPr>
            <p:cNvPr id="294" name=""/>
            <p:cNvSpPr/>
            <p:nvPr/>
          </p:nvSpPr>
          <p:spPr>
            <a:xfrm>
              <a:off x="1368360" y="2594160"/>
              <a:ext cx="626580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guir indicaciones de Profesor, ayudant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68360" y="1773360"/>
              <a:ext cx="6265800" cy="82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NORMAS DE TRABAJO EN LABORATORI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68360" y="17733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360" y="496584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83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341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8360" y="25941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5236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216000" y="1341360"/>
            <a:ext cx="8642160" cy="4523040"/>
            <a:chOff x="216000" y="1341360"/>
            <a:chExt cx="8642160" cy="4523040"/>
          </a:xfrm>
        </p:grpSpPr>
        <p:sp>
          <p:nvSpPr>
            <p:cNvPr id="307" name=""/>
            <p:cNvSpPr/>
            <p:nvPr/>
          </p:nvSpPr>
          <p:spPr>
            <a:xfrm>
              <a:off x="216000" y="1824120"/>
              <a:ext cx="8642160" cy="40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xisten 3 materiales disponibles: Madera (palitos), papel (tubos), cartón (perfiles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 clase de Taller, se deben realizar los ensayes de: tracción, compresión y torsión, determinando el valor lími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La siguiente clase se debe entregar un informe que contenga la forma en que se a realizaron las pruebas, sus resultados y el material escogido, considerando los resultados de las pruebas y costos de cada un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6000" y="1341360"/>
              <a:ext cx="8642160" cy="48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6000" y="58644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00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816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6000" y="1824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16T16:12:45Z</dcterms:modified>
  <cp:revision>301</cp:revision>
  <dc:subject/>
  <dc:title>Reactor Agitado</dc:title>
</cp:coreProperties>
</file>