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73B6-E769-44AE-9E43-27FF1001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9CA7-2637-4096-8572-BB7CF1FC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22C7-9D55-41A3-87C1-35F9300C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AAC0-2C21-48D8-9E9A-FF3ACFBC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34A2-7B4D-45C9-A33F-D947CAC9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4C44-1F15-4825-A90D-3FE826A8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12D4-E274-42C8-80B7-EAB70867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DA8B-FDAA-4392-923D-2FF97825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B81-A09F-4011-9841-0613C610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7077-ABB0-487C-B7EE-4F2F1D09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524C-22DF-4A93-8042-A3006509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E0FE-1DA0-4D33-9E88-556FD8F6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9919-FF45-4DEB-AF63-7BF70B31D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341360"/>
          <a:ext cx="8642160" cy="47530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portar una carga móvil (carrito tirado por una cuerda) de 3[Kgr]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er una luz de 35 [cm], con una altura mínima de 10 [cm] bajo el punto medio del puente, y un ancho mínimo de 15 [cms] para que pase el carr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r con rampas de acceso.(pueden estar aparte de la estructur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izar los cost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 tamaño (o el de sus partes) debe ser menor a la de los casilleros (45x43x22 c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79600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3427560"/>
            <a:ext cx="3672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427640" y="2779560"/>
            <a:ext cx="0" cy="648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3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uz: 3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6000" y="2781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ura libre: 1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012000" y="3211200"/>
            <a:ext cx="576000" cy="576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99280" y="3357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ho: 1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1341360"/>
          <a:ext cx="8642160" cy="364176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construido sólo con el material seleccionado: papel (tubos de ½ hoja de oficio), cartón (perfil L 1x1 20 cm.), madera (palitos de brocheta) y cola fría la que será medida y tendrá un costo de 10 []/gram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solo puede apoyarse en la mesas no está permitido, pegarlo o fijarlo de otra maner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42920" y="1773360"/>
          <a:ext cx="7418520" cy="3395520"/>
        </p:xfrm>
        <a:graphic>
          <a:graphicData uri="http://schemas.openxmlformats.org/drawingml/2006/table">
            <a:tbl>
              <a:tblPr/>
              <a:tblGrid>
                <a:gridCol w="7418520"/>
              </a:tblGrid>
              <a:tr h="99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DE DISEÑ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jetivo: confección de planos que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mitan constru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mitan cubicar → hacer la cubicació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42920" y="1557360"/>
          <a:ext cx="7418520" cy="4887720"/>
        </p:xfrm>
        <a:graphic>
          <a:graphicData uri="http://schemas.openxmlformats.org/drawingml/2006/table">
            <a:tbl>
              <a:tblPr/>
              <a:tblGrid>
                <a:gridCol w="7418520"/>
              </a:tblGrid>
              <a:tr h="98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OS (Cap-10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os de proyecto en base a vistas isométricas (sin perspectiva)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n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ior o plan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er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1484280"/>
            <a:ext cx="7561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1557360"/>
            <a:ext cx="741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5229360"/>
            <a:ext cx="7417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5445000"/>
            <a:ext cx="741708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5229360"/>
            <a:ext cx="18734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5229360"/>
            <a:ext cx="3384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92360" y="184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1618920" y="155700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80000" y="4365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04000" y="4653000"/>
            <a:ext cx="28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450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es anteriores (fecha-dibuj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835280" y="4869000"/>
            <a:ext cx="7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1341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o:  Libre (A4, Carta, Doble cart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773360"/>
            <a:ext cx="20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2205000"/>
            <a:ext cx="82087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º Documento (ej: proyecto, sección, grupo, plano P1-S1-G04-Pl-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visión (A: interna, B: entregado a cliente, 0-para construcción, 1-2-… modificaci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upo-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bujante- Re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entarios Artefacto Misterio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Trabajo en Equipo (Cap-6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0500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    r    u    p    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724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Equip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484360" y="3284640"/>
            <a:ext cx="4248000" cy="1800000"/>
            <a:chOff x="2484360" y="3284640"/>
            <a:chExt cx="4248000" cy="1800000"/>
          </a:xfrm>
        </p:grpSpPr>
        <p:sp>
          <p:nvSpPr>
            <p:cNvPr id="55" name=""/>
            <p:cNvSpPr/>
            <p:nvPr/>
          </p:nvSpPr>
          <p:spPr>
            <a:xfrm>
              <a:off x="2484360" y="3284640"/>
              <a:ext cx="1150920" cy="180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3280" y="3355920"/>
              <a:ext cx="0" cy="1728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292720" y="3429000"/>
              <a:ext cx="287280" cy="165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64000" y="3284640"/>
              <a:ext cx="503280" cy="180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651280" y="3429000"/>
              <a:ext cx="1081080" cy="165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Básico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84464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spe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27813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Valorar y aprovechar fortalez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371808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Apoyar en debilid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465444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Orientar a meta fi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lav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22035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nterdependencia Positi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313992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sponsabilidad individu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407664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nterac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0133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Habilidades Soci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ol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844640"/>
            <a:ext cx="7345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Lí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2781360"/>
            <a:ext cx="741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Secretar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18080"/>
            <a:ext cx="7129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Times New Roman"/>
              </a:rPr>
              <a:t>Facilita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4654440"/>
            <a:ext cx="6985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Enl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7865600">
            <a:off x="4694040" y="3234960"/>
            <a:ext cx="4508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ROT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2205000"/>
            <a:ext cx="4105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Planific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40360" y="3355920"/>
            <a:ext cx="4679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Metas clar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4292640"/>
            <a:ext cx="424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5229360"/>
            <a:ext cx="453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mpromis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413000"/>
            <a:ext cx="381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union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2205000"/>
            <a:ext cx="5867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Plantear claram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3284640"/>
            <a:ext cx="4680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Saber escuch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4292640"/>
            <a:ext cx="6551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Buscar opci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5229360"/>
            <a:ext cx="5329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Llegar a acuer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413000"/>
            <a:ext cx="381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flicto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0920" y="1511280"/>
          <a:ext cx="8713800" cy="458136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pre-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A : Ensaye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M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Definición de Planos – Pruebas prelimin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Confección de Pl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Correcciones a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Diseño definitivo –Pruebas – Planos “As buil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 Informe Final- Present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0" y="3789360"/>
            <a:ext cx="9144000" cy="93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26T22:24:45Z</dcterms:modified>
  <cp:revision>29</cp:revision>
  <dc:subject/>
  <dc:title>EL63A-Taller de Proyecto en Control II</dc:title>
</cp:coreProperties>
</file>