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9563-5CA1-457F-A6F6-C824C977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D505-4379-4E0F-9797-1C03E46C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9818-2259-4559-A388-B3A0C12F9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BA9-3C76-4EC3-94EE-59C5BFAC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E317-F748-463D-BF3E-63C84D77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52A-A266-4E5A-97E0-293F3FDF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F2B-0E9E-4F4C-89F3-F4739CD6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E4D9-D659-4819-A0BC-AC4D4A1E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669-F394-43F2-8B95-6637EB19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A9E-CE73-4CE5-8DE0-0403B5C1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CB0-8EC4-4092-844C-A7146490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E281-29DF-4211-8EE8-4CD0BB67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34B3-2664-48A9-BF42-A1C9A4BE4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 (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mínima de 10 [cm] bajo el punto medio del puente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579600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42920" y="3068640"/>
            <a:ext cx="1944720" cy="1511280"/>
          </a:xfrm>
          <a:prstGeom prst="cube">
            <a:avLst>
              <a:gd name="adj" fmla="val 59453"/>
            </a:avLst>
          </a:prstGeom>
          <a:solidFill>
            <a:srgbClr val="bbe0e3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3427560"/>
            <a:ext cx="367200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27640" y="2779560"/>
            <a:ext cx="0" cy="6480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76720" y="3357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uz: 3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56000" y="2781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ura libre: 10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012000" y="3211200"/>
            <a:ext cx="57600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99280" y="33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cho: 15 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50920" y="1341360"/>
          <a:ext cx="8642160" cy="36417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7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16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construido sólo con el material seleccionado: papel (tubos de ½ hoja de oficio), cartón (perfil L 1x1 20 cm.), madera (palitos de brocheta) y cola fría la que será medida y tendrá un costo de 10 []/gram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solo puede apoyarse en la mesas no está permitido, pegarlo o fijarlo de otra maner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042920" y="1773360"/>
          <a:ext cx="7418520" cy="33955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9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DE DISEÑO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4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jetivo: confección de planos que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onstrui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mitan cubicar → hacer la cubicació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042920" y="1557360"/>
          <a:ext cx="7418520" cy="4887720"/>
        </p:xfrm>
        <a:graphic>
          <a:graphicData uri="http://schemas.openxmlformats.org/drawingml/2006/table">
            <a:tbl>
              <a:tblPr/>
              <a:tblGrid>
                <a:gridCol w="7418520"/>
              </a:tblGrid>
              <a:tr h="98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4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S (Cap-10)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0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800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umentos de proyecto en base a vistas isométricas (sin perspectiva)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ont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ior o plant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25000"/>
                        </a:lnSpc>
                        <a:spcBef>
                          <a:spcPts val="15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era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26920" y="1484280"/>
            <a:ext cx="7561440" cy="43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557360"/>
            <a:ext cx="741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00000" y="5229360"/>
            <a:ext cx="74170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5445000"/>
            <a:ext cx="74170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5229360"/>
            <a:ext cx="18734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32360" y="5229360"/>
            <a:ext cx="3384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692360" y="184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618920" y="1557000"/>
            <a:ext cx="144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80000" y="4365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4000" y="4653000"/>
            <a:ext cx="2890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332000" y="4508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iones anteriores (fecha-dibuj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835280" y="4869000"/>
            <a:ext cx="7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-1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to:  Libre (A4, Carta, Doble carta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773360"/>
            <a:ext cx="2087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205000"/>
            <a:ext cx="8208720" cy="39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º Documento (ej: proyecto, sección, grupo, plano P1-S1-G04-Pl-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visión (A: interna, B: entregado a cliente, 0-para construcción, 1-2-… modificacion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upo- S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bujante- Re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mentarios Artefacto Misterios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00"/>
                </a:solidFill>
                <a:latin typeface="Times New Roman"/>
              </a:rPr>
              <a:t>Trabajo en Equipo (Cap-6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20500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G    r    u    p    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724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Equip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484360" y="3284640"/>
            <a:ext cx="4248000" cy="1800000"/>
            <a:chOff x="2484360" y="3284640"/>
            <a:chExt cx="4248000" cy="1800000"/>
          </a:xfrm>
        </p:grpSpPr>
        <p:sp>
          <p:nvSpPr>
            <p:cNvPr id="55" name=""/>
            <p:cNvSpPr/>
            <p:nvPr/>
          </p:nvSpPr>
          <p:spPr>
            <a:xfrm>
              <a:off x="2484360" y="3284640"/>
              <a:ext cx="115092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3280" y="3355920"/>
              <a:ext cx="0" cy="1728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92720" y="3429000"/>
              <a:ext cx="2872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64000" y="3284640"/>
              <a:ext cx="503280" cy="180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5651280" y="3429000"/>
              <a:ext cx="1081080" cy="165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ásico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84464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e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781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Valorar y aprovechar fortalez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371808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Apoyar en debilida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46544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Orientar a meta fin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lav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2035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dependencia Positiv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313992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sponsabilidad individu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4076640"/>
            <a:ext cx="8964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Interacció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5013360"/>
            <a:ext cx="896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Habilidades Socia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26828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1844640"/>
            <a:ext cx="7345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í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2781360"/>
            <a:ext cx="741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ecretar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8080"/>
            <a:ext cx="71294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000ff"/>
                </a:solidFill>
                <a:latin typeface="Times New Roman"/>
              </a:rPr>
              <a:t>Facilitad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654440"/>
            <a:ext cx="69850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Enlac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7865600">
            <a:off x="4694040" y="3234960"/>
            <a:ext cx="4508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Times New Roman"/>
              </a:rPr>
              <a:t>ROT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2205000"/>
            <a:ext cx="4105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ific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40360" y="3355920"/>
            <a:ext cx="4679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Metas clara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4292640"/>
            <a:ext cx="42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o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5229360"/>
            <a:ext cx="4537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mpromis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Reunione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rabajo en Equip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205000"/>
            <a:ext cx="5867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Plantear claram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284640"/>
            <a:ext cx="4680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Saber escucha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4292640"/>
            <a:ext cx="6551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Buscar opci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5229360"/>
            <a:ext cx="5329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Llegar a acuerd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413000"/>
            <a:ext cx="381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Conflicto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0" y="3789360"/>
            <a:ext cx="9144000" cy="93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26T22:24:45Z</dcterms:modified>
  <cp:revision>29</cp:revision>
  <dc:subject/>
  <dc:title>EL63A-Taller de Proyecto en Control II</dc:title>
</cp:coreProperties>
</file>