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6A0-627F-4FD0-8A4E-0A1B2D2D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0CB-26EE-46B5-8327-553A3A4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68A-82DA-4191-8F88-DBD424C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3F0-B038-4EBC-93CD-BECF4F7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6D3-9388-4DD0-9DD3-20B2A22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CD0-09EE-4BEB-9BFC-CCD7831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CC0-E9DE-4600-B58B-6C33B61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9F8-B142-4B5D-A564-F9327079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B18-9504-4165-828F-1DF9645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D23-C8F4-48FB-B5A8-DB472EA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51E-5848-4374-B5B9-9F5C48D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0B4-CB5D-4497-9B93-05F7558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5F5C-7828-403E-9AC1-EE5EFD017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Sábado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é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4T12:17:19Z</dcterms:modified>
  <cp:revision>24</cp:revision>
  <dc:subject/>
  <dc:title>EL63A-Taller de Proyecto en Control II</dc:title>
</cp:coreProperties>
</file>