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38C9-72C7-4538-B059-5A5B176DC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3AA5-9721-4FAC-8F77-AECE72254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152E-F7C4-4CA9-94D4-E1FA48729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7A5B-DDD2-4B1D-86F2-3BE3C5E0E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D457-FC34-4082-BABF-6C2F194EA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C636-7B8C-42F5-BA1E-8A18C8823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C96A-7E96-4CFB-9188-B382578E8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1C82-E407-4E92-8067-A9C833CF1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B631-8398-4EFA-9A48-47AE9D52E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0F55-57E9-4732-82D5-5600557A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4422-2ECC-4489-A164-DDE9B88BD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89F1-11F9-4F07-B739-69C71B3DD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48F7C-3945-4631-9A98-FC139A87D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I1101- Introducción a la Ingeniería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50920" y="1341360"/>
          <a:ext cx="8642160" cy="452304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46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A: Evaluación de Materi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5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isten 3 materiales disponibles: Madera (palitos), papel (tubos), cartón (perfiles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 clase de Taller, se deben realizar los ensayes de: tracción, compresión y momento, determinando el valor límit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siguiente clase se debe entregar un informe que contenga la forma en que se a realizaron las pruebas, sus resultados y el material escogido, considerando los resultados de las pruebas y costos de cada un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84360" y="1557360"/>
          <a:ext cx="7777080" cy="3287520"/>
        </p:xfrm>
        <a:graphic>
          <a:graphicData uri="http://schemas.openxmlformats.org/drawingml/2006/table">
            <a:tbl>
              <a:tblPr/>
              <a:tblGrid>
                <a:gridCol w="6553080"/>
                <a:gridCol w="1224000"/>
              </a:tblGrid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TAPA A: Evaluación de Materi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3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era: palitos de Brochet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pel: tubos de media hoja oficio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ø ≈ 1 c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ton: Perfil “L” de 1 c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50920" y="1341360"/>
          <a:ext cx="8642160" cy="388800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A: Pap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24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4360" y="2852640"/>
            <a:ext cx="100800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92360" y="2852640"/>
            <a:ext cx="100800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16360" y="2852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½ Hoja Ofi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5297000">
            <a:off x="6136920" y="2207520"/>
            <a:ext cx="647640" cy="3095640"/>
          </a:xfrm>
          <a:prstGeom prst="can">
            <a:avLst>
              <a:gd name="adj" fmla="val 1073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5003280" y="3428640"/>
            <a:ext cx="73080" cy="36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5219280" y="4436640"/>
            <a:ext cx="73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24360" y="4005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ø ≈ 1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50920" y="1341360"/>
          <a:ext cx="8642160" cy="424836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A: Cart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78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92360" y="2421000"/>
            <a:ext cx="863640" cy="24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63640" y="515772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124000" y="242100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692360" y="5013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067280" y="2565000"/>
            <a:ext cx="2086920" cy="2160720"/>
            <a:chOff x="4067280" y="2565000"/>
            <a:chExt cx="2086920" cy="2160720"/>
          </a:xfrm>
        </p:grpSpPr>
        <p:sp>
          <p:nvSpPr>
            <p:cNvPr id="106" name=""/>
            <p:cNvSpPr/>
            <p:nvPr/>
          </p:nvSpPr>
          <p:spPr>
            <a:xfrm>
              <a:off x="4067280" y="2957040"/>
              <a:ext cx="2086920" cy="1768680"/>
            </a:xfrm>
            <a:prstGeom prst="parallelogram">
              <a:avLst>
                <a:gd name="adj" fmla="val 9389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 rot="16200000">
              <a:off x="4250520" y="2821320"/>
              <a:ext cx="2160360" cy="1646640"/>
            </a:xfrm>
            <a:prstGeom prst="parallelogram">
              <a:avLst>
                <a:gd name="adj" fmla="val 10687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50920" y="1341360"/>
          <a:ext cx="8642160" cy="395928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647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A: Made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1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5297000">
            <a:off x="4226760" y="400680"/>
            <a:ext cx="644400" cy="6701040"/>
          </a:xfrm>
          <a:prstGeom prst="can">
            <a:avLst>
              <a:gd name="adj" fmla="val 10736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00720" y="4292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lito de Boch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50920" y="1341360"/>
          <a:ext cx="8642160" cy="439272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A: Ensaye de Trac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3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771640" y="2565360"/>
            <a:ext cx="3024000" cy="2879280"/>
            <a:chOff x="2771640" y="2565360"/>
            <a:chExt cx="3024000" cy="2879280"/>
          </a:xfrm>
        </p:grpSpPr>
        <p:sp>
          <p:nvSpPr>
            <p:cNvPr id="119" name=""/>
            <p:cNvSpPr/>
            <p:nvPr/>
          </p:nvSpPr>
          <p:spPr>
            <a:xfrm>
              <a:off x="4145400" y="2735280"/>
              <a:ext cx="183600" cy="2117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2953440" y="2565360"/>
              <a:ext cx="2108520" cy="169560"/>
              <a:chOff x="2953440" y="2565360"/>
              <a:chExt cx="2108520" cy="169560"/>
            </a:xfrm>
          </p:grpSpPr>
          <p:sp>
            <p:nvSpPr>
              <p:cNvPr id="121" name=""/>
              <p:cNvSpPr/>
              <p:nvPr/>
            </p:nvSpPr>
            <p:spPr>
              <a:xfrm>
                <a:off x="2953440" y="2734920"/>
                <a:ext cx="2108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" name=""/>
              <p:cNvGrpSpPr/>
              <p:nvPr/>
            </p:nvGrpSpPr>
            <p:grpSpPr>
              <a:xfrm>
                <a:off x="2954880" y="2565360"/>
                <a:ext cx="2103840" cy="169560"/>
                <a:chOff x="2954880" y="2565360"/>
                <a:chExt cx="2103840" cy="169560"/>
              </a:xfrm>
            </p:grpSpPr>
            <p:sp>
              <p:nvSpPr>
                <p:cNvPr id="123" name=""/>
                <p:cNvSpPr/>
                <p:nvPr/>
              </p:nvSpPr>
              <p:spPr>
                <a:xfrm flipH="1">
                  <a:off x="2954880" y="2565360"/>
                  <a:ext cx="18108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 flipH="1">
                  <a:off x="322920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 flipH="1">
                  <a:off x="350568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 flipH="1">
                  <a:off x="378072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flipH="1">
                  <a:off x="405144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 flipH="1">
                  <a:off x="432612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 flipH="1">
                  <a:off x="4602960" y="256536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flipH="1">
                  <a:off x="4877640" y="2565360"/>
                  <a:ext cx="18108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" name=""/>
            <p:cNvSpPr/>
            <p:nvPr/>
          </p:nvSpPr>
          <p:spPr>
            <a:xfrm>
              <a:off x="4238280" y="4766760"/>
              <a:ext cx="0" cy="67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870360" y="2734920"/>
              <a:ext cx="0" cy="211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771640" y="3666960"/>
              <a:ext cx="128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5 c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053960" y="4852800"/>
              <a:ext cx="12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12600" y="2989080"/>
              <a:ext cx="12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ter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6" name=""/>
            <p:cNvCxnSpPr>
              <a:stCxn id="119" idx="3"/>
              <a:endCxn id="135" idx="2"/>
            </p:cNvCxnSpPr>
            <p:nvPr/>
          </p:nvCxnSpPr>
          <p:spPr>
            <a:xfrm flipV="1">
              <a:off x="4328640" y="3420000"/>
              <a:ext cx="826920" cy="374040"/>
            </a:xfrm>
            <a:prstGeom prst="curvedConnector2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50920" y="1341360"/>
          <a:ext cx="8642160" cy="468000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45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A: Ensaye de Compres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2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700360" y="2205000"/>
            <a:ext cx="3514680" cy="2933640"/>
            <a:chOff x="2700360" y="2205000"/>
            <a:chExt cx="3514680" cy="2933640"/>
          </a:xfrm>
        </p:grpSpPr>
        <p:sp>
          <p:nvSpPr>
            <p:cNvPr id="142" name=""/>
            <p:cNvSpPr/>
            <p:nvPr/>
          </p:nvSpPr>
          <p:spPr>
            <a:xfrm>
              <a:off x="4586400" y="2205000"/>
              <a:ext cx="0" cy="67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10800000">
              <a:off x="4512960" y="2852640"/>
              <a:ext cx="183960" cy="21175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3779640" y="4969080"/>
              <a:ext cx="2108160" cy="169560"/>
              <a:chOff x="3779640" y="4969080"/>
              <a:chExt cx="2108160" cy="169560"/>
            </a:xfrm>
          </p:grpSpPr>
          <p:sp>
            <p:nvSpPr>
              <p:cNvPr id="145" name=""/>
              <p:cNvSpPr/>
              <p:nvPr/>
            </p:nvSpPr>
            <p:spPr>
              <a:xfrm flipH="1">
                <a:off x="3779640" y="4969080"/>
                <a:ext cx="2108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" name=""/>
              <p:cNvGrpSpPr/>
              <p:nvPr/>
            </p:nvGrpSpPr>
            <p:grpSpPr>
              <a:xfrm>
                <a:off x="3782880" y="4969080"/>
                <a:ext cx="2103480" cy="169560"/>
                <a:chOff x="3782880" y="4969080"/>
                <a:chExt cx="2103480" cy="169560"/>
              </a:xfrm>
            </p:grpSpPr>
            <p:sp>
              <p:nvSpPr>
                <p:cNvPr id="147" name=""/>
                <p:cNvSpPr/>
                <p:nvPr/>
              </p:nvSpPr>
              <p:spPr>
                <a:xfrm flipV="1">
                  <a:off x="5705280" y="4969080"/>
                  <a:ext cx="18108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V="1">
                  <a:off x="543024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V="1">
                  <a:off x="515376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V="1">
                  <a:off x="487908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V="1">
                  <a:off x="460836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V="1">
                  <a:off x="433332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4056840" y="4969080"/>
                  <a:ext cx="18180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 flipV="1">
                  <a:off x="3782880" y="4969080"/>
                  <a:ext cx="181080" cy="16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5" name=""/>
            <p:cNvSpPr/>
            <p:nvPr/>
          </p:nvSpPr>
          <p:spPr>
            <a:xfrm>
              <a:off x="4971960" y="2852640"/>
              <a:ext cx="0" cy="211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932360" y="385884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5 c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513320" y="234936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700360" y="407484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ter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9" name=""/>
            <p:cNvCxnSpPr>
              <a:stCxn id="143" idx="3"/>
              <a:endCxn id="158" idx="0"/>
            </p:cNvCxnSpPr>
            <p:nvPr/>
          </p:nvCxnSpPr>
          <p:spPr>
            <a:xfrm flipV="1" rot="10800000">
              <a:off x="3340800" y="3911040"/>
              <a:ext cx="1172520" cy="164160"/>
            </a:xfrm>
            <a:prstGeom prst="curvedConnector2">
              <a:avLst/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50920" y="1341360"/>
          <a:ext cx="8642160" cy="406260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71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A: Ensaye de Momen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4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792520" y="2133720"/>
            <a:ext cx="3422520" cy="2338200"/>
            <a:chOff x="2792520" y="2133720"/>
            <a:chExt cx="3422520" cy="2338200"/>
          </a:xfrm>
        </p:grpSpPr>
        <p:sp>
          <p:nvSpPr>
            <p:cNvPr id="165" name=""/>
            <p:cNvSpPr/>
            <p:nvPr/>
          </p:nvSpPr>
          <p:spPr>
            <a:xfrm>
              <a:off x="5116680" y="3200400"/>
              <a:ext cx="0" cy="677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16200000">
              <a:off x="4141800" y="1919160"/>
              <a:ext cx="187200" cy="2546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2962440" y="2363760"/>
              <a:ext cx="0" cy="210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792520" y="4286160"/>
              <a:ext cx="16992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792520" y="4011840"/>
              <a:ext cx="1699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792520" y="3735360"/>
              <a:ext cx="1699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792520" y="3460680"/>
              <a:ext cx="1699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792520" y="3189240"/>
              <a:ext cx="1699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792520" y="2914560"/>
              <a:ext cx="16992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792520" y="2638440"/>
              <a:ext cx="1699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92520" y="2363760"/>
              <a:ext cx="16992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>
              <a:off x="2962440" y="3557160"/>
              <a:ext cx="21175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03640" y="364500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15 c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932360" y="328608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635280" y="213372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ter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0" name=""/>
            <p:cNvCxnSpPr>
              <a:stCxn id="166" idx="3"/>
              <a:endCxn id="179" idx="2"/>
            </p:cNvCxnSpPr>
            <p:nvPr/>
          </p:nvCxnSpPr>
          <p:spPr>
            <a:xfrm flipH="1" flipV="1" rot="5400000">
              <a:off x="3956040" y="2778480"/>
              <a:ext cx="599400" cy="41760"/>
            </a:xfrm>
            <a:prstGeom prst="curvedConnector5">
              <a:avLst>
                <a:gd name="adj1" fmla="val 49819"/>
                <a:gd name="adj2" fmla="val 49565"/>
                <a:gd name="adj3" fmla="val 49819"/>
              </a:avLst>
            </a:prstGeom>
            <a:ln cap="rnd" w="3240">
              <a:solidFill>
                <a:srgbClr val="000000"/>
              </a:solidFill>
              <a:custDash>
                <a:ds d="100000" sp="1000"/>
              </a:custDash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9884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tividad Artefacto Misterio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00000" y="1268280"/>
            <a:ext cx="720108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3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Cada Grupo observará 3 artefactos y elegirá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3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Hasta el Sábado a las 12:00 pueden poner en el foro 3 pregun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34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Próxima semana informe con su investig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187280" y="3429000"/>
            <a:ext cx="720108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¿Cómo funciona el artefac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ff"/>
                </a:solidFill>
                <a:latin typeface="Times New Roman"/>
              </a:rPr>
              <a:t>¿Para qué se utiliza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Times New Roman"/>
              </a:rPr>
              <a:t>¿Cuál podría ser su nomb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611280" y="4941720"/>
          <a:ext cx="7416720" cy="1092240"/>
        </p:xfrm>
        <a:graphic>
          <a:graphicData uri="http://schemas.openxmlformats.org/drawingml/2006/table">
            <a:tbl>
              <a:tblPr/>
              <a:tblGrid>
                <a:gridCol w="1090440"/>
                <a:gridCol w="463680"/>
                <a:gridCol w="379440"/>
                <a:gridCol w="384120"/>
                <a:gridCol w="382680"/>
                <a:gridCol w="382320"/>
                <a:gridCol w="379440"/>
                <a:gridCol w="382680"/>
                <a:gridCol w="406440"/>
                <a:gridCol w="407880"/>
                <a:gridCol w="406440"/>
                <a:gridCol w="405000"/>
                <a:gridCol w="404640"/>
                <a:gridCol w="384120"/>
                <a:gridCol w="382680"/>
                <a:gridCol w="382680"/>
                <a:gridCol w="39204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upos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→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er Artefac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do Artefac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er Artefac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5640" y="2924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Diseño y construcción de un puent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29242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Formación de Grup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68360" y="1628640"/>
          <a:ext cx="8280000" cy="4321440"/>
        </p:xfrm>
        <a:graphic>
          <a:graphicData uri="http://schemas.openxmlformats.org/drawingml/2006/table">
            <a:tbl>
              <a:tblPr/>
              <a:tblGrid>
                <a:gridCol w="82800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BJETIVO GENE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11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roducir al alumno al diseño y trabajo en proyectos, planteando un desafío concreto con restricciones real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BJETIVOS ESPECÍFI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nejo de conceptos de ensayes y evaluación de material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plicar estimación de costos al diseño de un puente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señar una estructura auto soportante que cumpla con las solicitaciones dada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esarrollo de planos que permitan la construc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struir el puente y probarl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979640" y="2060640"/>
          <a:ext cx="5904000" cy="2808000"/>
        </p:xfrm>
        <a:graphic>
          <a:graphicData uri="http://schemas.openxmlformats.org/drawingml/2006/table">
            <a:tbl>
              <a:tblPr/>
              <a:tblGrid>
                <a:gridCol w="5904000"/>
              </a:tblGrid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TAP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028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4600" indent="93600">
                        <a:lnSpc>
                          <a:spcPct val="150000"/>
                        </a:lnSpc>
                        <a:tabLst>
                          <a:tab algn="l" pos="0"/>
                          <a:tab algn="l" pos="712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- Evaluación de Materi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4600" indent="93600">
                        <a:lnSpc>
                          <a:spcPct val="150000"/>
                        </a:lnSpc>
                        <a:tabLst>
                          <a:tab algn="l" pos="0"/>
                          <a:tab algn="l" pos="712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- Dise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44600" indent="93600">
                        <a:lnSpc>
                          <a:spcPct val="150000"/>
                        </a:lnSpc>
                        <a:tabLst>
                          <a:tab algn="l" pos="0"/>
                          <a:tab algn="l" pos="712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- Construcció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Proyecto de Ingeniería 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50920" y="1511280"/>
          <a:ext cx="8713800" cy="4581360"/>
        </p:xfrm>
        <a:graphic>
          <a:graphicData uri="http://schemas.openxmlformats.org/drawingml/2006/table">
            <a:tbl>
              <a:tblPr/>
              <a:tblGrid>
                <a:gridCol w="1001520"/>
                <a:gridCol w="7712280"/>
              </a:tblGrid>
              <a:tr h="4597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TIVIDAD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m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átedr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mana pre-echo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A : Ensaye de Materia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mana Mecho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B:  Definición de Planos – Pruebas preliminar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B:  Confección de Plan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C:  Correcciones al dise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tapa 1-C:  Diseño definitivo –Pruebas – Planos “As built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trega Informe Final- Presentacio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50920" y="1341360"/>
          <a:ext cx="8642160" cy="4753080"/>
        </p:xfrm>
        <a:graphic>
          <a:graphicData uri="http://schemas.openxmlformats.org/drawingml/2006/table">
            <a:tbl>
              <a:tblPr/>
              <a:tblGrid>
                <a:gridCol w="8642160"/>
              </a:tblGrid>
              <a:tr h="70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PECIFICACIONES DEL DISEÑ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04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 puente debe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portar una carga móvil (carrito tirado por una cuerda) de 3[Kgr]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ner una luz de 35 [cm], con una altura libre mínima de 10 [cm] a lo largo de toda la luz, y un ancho mínimo de 15 [cms] para que pase el carr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tar con rampas de acceso.(pueden estar aparte de la estructura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imizar los costos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 tamaño (o el de sus partes) debe ser menor a la de los casilleros (45x43x22 cm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403280" y="1773360"/>
          <a:ext cx="6265800" cy="3192480"/>
        </p:xfrm>
        <a:graphic>
          <a:graphicData uri="http://schemas.openxmlformats.org/drawingml/2006/table">
            <a:tbl>
              <a:tblPr/>
              <a:tblGrid>
                <a:gridCol w="626580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S DE TRABAJO EN LABORATOR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3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guir indicaciones de Profesor, ayudant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tilizar implementos de Segurida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bajar en forma Responsa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25000"/>
                        </a:lnSpc>
                        <a:spcBef>
                          <a:spcPts val="1199"/>
                        </a:spcBef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187280" y="1341360"/>
            <a:ext cx="6696360" cy="48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7-03-14T12:17:19Z</dcterms:modified>
  <cp:revision>24</cp:revision>
  <dc:subject/>
  <dc:title>EL63A-Taller de Proyecto en Control II</dc:title>
</cp:coreProperties>
</file>