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3588-5322-4C3A-82EA-525B8A9C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14E8-529B-4AFC-9110-A5665BAE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507C-8645-4530-8E75-8EA3CCFE9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822D-ECCB-4AAA-A97C-EAB010EA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D59-B6F4-4905-9B3E-199C7FEF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CC23-048C-4AD0-8B8B-FF8860F1B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FD0-5009-471F-A2C3-4A61373B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039A-1E98-4CE0-AFF0-43B2DC85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6D9-56E2-4536-BAC9-8855DC12A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24D9-F1B9-43A9-9324-D0F1D40C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AE78-1F11-4486-BC07-89EEDB2A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747-02A5-4C25-9B43-674163F4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B05F3-B2BB-4D92-8412-DC373CABB90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77300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EI1101- Introducción a la Ingeniería 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634920" y="5516280"/>
            <a:ext cx="4568760" cy="62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f: Héctor Agusto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¿Qué es la Ingeniería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igen del Tér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spcAft>
                <a:spcPts val="27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ff"/>
                </a:solidFill>
                <a:latin typeface="Times New Roman"/>
              </a:rPr>
              <a:t>Ingenerare</a:t>
            </a:r>
            <a:r>
              <a:rPr b="1" lang="es-MX" sz="4400" spc="-1" strike="noStrike">
                <a:solidFill>
                  <a:srgbClr val="0000ff"/>
                </a:solidFill>
                <a:latin typeface="Times New Roman"/>
              </a:rPr>
              <a:t>:  Crear (latín)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“…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es el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rte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de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provechar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los recursos de la naturaleza en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beneficio 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el hombre y de la sociedad”</a:t>
            </a:r>
            <a:r>
              <a:rPr b="0" lang="en-US" sz="4000" spc="-1" strike="noStrike" baseline="30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.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229360"/>
            <a:ext cx="8064360" cy="8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Thomas Tredgold,  fundador de</a:t>
            </a:r>
            <a:br>
              <a:rPr sz="2400"/>
            </a:b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The Institution of Civil Engineer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, Inglaterra 182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rte (no ciencia ni técnica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provechar recursos natur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l ser humano (étic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Beneficiar a la sociedad (Rol Social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206064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Utiliza ciencia y técnic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Actualmente: trabajo en equip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549360"/>
            <a:ext cx="8281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Cóm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I1101 Introducción a la Ingenie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2492280"/>
            <a:ext cx="828180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grupos (5 c/u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Desarrollo de temas en Cátedr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s-CL" sz="3400" spc="-1" strike="noStrike">
                <a:solidFill>
                  <a:srgbClr val="0033cc"/>
                </a:solidFill>
                <a:latin typeface="Times New Roman"/>
              </a:rPr>
              <a:t>Trabajo en Proyectos en horario de Laboratorio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5280" y="1628640"/>
            <a:ext cx="8532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5000"/>
              </a:lnSpc>
              <a:spcAft>
                <a:spcPts val="2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F= 40%NP1 + 40%NP2 +  20%NCl</a:t>
            </a:r>
            <a:br>
              <a:rPr sz="4000"/>
            </a:b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P1, NP2: Notas proyectos</a:t>
            </a:r>
            <a:br>
              <a:rPr sz="4000"/>
            </a:br>
            <a:r>
              <a:rPr b="1" lang="es-MX" sz="4000" spc="-1" strike="noStrike">
                <a:solidFill>
                  <a:srgbClr val="0000ff"/>
                </a:solidFill>
                <a:latin typeface="Arial"/>
              </a:rPr>
              <a:t>NCl: Nota de Clase</a:t>
            </a:r>
            <a:r>
              <a:rPr b="0" lang="es-E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EI1101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Uchile</cp:lastModifiedBy>
  <dcterms:modified xsi:type="dcterms:W3CDTF">2007-03-06T00:23:30Z</dcterms:modified>
  <cp:revision>13</cp:revision>
  <dc:subject/>
  <dc:title>EL63A-Taller de Proyecto en Control II</dc:title>
</cp:coreProperties>
</file>