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4D1-E1E7-4854-9F36-151FB803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A38-F296-494E-8DE0-B578899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9C7-13E3-49D3-AB3A-AA4AA538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4AB-5810-4081-8BEB-C19B55C9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615-525F-4448-AD9F-D823667A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8A1-1293-4288-BECF-20CF46BB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1E2-49A6-4DCF-A348-29A82F63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C30-D203-4F7F-A81E-7D5174D5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3EC-F982-4DF0-AB6A-5D2B57B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3FC-A0A7-4A1C-9A03-B19A871E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ED2-4145-4628-8985-37A1C1B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0A5-B2B5-4FC2-81C2-DC14835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658E-9555-41B4-B0C0-B0EA6219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Sábado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é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4T12:17:19Z</dcterms:modified>
  <cp:revision>24</cp:revision>
  <dc:subject/>
  <dc:title>EL63A-Taller de Proyecto en Control II</dc:title>
</cp:coreProperties>
</file>