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07E-DBF7-47FE-8DE2-F6B0A979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84D-E531-43DD-B104-1B836EC7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152-9513-458F-9877-A148166E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C41-A60C-49BC-8ABB-1453AA67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ECA-99AD-4252-B47E-40B385D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05F-2DCE-46A5-806A-3EDB450B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38F-8BB1-445B-9259-62B1ABE7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152-4644-4654-9B4F-B0B809D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135-4A7D-4CF2-9065-36399554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C6E-9999-4A34-8CCD-7180006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0E4C-CEB0-43FD-AD3A-3E0AA65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9127-BD59-4E44-B2E7-A98DC3D8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C380-5167-47CA-89AB-776FB9FAD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60" y="6381720"/>
            <a:ext cx="40644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barrotado  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oracio Buldrini</dc:creator>
  <dc:description/>
  <dc:language>en-US</dc:language>
  <cp:lastModifiedBy>Horacio Buldrini</cp:lastModifiedBy>
  <dcterms:modified xsi:type="dcterms:W3CDTF">2007-05-01T00:06:41Z</dcterms:modified>
  <cp:revision>73</cp:revision>
  <dc:subject/>
  <dc:title>EI1101 Introducciona la Ingenieria clase 08</dc:title>
</cp:coreProperties>
</file>