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2CE-FA60-4B60-A73F-78E8B75F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2FD-CF11-4857-B2E9-AA8C7C39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D99-D108-4A04-818B-9B7CAAF7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014-F28E-45A0-B9AE-E08E434C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D53-CE18-47C0-A31C-800D726E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427-2B32-451A-A8AC-7538A1A4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D10-7E25-4BDA-8AC8-EE380447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096-B22C-4BB0-9281-50ED1062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C78-537F-4F2E-B8D7-198E8500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16E-502F-44E1-A98B-FEC8702D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FCE-5947-424E-B17F-05B3BDE4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FC5-9ABF-48EE-9D7A-6CADF3A1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8317-56A5-40C9-BF77-7FDB76EDC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barrotado  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oracio Buldrini</dc:creator>
  <dc:description/>
  <dc:language>en-US</dc:language>
  <cp:lastModifiedBy>Horacio Buldrini</cp:lastModifiedBy>
  <dcterms:modified xsi:type="dcterms:W3CDTF">2007-05-01T00:06:41Z</dcterms:modified>
  <cp:revision>73</cp:revision>
  <dc:subject/>
  <dc:title>EI1101 Introducciona la Ingenieria clase 08</dc:title>
</cp:coreProperties>
</file>