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03C0-E427-4AFA-BB6D-1FCDEE076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78D8-C2B3-4F5E-9227-1DDD8CCC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7406-6181-45F0-A6FD-2BFCB7D01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6BFC-D147-45E9-826D-23BE0B020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B5CA-2F93-44F0-9F3D-74FEB933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04B6-C26F-4398-A526-0A77CD90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E3D9-A940-46D9-A4D7-BB89D6ED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1CA7-5947-43AF-8247-B471C27F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476D-B640-4DF9-81F4-BBC3A2F5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74F4-9E7F-4E60-80F7-B729EEF0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A2A4-8A7D-4898-9084-2BA2D0ED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CB9E-F09A-45E2-8ADC-58CC1C9D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0D3A-0788-4524-8504-3A51B6A72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6360" y="6381720"/>
            <a:ext cx="406440" cy="476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468360" y="1968480"/>
            <a:ext cx="8318520" cy="3692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Desarr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360" y="6381720"/>
            <a:ext cx="40644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9640" y="1703520"/>
            <a:ext cx="8280360" cy="4462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5977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Cier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6360" y="6381720"/>
            <a:ext cx="40644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95280" y="2157480"/>
            <a:ext cx="8251920" cy="2925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11280" y="1413000"/>
          <a:ext cx="7777080" cy="4573440"/>
        </p:xfrm>
        <a:graphic>
          <a:graphicData uri="http://schemas.openxmlformats.org/drawingml/2006/table">
            <a:tbl>
              <a:tblPr/>
              <a:tblGrid>
                <a:gridCol w="1584360"/>
                <a:gridCol w="61927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1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 Las ideas expresadas son claras y coher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 El lenguaje utilizado es rico en vocabular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9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 Existió organización, síntesis y jerarquización de id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2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 Las ideas expresadas demostraron un manejo conceptu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3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 La exposición del tema incorporó las siguientes fases: introducción, desarrollo del tema y cierre. (Introducción 10%, desarrollo 65% y cierre 25%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81000" y="2708280"/>
            <a:ext cx="4586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998280" y="1988640"/>
            <a:ext cx="5461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11280" y="1197000"/>
          <a:ext cx="8064360" cy="5214960"/>
        </p:xfrm>
        <a:graphic>
          <a:graphicData uri="http://schemas.openxmlformats.org/drawingml/2006/table">
            <a:tbl>
              <a:tblPr/>
              <a:tblGrid>
                <a:gridCol w="1728720"/>
                <a:gridCol w="63356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0404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 El apoyo audiovisual es claro y permite la compresión de lo que se expon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 El recurso Power-point, utiliza el tamaño de letra adecuado (28-44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 El recurso Power-point, no se encuentra abarrotado   de tex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8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 El expositor hizo variación en la vo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. El expositor realizó gestos y movimientos corporales para dar énfasis a las ideas expues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. El expositor tuvo contacto visual con los oyen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 rot="10800000">
            <a:off x="998280" y="1844640"/>
            <a:ext cx="5461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NO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oracio Buldrini</dc:creator>
  <dc:description/>
  <dc:language>en-US</dc:language>
  <cp:lastModifiedBy>Horacio Buldrini</cp:lastModifiedBy>
  <dcterms:modified xsi:type="dcterms:W3CDTF">2007-05-01T00:06:41Z</dcterms:modified>
  <cp:revision>73</cp:revision>
  <dc:subject/>
  <dc:title>EI1101 Introducciona la Ingenieria clase 08</dc:title>
</cp:coreProperties>
</file>