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9AE-EF6C-4DF5-8E5C-CEC7C4AE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D75-6961-41B4-90F2-F63B482D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5BB-5B4A-428A-A311-6FDD45A5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DF4-F122-4422-BB7D-A154731B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6D0-7CF3-4110-95A7-9B21AF0A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328-01EC-4ED6-A75E-11E368AE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322-ADC0-4AAF-960C-15D35DB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9FC-E29C-4686-8602-A694E777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D07-7112-4B97-BF78-68D22B5E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ABF-0AD6-40EA-A25E-232F74A2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934-C6AC-4E46-9D30-B0EE0DEB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3CD-37A1-4322-AD57-1FA251CA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23F1-FB0E-4240-BD4A-B7581BC6D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barrotado  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oracio Buldrini</dc:creator>
  <dc:description/>
  <dc:language>en-US</dc:language>
  <cp:lastModifiedBy>Horacio Buldrini</cp:lastModifiedBy>
  <dcterms:modified xsi:type="dcterms:W3CDTF">2007-05-01T00:06:41Z</dcterms:modified>
  <cp:revision>73</cp:revision>
  <dc:subject/>
  <dc:title>EI1101 Introducciona la Ingenieria clase 08</dc:title>
</cp:coreProperties>
</file>