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701-2070-457C-8BE1-9C8192EC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94D-1B0A-4C11-A19C-3B106C1D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C8C-5F45-4858-9CE9-856C6D12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36B-0952-41EA-8923-14C0E277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F28-1AD8-4C87-9BBA-057FB229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4F5-DF00-4342-8FA9-7346A0C6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22C-0FE3-433C-8F43-F6710E54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628-1DDE-4DD7-9198-E8E9FE65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73F-D4D5-4698-B030-EF4B0354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96B-675A-4A58-9E39-A898C693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441-8F5A-4A4F-91F6-D92CE062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2B0-C9B3-4D76-B722-431EB952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B6D9-F8CE-4201-85A9-6FC10D221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barrotado  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oracio Buldrini</dc:creator>
  <dc:description/>
  <dc:language>en-US</dc:language>
  <cp:lastModifiedBy>Horacio Buldrini</cp:lastModifiedBy>
  <dcterms:modified xsi:type="dcterms:W3CDTF">2007-05-01T00:06:41Z</dcterms:modified>
  <cp:revision>73</cp:revision>
  <dc:subject/>
  <dc:title>EI1101 Introducciona la Ingenieria clase 08</dc:title>
</cp:coreProperties>
</file>