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F9C1-EEE1-4F4E-A8A4-FF4B8FDE5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AB33-09F8-4FE4-A186-9B4163BC4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8F4E-F978-448A-9172-D6A80B85C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2298-D0D5-4A00-BFAA-806E9A8BF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DE81-DB72-4909-8267-01D1A456C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B5BE-6CE4-4F2C-825B-145419EB8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A283-142E-4807-ACB9-3920C9AAD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E4E8-A7B9-430C-8A45-81193FAFA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8C13-48A4-4157-8A4F-42B9AF112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D8E1-AE72-4892-9B53-C07A8EEF8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DD48-734D-46D8-AFA8-57D19C2CF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9D31-C622-44B8-A86A-224B21300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BC955-F7F8-4BCE-A299-2AB02590FC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ses de la Exposición: Introdu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6360" y="6381720"/>
            <a:ext cx="406440" cy="476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>
            <a:lum contrast="-12000"/>
          </a:blip>
          <a:stretch/>
        </p:blipFill>
        <p:spPr>
          <a:xfrm>
            <a:off x="468360" y="1968480"/>
            <a:ext cx="8318520" cy="36925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7201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ses de la Exposición: Desarrol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6360" y="6381720"/>
            <a:ext cx="406440" cy="476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39640" y="1703520"/>
            <a:ext cx="8280360" cy="4462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47280" y="333360"/>
            <a:ext cx="5977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ses de la Exposición: Cier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6360" y="6381720"/>
            <a:ext cx="406440" cy="476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95280" y="2157480"/>
            <a:ext cx="8251920" cy="2925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uta de Evalu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11280" y="1413000"/>
          <a:ext cx="7777080" cy="4573440"/>
        </p:xfrm>
        <a:graphic>
          <a:graphicData uri="http://schemas.openxmlformats.org/drawingml/2006/table">
            <a:tbl>
              <a:tblPr/>
              <a:tblGrid>
                <a:gridCol w="1584360"/>
                <a:gridCol w="6192720"/>
              </a:tblGrid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men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icador de evalu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47916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. Las ideas expresadas son claras y coherentes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479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. El lenguaje utilizado es rico en vocabulari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79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. Existió organización, síntesis y jerarquización de ide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2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. Las ideas expresadas demostraron un manejo conceptua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136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. La exposición del tema incorporó las siguientes fases: introducción, desarrollo del tema y cierre. (Introducción 10%, desarrollo 65% y cierre 25%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81000" y="2708280"/>
            <a:ext cx="45864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0800000">
            <a:off x="998280" y="1988640"/>
            <a:ext cx="54612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UNICACIÓN VER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uta de Evalu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11280" y="1197000"/>
          <a:ext cx="8064360" cy="5214960"/>
        </p:xfrm>
        <a:graphic>
          <a:graphicData uri="http://schemas.openxmlformats.org/drawingml/2006/table">
            <a:tbl>
              <a:tblPr/>
              <a:tblGrid>
                <a:gridCol w="1728720"/>
                <a:gridCol w="633564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men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icador de evalu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104040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. El apoyo audiovisual es claro y permite la compresión de lo que se expon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1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. El recurso Power-point, utiliza el tamaño de letra adecuado (28-44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. El recurso Power-point, no se encuentra abarrotado   de text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58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. El expositor hizo variación en la voz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13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. El expositor realizó gestos y movimientos corporales para dar énfasis a las ideas expuest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. El expositor tuvo contacto visual con los oyent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</a:tbl>
          </a:graphicData>
        </a:graphic>
      </p:graphicFrame>
      <p:sp>
        <p:nvSpPr>
          <p:cNvPr id="67" name=""/>
          <p:cNvSpPr/>
          <p:nvPr/>
        </p:nvSpPr>
        <p:spPr>
          <a:xfrm rot="10800000">
            <a:off x="998280" y="1844640"/>
            <a:ext cx="5461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UNICACIÓN NO VER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oracio Buldrini</dc:creator>
  <dc:description/>
  <dc:language>en-US</dc:language>
  <cp:lastModifiedBy>Horacio Buldrini</cp:lastModifiedBy>
  <dcterms:modified xsi:type="dcterms:W3CDTF">2007-05-01T00:06:41Z</dcterms:modified>
  <cp:revision>73</cp:revision>
  <dc:subject/>
  <dc:title>EI1101 Introducciona la Ingenieria clase 08</dc:title>
</cp:coreProperties>
</file>