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123-01EF-4D23-A288-B417F758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1EE-C1B7-4FBA-8AAC-C079D8CF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901-414D-4D87-9CDF-7A01AB45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6BC-F323-40D9-B076-918FEBBA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5A2-AF3E-48C0-9690-79AF084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8FD-A11C-46D5-A849-2AC5B4E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BBE-9279-4F36-B737-4808D8B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C01-F5AA-425F-88BB-585E300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1BC-1B4B-403A-8A68-F0FABE2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289-7EDB-4AA7-A0BF-E7AE067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324-9991-4398-A727-68E1CEB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372-EC0D-4369-A5DB-987EA90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1AB-6355-4C76-BC3B-ED7FB001B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516280"/>
            <a:ext cx="6800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oracio Buldrini D’Ot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341360"/>
          <a:ext cx="8642160" cy="4895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06064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puente de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portar una carga móvil (carrito tirado por una cuerda) de 3[K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924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a luz de 35 [cm], con una altura libre mínima de 10 [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o largo de toda la luz, y un ancho mínimo de 15 [cms]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se el ca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040" y="4292640"/>
            <a:ext cx="863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r con rampas de acceso (pueden estar aparte de la estruc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320" y="4724280"/>
            <a:ext cx="312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nimizar los cos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9760" y="5124600"/>
            <a:ext cx="863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: Su tamaño (o el de sus partes) debe ser menor a la de los casill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45x43x22 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341360"/>
          <a:ext cx="8642160" cy="451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 construido sólo con el material seleccionado. La estructura debe ser: papel (tubos de ½ hoja de oficio), cartón (perfil L 1x1 20 cm.) o madera (palitos de broche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unir sólo se acepta cola fría la que será pesa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lo puede usarse el material seleccionado y cola fr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solo puede apoyarse de tope en las mesas. No está permitido, pegarlo o fijarlo de otra maner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777080" cy="37447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los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 c/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media hoja ofici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ón: trozo de 20x2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 fría: 1 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268280"/>
          <a:ext cx="7418160" cy="4005360"/>
        </p:xfrm>
        <a:graphic>
          <a:graphicData uri="http://schemas.openxmlformats.org/drawingml/2006/table">
            <a:tbl>
              <a:tblPr/>
              <a:tblGrid>
                <a:gridCol w="741816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cción de plano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añ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oracio Buldrini</cp:lastModifiedBy>
  <dcterms:modified xsi:type="dcterms:W3CDTF">2007-04-01T18:26:12Z</dcterms:modified>
  <cp:revision>52</cp:revision>
  <dc:subject/>
  <dc:title>EL63A-Taller de Proyecto en Control II</dc:title>
</cp:coreProperties>
</file>