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37F3-C840-49B8-BA02-B4401593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1F16-9F6E-470D-B926-188DD2F2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C711-1C13-43DD-82A0-FA648EC5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C61F-79AF-43C7-9D80-AA4E60F0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0FAF-C76B-45C5-A024-C055B1AD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1AD2-8248-4FCB-A134-13256023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175E-C7EC-4C26-9A35-84296B19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479D-2081-4901-B1CE-3A2A0076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6A25-1DC5-4478-8A6A-9FA58363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EABF-66BB-4DA1-9972-8ACC7D83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0BCF-BE0F-457D-A200-E05A876F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0E97-317F-4C26-A4F2-55FC724B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103C-29E0-448C-AB3C-881E7AD39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5516280"/>
            <a:ext cx="6800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oracio Buldrini D’Ot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50920" y="1341360"/>
          <a:ext cx="8642160" cy="489564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76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1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2060640"/>
            <a:ext cx="86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 puente de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oportar una carga móvil (carrito tirado por una cuerda) de 3[Kg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2924280"/>
            <a:ext cx="86421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: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ener una luz de 35 [cm], con una altura libre mínima de 10 [cm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 lo largo de toda la luz, y un ancho mínimo de 15 [cms] para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ase el car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9040" y="4292640"/>
            <a:ext cx="8635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: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tar con rampas de acceso (pueden estar aparte de la estructur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7320" y="4724280"/>
            <a:ext cx="3121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inimizar los costo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9760" y="5124600"/>
            <a:ext cx="86374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5: Su tamaño (o el de sus partes) debe ser menor a la de los casill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(45x43x22 c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796000" y="3068640"/>
            <a:ext cx="1944720" cy="1511280"/>
          </a:xfrm>
          <a:prstGeom prst="cube">
            <a:avLst>
              <a:gd name="adj" fmla="val 59453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42920" y="3068640"/>
            <a:ext cx="1944720" cy="1511280"/>
          </a:xfrm>
          <a:prstGeom prst="cube">
            <a:avLst>
              <a:gd name="adj" fmla="val 59453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27280" y="3427560"/>
            <a:ext cx="3672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33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uz: 3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012000" y="3211200"/>
            <a:ext cx="576000" cy="576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99280" y="3357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cho: 1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50920" y="1341360"/>
          <a:ext cx="8642160" cy="45180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deb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 construido sólo con el material seleccionado. La estructura debe ser: papel (tubos de ½ hoja de oficio), cartón (perfil L 1x1 20 cm.) o madera (palitos de brochet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 unir sólo se acepta cola fría la que será pesada y tendrá un costo de 10 []/gram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ólo puede usarse el material seleccionado y cola frí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solo puede apoyarse de tope en las mesas. No está permitido, pegarlo o fijarlo de otra manera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84360" y="1557360"/>
          <a:ext cx="7777080" cy="3744720"/>
        </p:xfrm>
        <a:graphic>
          <a:graphicData uri="http://schemas.openxmlformats.org/drawingml/2006/table">
            <a:tbl>
              <a:tblPr/>
              <a:tblGrid>
                <a:gridCol w="6553080"/>
                <a:gridCol w="122400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s de los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ra: palitos de brocheta c/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l: media hoja ofici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ón: trozo de 20x2 c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a fría: 1 gram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71640" y="1268280"/>
          <a:ext cx="7418160" cy="4005360"/>
        </p:xfrm>
        <a:graphic>
          <a:graphicData uri="http://schemas.openxmlformats.org/drawingml/2006/table">
            <a:tbl>
              <a:tblPr/>
              <a:tblGrid>
                <a:gridCol w="7418160"/>
              </a:tblGrid>
              <a:tr h="99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DE DISEÑ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ección de planos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 permitan construi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 permitan cubicar → hacer la cubicació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042920" y="1557360"/>
          <a:ext cx="7418520" cy="4887720"/>
        </p:xfrm>
        <a:graphic>
          <a:graphicData uri="http://schemas.openxmlformats.org/drawingml/2006/table">
            <a:tbl>
              <a:tblPr/>
              <a:tblGrid>
                <a:gridCol w="7418520"/>
              </a:tblGrid>
              <a:tr h="98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O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8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os de proyecto en base a vistas isométricas (sin perspectiva)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on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ior o plant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er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1484280"/>
            <a:ext cx="7561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1557360"/>
            <a:ext cx="7417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00000" y="5229360"/>
            <a:ext cx="74170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5445000"/>
            <a:ext cx="7417080" cy="1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43640" y="5229360"/>
            <a:ext cx="18734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32360" y="5229360"/>
            <a:ext cx="33847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92360" y="1844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1618920" y="1557000"/>
            <a:ext cx="144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80000" y="4365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04000" y="4653000"/>
            <a:ext cx="289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32000" y="450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iones anteriores (fecha-dibuj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835280" y="4869000"/>
            <a:ext cx="7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134136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maño:  Libre (A4, Carta, Doble carta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773360"/>
            <a:ext cx="208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2205000"/>
            <a:ext cx="820872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º Documento (ej: proyecto, sección, grupo, plano P1-S1-G04-Pl-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visión (A: interna, B: entregado a cliente, 0-para construcción, 1-2-… modificaci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upo- 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bujante- Re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Horacio Buldrini</cp:lastModifiedBy>
  <dcterms:modified xsi:type="dcterms:W3CDTF">2007-04-01T18:26:12Z</dcterms:modified>
  <cp:revision>52</cp:revision>
  <dc:subject/>
  <dc:title>EL63A-Taller de Proyecto en Control II</dc:title>
</cp:coreProperties>
</file>