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0872-AD8B-48E0-985D-08FDE2FD1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CE85-FBD1-4976-BC0D-65BDFE58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9D54-8AB4-4A11-8DC6-930375CA8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4369-FB20-484B-B1FC-A993A4D91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04D3-181B-4FA2-B006-5907FF84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CCB2-0548-43EC-B929-AA222288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7D43-1DEB-4123-98FF-A71B5291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9F81-AB7D-43CE-9CF9-5132CBE5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0BE9-4266-4547-8527-B534B571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DFE7-D406-45AC-A6C3-5C8AF6F1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ED91-C4DD-4251-9A7F-F8DB72B5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C95D-C988-4241-B9B6-01C0B0CE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59C9-739D-4EF4-BD81-35EB3C93E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1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5640" y="5516280"/>
            <a:ext cx="6800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oracio Buldrini D’Ott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50920" y="1341360"/>
          <a:ext cx="8642160" cy="489564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764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CIFICACIONES DEL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1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2060640"/>
            <a:ext cx="86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l puente deb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: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oportar una carga móvil (carrito tirado por una cuerda) de 3[Kg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2924280"/>
            <a:ext cx="86421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: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ener una luz de 35 [cm], con una altura libre mínima de 10 [cm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 lo largo de toda la luz, y un ancho mínimo de 15 [cms] para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ase el car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9040" y="4292640"/>
            <a:ext cx="86356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: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tar con rampas de acceso (pueden estar aparte de la estructur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7320" y="4724280"/>
            <a:ext cx="3121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: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inimizar los costo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9760" y="5124600"/>
            <a:ext cx="86374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5: Su tamaño (o el de sus partes) debe ser menor a la de los casill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(45x43x22 c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796000" y="3068640"/>
            <a:ext cx="1944720" cy="1511280"/>
          </a:xfrm>
          <a:prstGeom prst="cube">
            <a:avLst>
              <a:gd name="adj" fmla="val 59453"/>
            </a:avLst>
          </a:prstGeom>
          <a:solidFill>
            <a:srgbClr val="bbe0e3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42920" y="3068640"/>
            <a:ext cx="1944720" cy="1511280"/>
          </a:xfrm>
          <a:prstGeom prst="cube">
            <a:avLst>
              <a:gd name="adj" fmla="val 59453"/>
            </a:avLst>
          </a:prstGeom>
          <a:solidFill>
            <a:srgbClr val="bbe0e3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627280" y="3427560"/>
            <a:ext cx="36720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3357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uz: 35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012000" y="3211200"/>
            <a:ext cx="576000" cy="576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299280" y="33577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cho: 15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50920" y="1341360"/>
          <a:ext cx="8642160" cy="451800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CIFICACIONES DEL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puente deb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 construido sólo con el material seleccionado. La estructura debe ser: papel (tubos de ½ hoja de oficio), cartón (perfil L 1x1 20 cm.) o madera (palitos de brochet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 unir sólo se acepta cola fría la que será pesada y tendrá un costo de 10 []/gram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ólo puede usarse el material seleccionado y cola frí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puente solo puede apoyarse de tope en las mesas. No está permitido, pegarlo o fijarlo de otra manera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84360" y="1557360"/>
          <a:ext cx="7777080" cy="3744720"/>
        </p:xfrm>
        <a:graphic>
          <a:graphicData uri="http://schemas.openxmlformats.org/drawingml/2006/table">
            <a:tbl>
              <a:tblPr/>
              <a:tblGrid>
                <a:gridCol w="6553080"/>
                <a:gridCol w="122400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os de los Materi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ra: palitos de brocheta c/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l: media hoja oficio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tón: trozo de 20x2 c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a fría: 1 gram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971640" y="1268280"/>
          <a:ext cx="7418160" cy="4005360"/>
        </p:xfrm>
        <a:graphic>
          <a:graphicData uri="http://schemas.openxmlformats.org/drawingml/2006/table">
            <a:tbl>
              <a:tblPr/>
              <a:tblGrid>
                <a:gridCol w="7418160"/>
              </a:tblGrid>
              <a:tr h="99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DE DISEÑ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fección de planos 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 permitan construi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 permitan cubicar → hacer la cubicació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042920" y="1557360"/>
          <a:ext cx="7418520" cy="4887720"/>
        </p:xfrm>
        <a:graphic>
          <a:graphicData uri="http://schemas.openxmlformats.org/drawingml/2006/table">
            <a:tbl>
              <a:tblPr/>
              <a:tblGrid>
                <a:gridCol w="7418520"/>
              </a:tblGrid>
              <a:tr h="98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O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8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umentos de proyecto en base a vistas isométricas (sin perspectiva)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on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erior o plant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er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-1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6920" y="1484280"/>
            <a:ext cx="756144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00000" y="1557360"/>
            <a:ext cx="741708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00000" y="5229360"/>
            <a:ext cx="74170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00000" y="5445000"/>
            <a:ext cx="7417080" cy="1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43640" y="5229360"/>
            <a:ext cx="18734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32360" y="5229360"/>
            <a:ext cx="338472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92360" y="1844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1618920" y="1557000"/>
            <a:ext cx="144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80000" y="43657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04000" y="4653000"/>
            <a:ext cx="289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32000" y="4508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iones anteriores (fecha-dibuja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835280" y="4869000"/>
            <a:ext cx="72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-1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134136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maño:  Libre (A4, Carta, Doble carta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773360"/>
            <a:ext cx="2087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2205000"/>
            <a:ext cx="820872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º Documento (ej: proyecto, sección, grupo, plano P1-S1-G04-Pl-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visión (A: interna, B: entregado a cliente, 0-para construcción, 1-2-… modificaci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e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y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rupo- S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bujante- Re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c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Horacio Buldrini</cp:lastModifiedBy>
  <dcterms:modified xsi:type="dcterms:W3CDTF">2007-04-01T18:26:12Z</dcterms:modified>
  <cp:revision>52</cp:revision>
  <dc:subject/>
  <dc:title>EL63A-Taller de Proyecto en Control II</dc:title>
</cp:coreProperties>
</file>