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885-2F5F-4150-A161-E777F892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969-32A3-46B9-BF62-BE7B611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8F6-2CE0-4355-A96B-EFCBE688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850-76C7-4739-87B0-0FC5E093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03D-4BB4-4366-9F0E-50A8AE9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6A7-71ED-431D-A5CE-1664925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048-75A8-4610-9E51-CDF6944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745-5845-4507-809E-532D699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F8A-E09E-44A7-9C83-A60851C5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A7B-2983-468E-B2A7-6A64FBF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388-B743-4810-B65F-7C2A215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4FF-44BE-4A0C-AB5C-7E3AAF8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063-13AA-4A52-8ED6-D060F219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516280"/>
            <a:ext cx="6800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oracio Buldrini D’Ot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341360"/>
          <a:ext cx="8642160" cy="4895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06064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puente de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portar una carga móvil (carrito tirado por una cuerda) de 3[K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924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a luz de 35 [cm], con una altura libre mínima de 10 [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o largo de toda la luz, y un ancho mínimo de 15 [cms]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se el ca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040" y="4292640"/>
            <a:ext cx="863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r con rampas de acceso (pueden estar aparte de la estruc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320" y="4724280"/>
            <a:ext cx="312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nimizar los cos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9760" y="5124600"/>
            <a:ext cx="863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: Su tamaño (o el de sus partes) debe ser menor a la de los casill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45x43x22 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341360"/>
          <a:ext cx="8642160" cy="451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 construido sólo con el material seleccionado. La estructura debe ser: papel (tubos de ½ hoja de oficio), cartón (perfil L 1x1 20 cm.) o madera (palitos de broche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unir sólo se acepta cola fría la que será pesa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lo puede usarse el material seleccionado y cola fr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solo puede apoyarse de tope en las mesas. No está permitido, pegarlo o fijarlo de otra maner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777080" cy="37447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los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 c/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media hoja ofici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ón: trozo de 20x2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 fría: 1 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268280"/>
          <a:ext cx="7418160" cy="4005360"/>
        </p:xfrm>
        <a:graphic>
          <a:graphicData uri="http://schemas.openxmlformats.org/drawingml/2006/table">
            <a:tbl>
              <a:tblPr/>
              <a:tblGrid>
                <a:gridCol w="741816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cción de plano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añ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oracio Buldrini</cp:lastModifiedBy>
  <dcterms:modified xsi:type="dcterms:W3CDTF">2007-04-01T18:26:12Z</dcterms:modified>
  <cp:revision>52</cp:revision>
  <dc:subject/>
  <dc:title>EL63A-Taller de Proyecto en Control II</dc:title>
</cp:coreProperties>
</file>