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5EA-51ED-4B58-9612-7552F39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50A-67E8-42EB-9594-A04C118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1EE-0634-4FCD-B58E-C770CF57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683-C53D-4A28-A68F-212569655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0EB-2670-434B-B9B6-81E9E220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DEA-2097-4CCF-9F2B-DBA90C09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31A-F232-4C90-B172-661E1544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D7E-13D2-4D7E-BD98-F462FBEA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75D-E897-4726-AD33-D72DE092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852-7B61-4CF3-88F3-2735B3AF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CB1-75D4-41B5-8020-8FB6768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7C6-466C-4DC3-8AF8-1B742A4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9558-12DA-4D3D-8D27-68FC019E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5516280"/>
            <a:ext cx="6800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oracio Buldrini D’Ot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341360"/>
          <a:ext cx="8642160" cy="4895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6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1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060640"/>
            <a:ext cx="86421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puente de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oportar una carga móvil (carrito tirado por una cuerda) de 3[Kg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924280"/>
            <a:ext cx="8642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a luz de 35 [cm], con una altura libre mínima de 10 [c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lo largo de toda la luz, y un ancho mínimo de 15 [cms] para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ase el ca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040" y="4292640"/>
            <a:ext cx="8635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ar con rampas de acceso (pueden estar aparte de la estructu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7320" y="4724280"/>
            <a:ext cx="3121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inimizar los cos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9760" y="5124600"/>
            <a:ext cx="8637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: Su tamaño (o el de sus partes) debe ser menor a la de los casill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45x43x22 c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1341360"/>
          <a:ext cx="8642160" cy="451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 construido sólo con el material seleccionado. La estructura debe ser: papel (tubos de ½ hoja de oficio), cartón (perfil L 1x1 20 cm.) o madera (palitos de broche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 unir sólo se acepta cola fría la que será pesa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ólo puede usarse el material seleccionado y cola frí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solo puede apoyarse de tope en las mesas. No está permitido, pegarlo o fijarlo de otra maner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360" y="1557360"/>
          <a:ext cx="7777080" cy="37447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de los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 c/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media hoja ofici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ón: trozo de 20x2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a fría: 1 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1268280"/>
          <a:ext cx="7418160" cy="4005360"/>
        </p:xfrm>
        <a:graphic>
          <a:graphicData uri="http://schemas.openxmlformats.org/drawingml/2006/table">
            <a:tbl>
              <a:tblPr/>
              <a:tblGrid>
                <a:gridCol w="7418160"/>
              </a:tblGrid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ección de planos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 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añ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oracio Buldrini</cp:lastModifiedBy>
  <dcterms:modified xsi:type="dcterms:W3CDTF">2007-04-01T18:26:12Z</dcterms:modified>
  <cp:revision>52</cp:revision>
  <dc:subject/>
  <dc:title>EL63A-Taller de Proyecto en Control II</dc:title>
</cp:coreProperties>
</file>