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B91-C885-4797-A450-0619AE02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AEB-F715-4894-8EE3-FFBE9DBA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FCD-F216-4E07-A65D-B8B1339C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F83-DC4C-490C-98C9-8996610D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E070-A9CE-4BF2-A205-9C2C1E73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19F7-AEF4-4A2C-92FB-32D05150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3B24-1E47-440B-8889-F1AE14F5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CBB9-63DF-403F-8247-6AEDE960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5544-69AB-4A6D-9CA1-6E4C9424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9268-104D-4D52-ACC5-9DAAABBB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9351-BE77-4AE0-A3D1-BAD9FB6C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783-A03E-4EF6-9A2C-9D66328D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59A9-275B-493F-86CD-37DEEBFC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1AA9-0CDD-496C-A72E-0F2CE38D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79DC-AE9F-43A2-B545-9A6A892E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6C8D-7D1D-4894-BA10-96FEB006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C869-8876-4BA1-8131-8CF95D41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BD8-6593-4D88-AC6C-C856EEA3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294-8F7C-4C29-BCB4-E0F231E5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8475-CA0E-42A3-BFCC-C6347894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BBD-F1B0-429F-A541-1FC6C8A7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4EB-7F0C-4386-9942-75D85944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C48-96F0-4C4C-B95B-5E51E2D9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EE5-B218-491D-AD5E-3E99D65D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8C78-E292-4FC1-9963-69AF1361902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B919-9C70-4CE9-84AF-5632323B096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0" y="762120"/>
            <a:ext cx="8713800" cy="4566960"/>
            <a:chOff x="0" y="762120"/>
            <a:chExt cx="8713800" cy="4566960"/>
          </a:xfrm>
        </p:grpSpPr>
        <p:sp>
          <p:nvSpPr>
            <p:cNvPr id="110" name=""/>
            <p:cNvSpPr/>
            <p:nvPr/>
          </p:nvSpPr>
          <p:spPr>
            <a:xfrm>
              <a:off x="1001520" y="479556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esentación y prueba de operació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79556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01520" y="426204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C:  Puesta en Marcha, </a:t>
              </a:r>
              <a:r>
                <a:rPr b="0" lang="es-E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NFORM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26204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01520" y="3744720"/>
              <a:ext cx="771228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744720"/>
              <a:ext cx="10015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01520" y="3211200"/>
              <a:ext cx="771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B: Construcción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3211200"/>
              <a:ext cx="1001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1520" y="2390400"/>
              <a:ext cx="7712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86000"/>
            </a:bodyPr>
            <a:p>
              <a:pPr marL="3167280" indent="-3167280">
                <a:lnSpc>
                  <a:spcPct val="100000"/>
                </a:lnSpc>
                <a:tabLst>
                  <a:tab algn="l" pos="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Definición diseño - Confección de Planos                                                          - Análisis Movimient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2390400"/>
              <a:ext cx="1001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01520" y="1857240"/>
              <a:ext cx="77122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tapa 2-A: Presentación de materiales, Brain Sto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1857240"/>
              <a:ext cx="10015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1520" y="1295280"/>
              <a:ext cx="771228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aboratori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295280"/>
              <a:ext cx="10015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m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762120"/>
              <a:ext cx="8713800" cy="533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VIDA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7621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53290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713800" y="762120"/>
              <a:ext cx="0" cy="4566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129528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8572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01520" y="1295280"/>
              <a:ext cx="0" cy="4033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23904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321120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374472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426204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795560"/>
              <a:ext cx="8713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28600" y="220968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971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n-US" sz="2400" spc="-1" strike="noStrike">
                <a:solidFill>
                  <a:srgbClr val="ffcc00"/>
                </a:solidFill>
                <a:latin typeface="Tahoma"/>
              </a:rPr>
              <a:t>I. Tormenta de ideas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Ideas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ocumentadas de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manera informal y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estructur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n la escritura libre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l emisor desarrolla las ideas con oraciones completas y anota si alguna información requiere más investiga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211640" y="2565360"/>
            <a:ext cx="866880" cy="485640"/>
          </a:xfrm>
          <a:prstGeom prst="rightArrow">
            <a:avLst>
              <a:gd name="adj1" fmla="val 50000"/>
              <a:gd name="adj2" fmla="val 4462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I. ¿Quién?</a:t>
            </a: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Un buen procedimiento es informar al lector (receptor) las ideas básica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¿Por qué?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incluye el motivo del documento o logro del proyec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716760" indent="-33732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describe cómo se completó el trabajo a través de diseños, resultados y otros documentos generados en el proces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34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II. Leer - escuchar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e requiere la información ya desarrollada, por tanto, es vital documentarse por medio de revistas, libros, documentos o Interne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Al leer, escuchar y discutir fuentes externas, el emisor logra desarrollar ideas importantes de modo más eficiente y eficaz”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00"/>
                </a:solidFill>
                <a:latin typeface="Tahoma"/>
              </a:rPr>
              <a:t>IV. Ordenando idea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l emisor, luego de la recolección de ideas, las organiza, según su inten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cronológico (documento que da instruccione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37720" indent="-39420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espacial (descripción de relaciones de objetos con otras cosas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PRE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de importancia (intención de desarrollar un argumento para persuadir o justificar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Por orden lógico (definición de una idea, cuando se comparan y contrastan temas de relevancia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borrador es un punto de partida para componer un documento, en este caso, de ingeniería. Es un texto breve, pero útil. 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Contiene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Grandes temas a discuti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Notas útil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Referencias externas que apoyen el tex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El punto de partida es ordenar los temas más importantes. Inicia el desarrollo del informe escri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Éste se expande, al añadir subtemas adecuados, con base en resultados técnicos del trabajo: uso de la información recolectad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l BORRADO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n su desarrollo inicial, se debe enfatizar la construcción de oraciones y párrafos, en torno a los subtem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incluyen detalles suficientes para describir cada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 y REVISAR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ditar es elemental para un lograr un buen escrito, esto es, una revisión exhaustiva de los contenidos propuest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Interesa analizar lo que se dice y lo que, en esencia, debería decirse. Por tanto, se corrige en aquellas áreas que no tienen mucho sentido o, si se requiere, se añade inform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Tomar distanci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dejar el documento por un tiempo, minutos o un par de h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 continuación, el emisor lee y relee el documento, marcando los párrafos u oraciones que necesitan revi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eer en voz alta es un buen mecanismo para evaluar y modificar el borr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38240" y="2446200"/>
            <a:ext cx="591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óxima clase Etica 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terial en Ucurs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EVALUAR</a:t>
            </a:r>
            <a:r>
              <a:rPr b="1" i="1" lang="en-US" sz="3100" spc="-1" strike="noStrike">
                <a:solidFill>
                  <a:srgbClr val="eaeaea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Opinión de pares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Otra instancia es efectuar una evaluación crítica por parte de un compañero, pues se supone que los pares son la audiencia potencial o receptores del escrit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349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Los evaluadores entregan sugerencias, críticas constructivas y sugerencias específicas para mejorar el texto, en las secciones que precisan más trabajo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El emisor revisa el escrito basado en los comentarios obtenidos, a partir de las evaluaciones. Con lo anterior se busca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Lograr un texto más interesant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liminar vaguedade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Expandir hechos, detalles, ejemplos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 de REVISIÓN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larificar la presentación de ideas en cada sección, párrafo y or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Centrar las oraciones en el tema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Remover las oraciones que no tienen relación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sar un lenguaje técnico apropiado para el lector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500" spc="-1" strike="noStrike">
                <a:solidFill>
                  <a:srgbClr val="ffffff"/>
                </a:solidFill>
                <a:latin typeface="Trebuchet MS"/>
              </a:rPr>
              <a:t>Utilizar un vocabulario formal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762120" y="914400"/>
            <a:ext cx="7943760" cy="34772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eparación de Informes escr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presentarse en forma clara, muy bien estructurad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 información muy precisa y ordenada, utilizando tercera person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debe extenderse en temas irrelevantes. Se debe redactar de tal for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sea comprensible por si mismo para una persona que no conoce el equipo y no ha participado a la experie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informe debe contener las siguientes par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1066680"/>
            <a:ext cx="807696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 Página de encabezamiento: esta incluye el título de la experiencia, fech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úmero del grupo y nombres de los alumnos, nombre del alumno jefe de proy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 Resumen Ejecutivo: en no más de 200 palabras, se resumen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 realizada, los resultados obtenidos y las principales conclus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 Introducción a la experiencia. Debe contener los siguientes puntos redac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forma razonablemente breve, (máximo tres páginas): (a) introduc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antecedentes, (b) objetivo y alcance de la experienci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c) descripción del equipo, metodologí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resultados esperados según la información bibliográf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40360" y="914400"/>
            <a:ext cx="8361720" cy="4483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 Resultados: se deben entregar los resultados provenientes del tra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os datos y mediciones experimentales, en forma de tablas y/o gráfico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gún corresponda. Utilizar el Sistema Internacional de Unidades (SI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comienda la presentación de los datos más relevantes en forma de tab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gráficos numéricos. En caso de efectuar un ajuste de función, se debe seña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laramente los parámetros del ajuste y los coeficientes de err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 Discusión: consiste en un análisis crítico del trabajo realizado, incluyendo u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álisis de los errores cometidos durante las mediciones. Comparar algun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alores de las variables de operación, coeficientes, rendimientos, etc., con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obtenidos de la lit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 es la parte más importante del informe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 La validez de los Resul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las Conclusiones está supeditado a esta Discusión.  El lector entendido 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volucrado en el proyecto presta especial dedicación a este pu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46000" y="990720"/>
            <a:ext cx="7940880" cy="3934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. Conclusiones: en esta sección se incluyen las diversa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duc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antitativa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que se originan del trabajo realizado, respaldadas por l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ultados obtenidos y en concordancia con los objetivos plante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ambién se pueden incluir recomendaciones o sugerencias para futur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eri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7. Apéndices: incluye el siguiente material de apoyo al inform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a) hoja de datos experimentales, (b) ejemplo de cálculo, (c) nomenclatura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d) bibliografía. Las referencias a la bibliografía se anotan en el tex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l informe con un número entre paréntesis, el que corresponde al ord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dicado en la sección de bibliografía. La bibliografía debe incluir; autor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ítulo completo, volumen, páginas, año y editor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1341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rebuchet MS"/>
              </a:rPr>
              <a:t>Expresión Escri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ahoma"/>
              </a:rPr>
              <a:t>¿Qué se entiende por escribir bi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el c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ponente básico de una buena comun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00000" y="231840"/>
          <a:ext cx="62244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1840"/>
                    <a:ext cx="62244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659640" y="476280"/>
          <a:ext cx="2000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476280"/>
                    <a:ext cx="2000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Objetiv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 capaz de escribir, de manera eficiente, informes, documentos, memorias, resúmenes ejecutiv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ir un texto pulido, comprensible, sin errores ortográficos ni gramatic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 manuscrito en el que palabras, formato y figuras evidencien orgullo, preocupación y el sentirse realizado con lo producido, por parte del emisor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0"/>
          <a:ext cx="5320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0"/>
                    <a:ext cx="5320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613560" y="260280"/>
          <a:ext cx="200808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13560" y="260280"/>
                    <a:ext cx="200808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Características o atributos de un texto técnico adecuad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nci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le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Receptor ideal de un documento técnico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Una comunicación efectiva que incluya todos los detalles importantes del tema, presupone que el escrito es redactado para receptores (audiencia) que tienen primeras nociones respecto del mism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or ejemplo, grupo de pares (alumnos de ingeniería)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 modo de síntesis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respecto de el o los receptores idea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Los temas del curso deben ser igual de claros para un profesor, un cliente o para el grupo de pa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877080" y="47628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47628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¿En qué consiste el proceso de escribir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rganiz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ompon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tar inform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732720" y="549360"/>
          <a:ext cx="189216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720" y="549360"/>
                    <a:ext cx="1892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US" sz="3100" spc="-1" strike="noStrike">
                <a:solidFill>
                  <a:srgbClr val="ffcc00"/>
                </a:solidFill>
                <a:latin typeface="Trebuchet MS"/>
              </a:rPr>
              <a:t>Etapas de la ESCRITURA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29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i="1" lang="en-US" sz="2900" spc="-1" strike="noStrike">
                <a:solidFill>
                  <a:srgbClr val="ffcc00"/>
                </a:solidFill>
                <a:latin typeface="Tahoma"/>
              </a:rPr>
              <a:t>I. PREESCRITURA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sarrollo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 una versión inicial 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del document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Asegurar que todas las ideas, dibujos, tablas, referencias, resultados del tema se considere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16000" y="260280"/>
          <a:ext cx="53172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280"/>
                    <a:ext cx="53172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516720" y="404640"/>
          <a:ext cx="189216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04640"/>
                    <a:ext cx="189216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564000" y="2781360"/>
            <a:ext cx="831960" cy="485640"/>
          </a:xfrm>
          <a:prstGeom prst="rightArrow">
            <a:avLst>
              <a:gd name="adj1" fmla="val 50000"/>
              <a:gd name="adj2" fmla="val 428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5-30T16:53:46Z</dcterms:modified>
  <cp:revision>26</cp:revision>
  <dc:subject/>
  <dc:title>Expresión Escrita</dc:title>
</cp:coreProperties>
</file>