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30D-E162-4C72-A521-9A5CC146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CFF-5632-4E17-8F1D-A79AA1DB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05E-F828-462B-A3D0-4D966B84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4E5-BB9B-4816-8B76-38F82E2F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190-14D4-4042-B484-4151BFF7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1B8-DC04-4BEE-AC4C-15970BA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485-8FE9-4E5F-B6F6-379EAB0A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A5D-D336-475C-82B0-96722177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0DF-E118-440C-BE60-954AD64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732-AED2-4DF7-896E-181D696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F77-AFF4-4333-BE8B-75776822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3DD-67EA-4C4C-86F3-C0425E34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2F3-41C3-4331-8628-3B4ABB40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 próx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min máx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ciones infor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ificaciones al diseño, costo total, c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 étic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os as built: correcciones con lápiz rojo de plano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entación de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989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bajo Grupal con Libro  - Capítulo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2924280"/>
            <a:ext cx="62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nder” el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501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7-04-26T13:08:58Z</dcterms:modified>
  <cp:revision>28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966081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.</vt:lpwstr>
  </property>
</Properties>
</file>