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5C5-0B4F-436E-9962-870B77D0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CA0-3596-4F58-8034-461005A0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9BC-2B41-449A-A349-8EBDC3EF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098-77F0-43F1-B471-4189F496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53C-62AB-4930-B1BA-445058A0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D18-B706-415D-A2C5-1229766E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E4A-9311-47D6-AF57-69CFDBD7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401-D442-4FC2-A9AC-6FA02096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F1B-5C75-4E98-885B-2C42D00D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C28-8F14-48A4-B9E8-07EC7AD0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5FE-FF9D-4E4D-ABE1-ED1A13B7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764-795D-4E1B-AA1D-E1F6A2C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F9EF-A1B6-4340-BE81-7815B81AC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 próx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min máx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cciones inform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ificaciones al diseño, costo total, c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 ético d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lanos as built: correcciones con lápiz rojo de plano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entación de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989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bajo Grupal con Libro  - Capítulo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71640" y="2924280"/>
            <a:ext cx="626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nder” el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501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7-04-26T13:08:58Z</dcterms:modified>
  <cp:revision>28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966081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.</vt:lpwstr>
  </property>
</Properties>
</file>