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493-6897-4342-832D-543FF932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950-2D15-4D4B-A860-A649D5B3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BDB-27C6-4018-813E-04247B10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EF4-7DE6-4A76-95D4-FE91AD92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19DE-88C9-49F0-A7DD-E376E94F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29E5-8E15-4DD6-BB34-F2B7A722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D63D-0F7E-41B9-812B-47A29C78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C948-0196-4C3E-90E0-B19933C6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1DDB-8FFB-4F8C-8047-64A2B16A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2CBF-F097-4BF4-A8C7-389954AE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1C80-BC8B-4CD5-BD86-C72E6D0D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3CF-44E6-4C96-BA8F-065B4FD4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1472-9BCE-4777-AC08-5CE39646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1687-6702-4E0B-B3E8-367D4BB0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F07A-632E-4DF7-B47F-459E4DDC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4C64-F215-4AA1-B6B2-CF41AD19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053B-54FB-4659-A49E-EE3C4B33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15D-4EC4-46B4-BCF0-12CFF38A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AB7-0D15-4F77-AAEC-0174A848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909-606B-43BB-8621-4B49938B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446-E3D9-4E67-A3AF-2578C06F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91D-D2C1-4FC4-97DD-AD786E7E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FAF-1BD1-45F8-BF82-ABFB7737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582-5480-437C-858E-77194705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79FD-C745-4A5F-B43D-BA512DBD7B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84EC-4BFA-4959-8A4C-B209812E7F0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09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30T16:35:23Z</dcterms:modified>
  <cp:revision>301</cp:revision>
  <dc:subject/>
  <dc:title>Reactor Agitado</dc:title>
</cp:coreProperties>
</file>