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253-F78C-426C-80D4-51A759F2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32A-73D1-4ED8-BA5A-F70E41D3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601-B71A-4307-81C4-0AC864BA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739-3683-429A-A6CD-53DCD368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8109-23DB-4792-8D96-0BAC4F22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E425-6689-41E8-A5C7-D2FB3BDD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735F-DE3E-4C93-9B20-30EA06AE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C29E-0485-47E7-9CE7-DE7533A6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8265-FBBB-44FE-AE84-D8BC549A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B6C9-5728-496A-BC3A-4DCBBA01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27AD-F8B7-41FE-BF68-9C6E64F3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D2C-2688-474E-8D09-D1004C17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4CC6-F013-47D3-851B-0D5D7968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A053-4A45-422A-8FE5-30B272C0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67E9-E0F4-4F5D-AD53-C370323D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33FC-FB3F-4A2D-8527-6A4928F5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AB6F-06F9-4C83-AA61-1486C8B4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57D-116A-47BE-A250-FAD98B87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05E-ECBE-4AEA-A098-90E4D1E8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5B6-C98B-4A28-88CA-0316817A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2B5-A61D-4831-B625-F22648E0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E57-8F3D-4079-9A21-C021DDB4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F80-C77C-4B1C-A427-992A46FC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FF9-F5F3-4BEF-913D-FCCF6114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8822-D9C1-4B1C-9E78-787993807E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23F3-EA27-4C90-B777-CA51379424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09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30T16:35:23Z</dcterms:modified>
  <cp:revision>301</cp:revision>
  <dc:subject/>
  <dc:title>Reactor Agitado</dc:title>
</cp:coreProperties>
</file>