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FACD-A422-41F3-BD36-05A0470A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63C-D805-4D82-9F96-83C6FF79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4E2-E1BD-4BB1-A3C7-C02E9F73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C9FF-4C67-46DC-BBA5-D2AEEC6E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1C34-7792-46A1-83BB-4FCB3918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2933-4BBD-411E-97AF-DF9682FA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8580-90BF-4D9C-B05D-A0524B68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E4A2-D2B8-4283-811E-2FEC837F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8E61-1BA5-4431-8E76-24424C24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B5C4-AED3-445A-81D2-035C6CB7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B83F-13D7-4FC3-9E13-CE2F8C70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B472-A497-421A-AE10-BEA5F7D9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175A-C222-4759-8668-9AC789D5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A586-1650-4C9A-8901-E35E6325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FDB7-373E-4B35-A495-D05C3C33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C76E-D89E-4DE1-A5F8-9F6A0C51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8D84-5070-40F6-BD41-77076392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6CE-4DE3-4F61-B49B-85851C4E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8BE-9052-4C64-8FC6-BD0EC991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24A-58B4-4D83-9DB8-8290982F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FAD-AE51-40FA-B663-F0382F37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9F8-F4A9-41BA-9976-4204E999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F362-1F24-4C77-9DA0-C028A33D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341-A1A7-47B3-A9F3-2E8ADC00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2B87-E095-4886-9632-B66C922AEDB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4D53-FA81-4308-80CB-C60BE88650C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7636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16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b7c1eb"/>
                </a:solidFill>
                <a:latin typeface="Tahoma"/>
              </a:rPr>
              <a:t>  </a:t>
            </a:r>
            <a:r>
              <a:rPr b="1" i="1" lang="es-ES" sz="1400" spc="-1" strike="noStrike">
                <a:solidFill>
                  <a:srgbClr val="b7c1eb"/>
                </a:solidFill>
                <a:latin typeface="Tahoma"/>
              </a:rPr>
              <a:t>Escuela de Ingeniería y Ciencias- Universidad de Chile          EI1101- Introducción a la Ingenierí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072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Diseño y construcción de un puente 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649440" y="1557360"/>
            <a:ext cx="7777080" cy="3287520"/>
            <a:chOff x="649440" y="1557360"/>
            <a:chExt cx="7777080" cy="3287520"/>
          </a:xfrm>
        </p:grpSpPr>
        <p:sp>
          <p:nvSpPr>
            <p:cNvPr id="317" name=""/>
            <p:cNvSpPr/>
            <p:nvPr/>
          </p:nvSpPr>
          <p:spPr>
            <a:xfrm>
              <a:off x="649440" y="1557360"/>
              <a:ext cx="777708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</a:rPr>
                <a:t>ETAPA A: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9440" y="2468520"/>
              <a:ext cx="655308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ahoma"/>
                </a:rPr>
                <a:t>Madera: palitos de Brochet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ahoma"/>
                </a:rPr>
                <a:t>Papel: tubos de media hoja oficio 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ø ≈ 1 c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Carton: Perfil “L” de 1 c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9440" y="2013120"/>
              <a:ext cx="655308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ahoma"/>
                </a:rPr>
                <a:t>Descrip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2520" y="2468520"/>
              <a:ext cx="122400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2,5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0,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1,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02520" y="2013120"/>
              <a:ext cx="122400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ahoma"/>
                </a:rPr>
                <a:t>Cost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9440" y="155736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9440" y="484488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9440" y="1557360"/>
              <a:ext cx="0" cy="32875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426520" y="1557360"/>
              <a:ext cx="0" cy="32875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440" y="246852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9440" y="2013120"/>
              <a:ext cx="777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02520" y="2013120"/>
              <a:ext cx="0" cy="28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216000" y="1341360"/>
            <a:ext cx="8642160" cy="3888000"/>
            <a:chOff x="216000" y="1341360"/>
            <a:chExt cx="8642160" cy="3888000"/>
          </a:xfrm>
        </p:grpSpPr>
        <p:sp>
          <p:nvSpPr>
            <p:cNvPr id="332" name=""/>
            <p:cNvSpPr/>
            <p:nvPr/>
          </p:nvSpPr>
          <p:spPr>
            <a:xfrm>
              <a:off x="216000" y="1989000"/>
              <a:ext cx="8642160" cy="32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6000" y="1341360"/>
              <a:ext cx="864216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Pape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6000" y="5229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6000" y="1341360"/>
              <a:ext cx="0" cy="3888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858160" y="1341360"/>
              <a:ext cx="0" cy="3888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6000" y="19890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944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5744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81440" y="2852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½ Hoja Ofi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5297000">
            <a:off x="6102000" y="2207520"/>
            <a:ext cx="647640" cy="3095640"/>
          </a:xfrm>
          <a:prstGeom prst="can">
            <a:avLst>
              <a:gd name="adj" fmla="val 10736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968360" y="3428640"/>
            <a:ext cx="73080" cy="36036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5184360" y="4436640"/>
            <a:ext cx="73080" cy="360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9440" y="400536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ø ≈ 1 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216000" y="1341360"/>
            <a:ext cx="8642160" cy="4248360"/>
            <a:chOff x="216000" y="1341360"/>
            <a:chExt cx="8642160" cy="4248360"/>
          </a:xfrm>
        </p:grpSpPr>
        <p:sp>
          <p:nvSpPr>
            <p:cNvPr id="349" name=""/>
            <p:cNvSpPr/>
            <p:nvPr/>
          </p:nvSpPr>
          <p:spPr>
            <a:xfrm>
              <a:off x="216000" y="1797120"/>
              <a:ext cx="864216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Carto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6000" y="55897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6000" y="1341360"/>
              <a:ext cx="0" cy="4248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858160" y="1341360"/>
              <a:ext cx="0" cy="4248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57440" y="2421000"/>
            <a:ext cx="86364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28720" y="5157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2 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089080" y="2421000"/>
            <a:ext cx="0" cy="244800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57440" y="5013360"/>
            <a:ext cx="86364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032360" y="2565000"/>
            <a:ext cx="2086920" cy="2160720"/>
            <a:chOff x="4032360" y="2565000"/>
            <a:chExt cx="2086920" cy="2160720"/>
          </a:xfrm>
        </p:grpSpPr>
        <p:sp>
          <p:nvSpPr>
            <p:cNvPr id="362" name=""/>
            <p:cNvSpPr/>
            <p:nvPr/>
          </p:nvSpPr>
          <p:spPr>
            <a:xfrm>
              <a:off x="4032360" y="2957040"/>
              <a:ext cx="2086920" cy="1768680"/>
            </a:xfrm>
            <a:prstGeom prst="parallelogram">
              <a:avLst>
                <a:gd name="adj" fmla="val 93892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 rot="16200000">
              <a:off x="4215600" y="2821320"/>
              <a:ext cx="2160360" cy="1646640"/>
            </a:xfrm>
            <a:prstGeom prst="parallelogram">
              <a:avLst>
                <a:gd name="adj" fmla="val 106872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16000" y="1341360"/>
            <a:ext cx="8642160" cy="3959280"/>
            <a:chOff x="216000" y="1341360"/>
            <a:chExt cx="8642160" cy="3959280"/>
          </a:xfrm>
        </p:grpSpPr>
        <p:sp>
          <p:nvSpPr>
            <p:cNvPr id="366" name=""/>
            <p:cNvSpPr/>
            <p:nvPr/>
          </p:nvSpPr>
          <p:spPr>
            <a:xfrm>
              <a:off x="216000" y="1989000"/>
              <a:ext cx="864216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6000" y="1341360"/>
              <a:ext cx="864216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Mader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6000" y="530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6000" y="1341360"/>
              <a:ext cx="0" cy="3959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858160" y="1341360"/>
              <a:ext cx="0" cy="3959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6000" y="19890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5297000">
            <a:off x="4191840" y="400680"/>
            <a:ext cx="644400" cy="6701040"/>
          </a:xfrm>
          <a:prstGeom prst="can">
            <a:avLst>
              <a:gd name="adj" fmla="val 10736"/>
            </a:avLst>
          </a:prstGeom>
          <a:solidFill>
            <a:srgbClr val="cc99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65800" y="42926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Palito de Boche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77" name=""/>
          <p:cNvGrpSpPr/>
          <p:nvPr/>
        </p:nvGrpSpPr>
        <p:grpSpPr>
          <a:xfrm>
            <a:off x="216000" y="1341360"/>
            <a:ext cx="8642160" cy="4392720"/>
            <a:chOff x="216000" y="1341360"/>
            <a:chExt cx="8642160" cy="4392720"/>
          </a:xfrm>
        </p:grpSpPr>
        <p:sp>
          <p:nvSpPr>
            <p:cNvPr id="378" name=""/>
            <p:cNvSpPr/>
            <p:nvPr/>
          </p:nvSpPr>
          <p:spPr>
            <a:xfrm>
              <a:off x="216000" y="1797120"/>
              <a:ext cx="8642160" cy="39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Tra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00" y="573408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6000" y="1341360"/>
              <a:ext cx="0" cy="4392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58160" y="1341360"/>
              <a:ext cx="0" cy="4392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736720" y="2565360"/>
            <a:ext cx="3024000" cy="2879280"/>
            <a:chOff x="2736720" y="2565360"/>
            <a:chExt cx="3024000" cy="2879280"/>
          </a:xfrm>
        </p:grpSpPr>
        <p:sp>
          <p:nvSpPr>
            <p:cNvPr id="387" name=""/>
            <p:cNvSpPr/>
            <p:nvPr/>
          </p:nvSpPr>
          <p:spPr>
            <a:xfrm>
              <a:off x="4110480" y="2735280"/>
              <a:ext cx="183600" cy="21171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2918520" y="2565360"/>
              <a:ext cx="2108520" cy="169560"/>
              <a:chOff x="2918520" y="2565360"/>
              <a:chExt cx="2108520" cy="169560"/>
            </a:xfrm>
          </p:grpSpPr>
          <p:sp>
            <p:nvSpPr>
              <p:cNvPr id="389" name=""/>
              <p:cNvSpPr/>
              <p:nvPr/>
            </p:nvSpPr>
            <p:spPr>
              <a:xfrm>
                <a:off x="2918520" y="2734920"/>
                <a:ext cx="21085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2919960" y="2565360"/>
                <a:ext cx="2103840" cy="169560"/>
                <a:chOff x="2919960" y="2565360"/>
                <a:chExt cx="2103840" cy="169560"/>
              </a:xfrm>
            </p:grpSpPr>
            <p:sp>
              <p:nvSpPr>
                <p:cNvPr id="391" name=""/>
                <p:cNvSpPr/>
                <p:nvPr/>
              </p:nvSpPr>
              <p:spPr>
                <a:xfrm flipH="1">
                  <a:off x="291996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>
                  <a:off x="319428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347076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37458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40165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>
                  <a:off x="42912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>
                  <a:off x="456804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>
                  <a:off x="484272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9" name=""/>
            <p:cNvSpPr/>
            <p:nvPr/>
          </p:nvSpPr>
          <p:spPr>
            <a:xfrm>
              <a:off x="4203360" y="476676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835440" y="2734920"/>
              <a:ext cx="0" cy="21171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36720" y="3666960"/>
              <a:ext cx="12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19040" y="4852800"/>
              <a:ext cx="128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77680" y="2989080"/>
              <a:ext cx="128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04" name=""/>
            <p:cNvCxnSpPr>
              <a:stCxn id="387" idx="3"/>
              <a:endCxn id="403" idx="2"/>
            </p:cNvCxnSpPr>
            <p:nvPr/>
          </p:nvCxnSpPr>
          <p:spPr>
            <a:xfrm flipV="1">
              <a:off x="4293720" y="3420000"/>
              <a:ext cx="826920" cy="374040"/>
            </a:xfrm>
            <a:prstGeom prst="curvedConnector2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406" name=""/>
          <p:cNvGrpSpPr/>
          <p:nvPr/>
        </p:nvGrpSpPr>
        <p:grpSpPr>
          <a:xfrm>
            <a:off x="216000" y="1341360"/>
            <a:ext cx="8642160" cy="4680000"/>
            <a:chOff x="216000" y="1341360"/>
            <a:chExt cx="8642160" cy="4680000"/>
          </a:xfrm>
        </p:grpSpPr>
        <p:sp>
          <p:nvSpPr>
            <p:cNvPr id="407" name=""/>
            <p:cNvSpPr/>
            <p:nvPr/>
          </p:nvSpPr>
          <p:spPr>
            <a:xfrm>
              <a:off x="216000" y="1797120"/>
              <a:ext cx="8642160" cy="42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Compres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6000" y="602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6000" y="1341360"/>
              <a:ext cx="0" cy="4680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858160" y="1341360"/>
              <a:ext cx="0" cy="4680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665440" y="2205000"/>
            <a:ext cx="3514680" cy="2933640"/>
            <a:chOff x="2665440" y="2205000"/>
            <a:chExt cx="3514680" cy="2933640"/>
          </a:xfrm>
        </p:grpSpPr>
        <p:sp>
          <p:nvSpPr>
            <p:cNvPr id="416" name=""/>
            <p:cNvSpPr/>
            <p:nvPr/>
          </p:nvSpPr>
          <p:spPr>
            <a:xfrm>
              <a:off x="4551480" y="220500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0800000">
              <a:off x="4478040" y="2852640"/>
              <a:ext cx="183960" cy="2117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3744720" y="4969080"/>
              <a:ext cx="2108160" cy="169560"/>
              <a:chOff x="3744720" y="4969080"/>
              <a:chExt cx="2108160" cy="16956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3744720" y="4969080"/>
                <a:ext cx="210816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3747960" y="4969080"/>
                <a:ext cx="2103480" cy="169560"/>
                <a:chOff x="3747960" y="4969080"/>
                <a:chExt cx="2103480" cy="169560"/>
              </a:xfrm>
            </p:grpSpPr>
            <p:sp>
              <p:nvSpPr>
                <p:cNvPr id="421" name=""/>
                <p:cNvSpPr/>
                <p:nvPr/>
              </p:nvSpPr>
              <p:spPr>
                <a:xfrm flipV="1">
                  <a:off x="567036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53953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51188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48441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45734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V="1">
                  <a:off x="429840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40219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374796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9" name=""/>
            <p:cNvSpPr/>
            <p:nvPr/>
          </p:nvSpPr>
          <p:spPr>
            <a:xfrm>
              <a:off x="4937040" y="2852640"/>
              <a:ext cx="0" cy="2117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97440" y="3858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78400" y="234936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65440" y="4074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33" name=""/>
            <p:cNvCxnSpPr>
              <a:stCxn id="417" idx="3"/>
              <a:endCxn id="432" idx="0"/>
            </p:cNvCxnSpPr>
            <p:nvPr/>
          </p:nvCxnSpPr>
          <p:spPr>
            <a:xfrm flipV="1" rot="10800000">
              <a:off x="3305880" y="3911040"/>
              <a:ext cx="1172520" cy="164160"/>
            </a:xfrm>
            <a:prstGeom prst="curvedConnector2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435" name=""/>
          <p:cNvGrpSpPr/>
          <p:nvPr/>
        </p:nvGrpSpPr>
        <p:grpSpPr>
          <a:xfrm>
            <a:off x="216000" y="1341360"/>
            <a:ext cx="8642160" cy="4062600"/>
            <a:chOff x="216000" y="1341360"/>
            <a:chExt cx="8642160" cy="4062600"/>
          </a:xfrm>
        </p:grpSpPr>
        <p:sp>
          <p:nvSpPr>
            <p:cNvPr id="436" name=""/>
            <p:cNvSpPr/>
            <p:nvPr/>
          </p:nvSpPr>
          <p:spPr>
            <a:xfrm>
              <a:off x="216000" y="2060640"/>
              <a:ext cx="8642160" cy="33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Moment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6000" y="54039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6000" y="1341360"/>
              <a:ext cx="0" cy="406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58160" y="1341360"/>
              <a:ext cx="0" cy="406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757600" y="2133720"/>
            <a:ext cx="3422520" cy="2338200"/>
            <a:chOff x="2757600" y="2133720"/>
            <a:chExt cx="3422520" cy="2338200"/>
          </a:xfrm>
        </p:grpSpPr>
        <p:sp>
          <p:nvSpPr>
            <p:cNvPr id="445" name=""/>
            <p:cNvSpPr/>
            <p:nvPr/>
          </p:nvSpPr>
          <p:spPr>
            <a:xfrm>
              <a:off x="5081760" y="320040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4106880" y="1919160"/>
              <a:ext cx="187200" cy="25462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927520" y="2363760"/>
              <a:ext cx="0" cy="21081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57600" y="4286160"/>
              <a:ext cx="169920" cy="182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57600" y="40118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57600" y="373536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57600" y="346068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57600" y="31892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57600" y="2914560"/>
              <a:ext cx="169920" cy="182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57600" y="26384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57600" y="236376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2927520" y="3557160"/>
              <a:ext cx="2117520" cy="1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68720" y="364500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97440" y="328608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00360" y="21337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0" name=""/>
            <p:cNvCxnSpPr>
              <a:stCxn id="446" idx="3"/>
              <a:endCxn id="459" idx="2"/>
            </p:cNvCxnSpPr>
            <p:nvPr/>
          </p:nvCxnSpPr>
          <p:spPr>
            <a:xfrm flipH="1" flipV="1" rot="5400000">
              <a:off x="3921120" y="2778480"/>
              <a:ext cx="599400" cy="41760"/>
            </a:xfrm>
            <a:prstGeom prst="curvedConnector5">
              <a:avLst>
                <a:gd name="adj1" fmla="val 49819"/>
                <a:gd name="adj2" fmla="val 49565"/>
                <a:gd name="adj3" fmla="val 49819"/>
              </a:avLst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433440" y="189000"/>
            <a:ext cx="7988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Actividad Artefacto Misterioso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38080" y="2133720"/>
            <a:ext cx="720108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ada Grupo observará 3 artefactos y elegirá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asta el Jueves a las 12:00 pueden poner en el foro 3 pregunta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óxima semana informe con su investigación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14400" y="1828800"/>
            <a:ext cx="7201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¿Cómo funciona el artefacto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¿Para que se utiliza 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ff"/>
                </a:solidFill>
                <a:latin typeface="Times New Roman"/>
              </a:rPr>
              <a:t>¿Cuál podría ser su nombre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304920" y="1600200"/>
            <a:ext cx="8076600" cy="2057040"/>
            <a:chOff x="304920" y="1600200"/>
            <a:chExt cx="8076600" cy="2057040"/>
          </a:xfrm>
        </p:grpSpPr>
        <p:sp>
          <p:nvSpPr>
            <p:cNvPr id="466" name=""/>
            <p:cNvSpPr/>
            <p:nvPr/>
          </p:nvSpPr>
          <p:spPr>
            <a:xfrm>
              <a:off x="7954560" y="3143160"/>
              <a:ext cx="426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38040" y="31431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121160" y="31431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02840" y="314316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62200" y="3143160"/>
              <a:ext cx="4406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21200" y="3143160"/>
              <a:ext cx="4410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78760" y="314316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34520" y="3143160"/>
              <a:ext cx="4438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91720" y="314316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75200" y="31431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61920" y="314316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5400" y="3143160"/>
              <a:ext cx="4161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28880" y="31431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410560" y="314316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97280" y="314316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92200" y="3143160"/>
              <a:ext cx="5047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4920" y="3143160"/>
              <a:ext cx="11872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er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954560" y="2628720"/>
              <a:ext cx="426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38040" y="26287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21160" y="26287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02840" y="262872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62200" y="2628720"/>
              <a:ext cx="440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1200" y="2628720"/>
              <a:ext cx="441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78760" y="262872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934520" y="2628720"/>
              <a:ext cx="443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91720" y="262872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075200" y="26287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61920" y="262872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45400" y="2628720"/>
              <a:ext cx="4161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28880" y="26287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10560" y="262872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97280" y="262872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92200" y="2628720"/>
              <a:ext cx="504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4920" y="2628720"/>
              <a:ext cx="1187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do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54560" y="2114640"/>
              <a:ext cx="426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538040" y="211464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21160" y="211464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02840" y="211464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62200" y="2114640"/>
              <a:ext cx="4406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21200" y="2114640"/>
              <a:ext cx="4410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78760" y="211464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34520" y="2114640"/>
              <a:ext cx="4438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91720" y="211464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75200" y="211464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61920" y="211464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45400" y="2114640"/>
              <a:ext cx="4161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28880" y="211464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10560" y="211464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97280" y="211464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92200" y="2114640"/>
              <a:ext cx="5047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4920" y="2114640"/>
              <a:ext cx="11872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er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54560" y="1600200"/>
              <a:ext cx="426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38040" y="160020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121160" y="160020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02840" y="160020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62200" y="1600200"/>
              <a:ext cx="440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21200" y="1600200"/>
              <a:ext cx="441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78760" y="160020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34520" y="1600200"/>
              <a:ext cx="443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91720" y="160020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75200" y="160020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1920" y="160020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45400" y="1600200"/>
              <a:ext cx="4161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28880" y="160020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410560" y="160020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97280" y="160020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92200" y="1600200"/>
              <a:ext cx="504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4920" y="1600200"/>
              <a:ext cx="1187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Grupos </a:t>
              </a: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→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4920" y="160020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4920" y="365724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49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3815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4920" y="211464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922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99728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1056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82888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454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6619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752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917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345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7876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8212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622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0284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2116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53804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56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4920" y="262872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920" y="314316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04920" y="3962520"/>
            <a:ext cx="8076600" cy="2057040"/>
            <a:chOff x="304920" y="3962520"/>
            <a:chExt cx="8076600" cy="2057040"/>
          </a:xfrm>
        </p:grpSpPr>
        <p:sp>
          <p:nvSpPr>
            <p:cNvPr id="558" name=""/>
            <p:cNvSpPr/>
            <p:nvPr/>
          </p:nvSpPr>
          <p:spPr>
            <a:xfrm>
              <a:off x="7954560" y="5505480"/>
              <a:ext cx="426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538040" y="550548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121160" y="550548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02840" y="550548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62200" y="5505480"/>
              <a:ext cx="4406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821200" y="5505480"/>
              <a:ext cx="4410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78760" y="550548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934520" y="5505480"/>
              <a:ext cx="4438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91720" y="550548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75200" y="550548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61920" y="550548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45400" y="5505480"/>
              <a:ext cx="4161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28880" y="550548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410560" y="550548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997280" y="550548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492200" y="5505480"/>
              <a:ext cx="5047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4920" y="5505480"/>
              <a:ext cx="11872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er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954560" y="4991040"/>
              <a:ext cx="426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538040" y="499104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21160" y="499104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2840" y="499104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62200" y="4991040"/>
              <a:ext cx="440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821200" y="4991040"/>
              <a:ext cx="441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378760" y="499104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934520" y="4991040"/>
              <a:ext cx="443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491720" y="499104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75200" y="499104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661920" y="499104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45400" y="4991040"/>
              <a:ext cx="4161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28880" y="499104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10560" y="499104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97280" y="499104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492200" y="4991040"/>
              <a:ext cx="504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920" y="4991040"/>
              <a:ext cx="1187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do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954560" y="4476960"/>
              <a:ext cx="426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38040" y="44769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21160" y="44769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02840" y="447696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62200" y="4476960"/>
              <a:ext cx="4406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821200" y="4476960"/>
              <a:ext cx="4410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78760" y="447696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934520" y="4476960"/>
              <a:ext cx="4438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91720" y="447696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75200" y="44769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61920" y="447696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45400" y="4476960"/>
              <a:ext cx="4161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28880" y="44769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10560" y="447696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97280" y="447696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92200" y="4476960"/>
              <a:ext cx="5047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4920" y="4476960"/>
              <a:ext cx="11872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er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954560" y="3962520"/>
              <a:ext cx="426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38040" y="39625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21160" y="39625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02840" y="396252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62200" y="3962520"/>
              <a:ext cx="440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21200" y="3962520"/>
              <a:ext cx="441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78760" y="396252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34520" y="3962520"/>
              <a:ext cx="443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91720" y="396252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075200" y="39625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61920" y="396252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45400" y="3962520"/>
              <a:ext cx="4161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828880" y="39625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10560" y="396252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97280" y="396252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492200" y="3962520"/>
              <a:ext cx="504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04920" y="3962520"/>
              <a:ext cx="1187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Grupos </a:t>
              </a: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→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04920" y="396252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04920" y="601956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049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3815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4920" y="447696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922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99728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41056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2888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454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619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0752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917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9345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7876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8212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2622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0284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2116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3804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95456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04920" y="499104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4920" y="550548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1601640" y="4572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7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58840" y="4572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01640" y="5105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058840" y="5105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7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01640" y="5562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058840" y="5562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7636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1905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89280" y="4627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36640" y="44751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4038480"/>
            <a:ext cx="4752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ordinador de Equi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cargado de Seguridad / Material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cretari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ocero - Comunicador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stigador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494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433440" y="1628640"/>
            <a:ext cx="8280000" cy="4321440"/>
            <a:chOff x="433440" y="1628640"/>
            <a:chExt cx="8280000" cy="4321440"/>
          </a:xfrm>
        </p:grpSpPr>
        <p:sp>
          <p:nvSpPr>
            <p:cNvPr id="220" name=""/>
            <p:cNvSpPr/>
            <p:nvPr/>
          </p:nvSpPr>
          <p:spPr>
            <a:xfrm>
              <a:off x="433440" y="3668760"/>
              <a:ext cx="828000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anejo de conceptos de ensayes y evaluación de material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plicar estimación de costos al diseño de un puente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Diseñar una estructura auto soportante que cumpla con las solicitaciones dada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Desarrollo de planos que permitan la constru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struir el puente y probarl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3440" y="3213000"/>
              <a:ext cx="828000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OBJETIVOS ESPECÍFIC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3440" y="2084400"/>
              <a:ext cx="82800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Introducir al alumno al diseño y trabajo en proyectos, planteando un desafío concreto con restricciones real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3440" y="1628640"/>
              <a:ext cx="828000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OBJETIVO GENER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3440" y="162864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3440" y="595008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3440" y="1628640"/>
              <a:ext cx="0" cy="45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713440" y="1628640"/>
              <a:ext cx="0" cy="45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3440" y="208440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3440" y="2084400"/>
              <a:ext cx="0" cy="3865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713440" y="2084400"/>
              <a:ext cx="0" cy="3865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3440" y="321300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3440" y="366876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494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16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7c1eb"/>
                </a:solidFill>
                <a:latin typeface="Tahoma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944720" y="2060640"/>
            <a:ext cx="5904000" cy="2808000"/>
            <a:chOff x="1944720" y="2060640"/>
            <a:chExt cx="5904000" cy="2808000"/>
          </a:xfrm>
        </p:grpSpPr>
        <p:sp>
          <p:nvSpPr>
            <p:cNvPr id="237" name=""/>
            <p:cNvSpPr/>
            <p:nvPr/>
          </p:nvSpPr>
          <p:spPr>
            <a:xfrm>
              <a:off x="1944720" y="2840040"/>
              <a:ext cx="5904000" cy="20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B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Constru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44720" y="2060640"/>
              <a:ext cx="5904000" cy="77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ETAPA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4720" y="20606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44720" y="48686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44720" y="2060640"/>
              <a:ext cx="0" cy="77940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48720" y="2060640"/>
              <a:ext cx="0" cy="77940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44720" y="28400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44720" y="2840040"/>
              <a:ext cx="0" cy="2028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48720" y="2840040"/>
              <a:ext cx="0" cy="2028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4944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216000" y="1511280"/>
            <a:ext cx="8713800" cy="4581360"/>
            <a:chOff x="216000" y="1511280"/>
            <a:chExt cx="8713800" cy="4581360"/>
          </a:xfrm>
        </p:grpSpPr>
        <p:sp>
          <p:nvSpPr>
            <p:cNvPr id="249" name=""/>
            <p:cNvSpPr/>
            <p:nvPr/>
          </p:nvSpPr>
          <p:spPr>
            <a:xfrm>
              <a:off x="1217520" y="563724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ntrega Informe Final- Presentacion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6000" y="563724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17520" y="518148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C:  Diseño definitivo –Pruebas – Planos “As built”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6000" y="518148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7520" y="472572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C:  Correcciones a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6000" y="472572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17520" y="427032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B:  Confección de Plan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6000" y="427032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17520" y="381456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B:  Definición de Planos – Pruebas prelimina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6000" y="381456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17520" y="335916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ana Mechon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6000" y="335916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7520" y="290340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A : Ensaye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6000" y="290340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17520" y="244764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ana pre-echon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000" y="244764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7520" y="1966680"/>
              <a:ext cx="771228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átedra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6000" y="1966680"/>
              <a:ext cx="10015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6000" y="1511280"/>
              <a:ext cx="871380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CTIVIDAD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6000" y="15112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6000" y="60926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6000" y="1511280"/>
              <a:ext cx="0" cy="4581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29800" y="1511280"/>
              <a:ext cx="0" cy="4581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6000" y="19666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6000" y="24476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17520" y="1966680"/>
              <a:ext cx="0" cy="412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000" y="29034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6000" y="33591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6000" y="38145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6000" y="42703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6000" y="47257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6000" y="51814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6000" y="56372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216000" y="1341360"/>
            <a:ext cx="8642160" cy="4753080"/>
            <a:chOff x="216000" y="1341360"/>
            <a:chExt cx="8642160" cy="4753080"/>
          </a:xfrm>
        </p:grpSpPr>
        <p:sp>
          <p:nvSpPr>
            <p:cNvPr id="284" name=""/>
            <p:cNvSpPr/>
            <p:nvPr/>
          </p:nvSpPr>
          <p:spPr>
            <a:xfrm>
              <a:off x="216000" y="2060640"/>
              <a:ext cx="8642160" cy="40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l puente debe: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oportar una carga móvil (carrito tirado por una cuerda) de 3[Kgr]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ener una luz de 35 [cm], con una altura libre mínima de 10 [cm] a lo largo de toda la luz, y un ancho mínimo de 15 [cms] para que pase el carr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tar con rampas de acceso.(pueden estar aparte de la estructura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inimizar los costos.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u tamaño (o el de sus partes) debe ser menor a la de los casilleros (45x43x22 cms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SPECIFICACIONES DE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6000" y="60944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600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85816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1368360" y="1773360"/>
            <a:ext cx="6265800" cy="3192480"/>
            <a:chOff x="1368360" y="1773360"/>
            <a:chExt cx="6265800" cy="3192480"/>
          </a:xfrm>
        </p:grpSpPr>
        <p:sp>
          <p:nvSpPr>
            <p:cNvPr id="294" name=""/>
            <p:cNvSpPr/>
            <p:nvPr/>
          </p:nvSpPr>
          <p:spPr>
            <a:xfrm>
              <a:off x="1368360" y="2594160"/>
              <a:ext cx="626580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guir indicaciones de Profesor, ayudant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Utilizar implementos de Seguridad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rabajar en forma Responsabl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68360" y="1773360"/>
              <a:ext cx="6265800" cy="820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NORMAS DE TRABAJO EN LABORATORI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68360" y="177336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68360" y="496584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68360" y="1773360"/>
              <a:ext cx="0" cy="3192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34160" y="1773360"/>
              <a:ext cx="0" cy="3192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68360" y="259416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152360" y="1341360"/>
            <a:ext cx="66963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216000" y="1341360"/>
            <a:ext cx="8642160" cy="4523040"/>
            <a:chOff x="216000" y="1341360"/>
            <a:chExt cx="8642160" cy="4523040"/>
          </a:xfrm>
        </p:grpSpPr>
        <p:sp>
          <p:nvSpPr>
            <p:cNvPr id="307" name=""/>
            <p:cNvSpPr/>
            <p:nvPr/>
          </p:nvSpPr>
          <p:spPr>
            <a:xfrm>
              <a:off x="216000" y="1824120"/>
              <a:ext cx="8642160" cy="40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xisten 3 materiales disponibles: Madera (palitos), papel (tubos), cartón (perfiles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n clase de Taller, se deben realizar los ensayes de: tracción, compresión y torsión, determinando el valor límite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La siguiente clase se debe entregar un informe que contenga la forma en que se a realizaron las pruebas, sus resultados y el material escogido, considerando los resultados de las pruebas y costos de cada un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6000" y="1341360"/>
              <a:ext cx="8642160" cy="482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6000" y="58644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6000" y="1341360"/>
              <a:ext cx="0" cy="4523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858160" y="1341360"/>
              <a:ext cx="0" cy="4523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6000" y="1824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cp:lastPrinted>2007-03-14T15:16:13Z</cp:lastPrinted>
  <dcterms:modified xsi:type="dcterms:W3CDTF">2007-03-14T16:19:14Z</dcterms:modified>
  <cp:revision>300</cp:revision>
  <dc:subject/>
  <dc:title>Reactor Agitado</dc:title>
</cp:coreProperties>
</file>