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D61-0EDD-45A0-B164-1FE72872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BC9-C2C8-4180-86B0-B8F06230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E7B-14A7-4DC7-8300-707E0F19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FF5-BE83-44A1-95B2-0598892C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8A7D-8FCC-4F27-B775-5481078D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A502-5645-46D6-A776-5352D2F2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0113-2F6A-449A-A06E-8167E35F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2107-9406-49A4-ABC9-968D9C88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0FDB-1E87-4D10-B61A-CD6F4B4E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5110-2152-42DA-97EF-7FC4FFFD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35F5-5A93-482B-B1E3-F2CD62A9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2DC-D322-4EDA-8953-6477135A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364F-3FAF-4054-BAFC-343A08A6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EAB2-12EF-4E89-90A0-65CAE787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E025-C555-4D06-B870-0F22B4CC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ADF5-592E-4B3D-8B8B-1719F7CF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B93F-A817-47E0-9DEC-D45B6AAD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5EA-A8D5-452B-B81E-DCA661F3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CE1-5AB4-4930-8AA9-1C08B4FD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DEB-437A-4D36-9BE2-78C0174C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FD6-FA41-4C93-A8E2-182869A9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4BB-B8C9-433D-8DDE-27766A99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A55-3579-48BE-A88C-6EB8167C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C8C-708D-4F19-98B5-33B18921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21FF-ADDA-4FD7-B24B-309AF11D2CC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FD67-5ED9-4DCE-AD98-A32EFE42299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  </a:t>
            </a: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07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649440" y="1557360"/>
            <a:ext cx="7777080" cy="3287520"/>
            <a:chOff x="649440" y="1557360"/>
            <a:chExt cx="7777080" cy="3287520"/>
          </a:xfrm>
        </p:grpSpPr>
        <p:sp>
          <p:nvSpPr>
            <p:cNvPr id="317" name=""/>
            <p:cNvSpPr/>
            <p:nvPr/>
          </p:nvSpPr>
          <p:spPr>
            <a:xfrm>
              <a:off x="649440" y="1557360"/>
              <a:ext cx="777708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9440" y="2468520"/>
              <a:ext cx="65530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Madera: palitos de Broche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Papel: tubos de media hoja oficio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ø ≈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arton: Perfil “L” de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9440" y="2013120"/>
              <a:ext cx="655308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Descrip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2520" y="2468520"/>
              <a:ext cx="12240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,5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0,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,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2520" y="2013120"/>
              <a:ext cx="12240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Cos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9440" y="155736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9440" y="484488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944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2652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440" y="246852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9440" y="2013120"/>
              <a:ext cx="77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2520" y="2013120"/>
              <a:ext cx="0" cy="28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16000" y="1341360"/>
            <a:ext cx="8642160" cy="3888000"/>
            <a:chOff x="216000" y="1341360"/>
            <a:chExt cx="8642160" cy="3888000"/>
          </a:xfrm>
        </p:grpSpPr>
        <p:sp>
          <p:nvSpPr>
            <p:cNvPr id="332" name=""/>
            <p:cNvSpPr/>
            <p:nvPr/>
          </p:nvSpPr>
          <p:spPr>
            <a:xfrm>
              <a:off x="216000" y="1989000"/>
              <a:ext cx="864216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Pape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6000" y="5229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00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85816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9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57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81440" y="285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½ Hoja Ofi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5297000">
            <a:off x="610200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968360" y="3428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5184360" y="4436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9440" y="40053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ø ≈ 1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6000" y="1341360"/>
            <a:ext cx="8642160" cy="4248360"/>
            <a:chOff x="216000" y="1341360"/>
            <a:chExt cx="8642160" cy="4248360"/>
          </a:xfrm>
        </p:grpSpPr>
        <p:sp>
          <p:nvSpPr>
            <p:cNvPr id="349" name=""/>
            <p:cNvSpPr/>
            <p:nvPr/>
          </p:nvSpPr>
          <p:spPr>
            <a:xfrm>
              <a:off x="216000" y="1797120"/>
              <a:ext cx="864216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Carto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6000" y="55897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00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5816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744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28720" y="5157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089080" y="2421000"/>
            <a:ext cx="0" cy="24480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7440" y="5013360"/>
            <a:ext cx="863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032360" y="2565000"/>
            <a:ext cx="2086920" cy="2160720"/>
            <a:chOff x="4032360" y="2565000"/>
            <a:chExt cx="2086920" cy="2160720"/>
          </a:xfrm>
        </p:grpSpPr>
        <p:sp>
          <p:nvSpPr>
            <p:cNvPr id="362" name=""/>
            <p:cNvSpPr/>
            <p:nvPr/>
          </p:nvSpPr>
          <p:spPr>
            <a:xfrm>
              <a:off x="403236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6200000">
              <a:off x="421560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16000" y="1341360"/>
            <a:ext cx="8642160" cy="3959280"/>
            <a:chOff x="216000" y="1341360"/>
            <a:chExt cx="8642160" cy="3959280"/>
          </a:xfrm>
        </p:grpSpPr>
        <p:sp>
          <p:nvSpPr>
            <p:cNvPr id="366" name=""/>
            <p:cNvSpPr/>
            <p:nvPr/>
          </p:nvSpPr>
          <p:spPr>
            <a:xfrm>
              <a:off x="216000" y="1989000"/>
              <a:ext cx="864216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Mader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6000" y="530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600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5816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5297000">
            <a:off x="419184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65800" y="4292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Palito de Boche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216000" y="1341360"/>
            <a:ext cx="8642160" cy="4392720"/>
            <a:chOff x="216000" y="1341360"/>
            <a:chExt cx="8642160" cy="4392720"/>
          </a:xfrm>
        </p:grpSpPr>
        <p:sp>
          <p:nvSpPr>
            <p:cNvPr id="378" name=""/>
            <p:cNvSpPr/>
            <p:nvPr/>
          </p:nvSpPr>
          <p:spPr>
            <a:xfrm>
              <a:off x="216000" y="1797120"/>
              <a:ext cx="8642160" cy="39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Tra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00" y="573408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00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5816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36720" y="2565360"/>
            <a:ext cx="3024000" cy="2879280"/>
            <a:chOff x="2736720" y="2565360"/>
            <a:chExt cx="3024000" cy="2879280"/>
          </a:xfrm>
        </p:grpSpPr>
        <p:sp>
          <p:nvSpPr>
            <p:cNvPr id="387" name=""/>
            <p:cNvSpPr/>
            <p:nvPr/>
          </p:nvSpPr>
          <p:spPr>
            <a:xfrm>
              <a:off x="4110480" y="2735280"/>
              <a:ext cx="183600" cy="21171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918520" y="2565360"/>
              <a:ext cx="2108520" cy="169560"/>
              <a:chOff x="2918520" y="2565360"/>
              <a:chExt cx="2108520" cy="16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8520" y="2734920"/>
                <a:ext cx="2108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919960" y="2565360"/>
                <a:ext cx="2103840" cy="169560"/>
                <a:chOff x="2919960" y="2565360"/>
                <a:chExt cx="2103840" cy="169560"/>
              </a:xfrm>
            </p:grpSpPr>
            <p:sp>
              <p:nvSpPr>
                <p:cNvPr id="391" name=""/>
                <p:cNvSpPr/>
                <p:nvPr/>
              </p:nvSpPr>
              <p:spPr>
                <a:xfrm flipH="1">
                  <a:off x="291996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>
                  <a:off x="31942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34707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37458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40165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4291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45680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484272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"/>
            <p:cNvSpPr/>
            <p:nvPr/>
          </p:nvSpPr>
          <p:spPr>
            <a:xfrm>
              <a:off x="4203360" y="476676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35440" y="2734920"/>
              <a:ext cx="0" cy="2117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6720" y="3666960"/>
              <a:ext cx="12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19040" y="485280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77680" y="298908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04" name=""/>
            <p:cNvCxnSpPr>
              <a:stCxn id="387" idx="3"/>
              <a:endCxn id="403" idx="2"/>
            </p:cNvCxnSpPr>
            <p:nvPr/>
          </p:nvCxnSpPr>
          <p:spPr>
            <a:xfrm flipV="1">
              <a:off x="429372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216000" y="1341360"/>
            <a:ext cx="8642160" cy="4680000"/>
            <a:chOff x="216000" y="1341360"/>
            <a:chExt cx="8642160" cy="4680000"/>
          </a:xfrm>
        </p:grpSpPr>
        <p:sp>
          <p:nvSpPr>
            <p:cNvPr id="407" name=""/>
            <p:cNvSpPr/>
            <p:nvPr/>
          </p:nvSpPr>
          <p:spPr>
            <a:xfrm>
              <a:off x="216000" y="1797120"/>
              <a:ext cx="8642160" cy="42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Compres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000" y="602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600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5816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665440" y="2205000"/>
            <a:ext cx="3514680" cy="2933640"/>
            <a:chOff x="2665440" y="2205000"/>
            <a:chExt cx="3514680" cy="2933640"/>
          </a:xfrm>
        </p:grpSpPr>
        <p:sp>
          <p:nvSpPr>
            <p:cNvPr id="416" name=""/>
            <p:cNvSpPr/>
            <p:nvPr/>
          </p:nvSpPr>
          <p:spPr>
            <a:xfrm>
              <a:off x="4551480" y="22050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0800000">
              <a:off x="4478040" y="2852640"/>
              <a:ext cx="183960" cy="2117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744720" y="4969080"/>
              <a:ext cx="2108160" cy="169560"/>
              <a:chOff x="3744720" y="4969080"/>
              <a:chExt cx="2108160" cy="16956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3744720" y="4969080"/>
                <a:ext cx="21081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747960" y="4969080"/>
                <a:ext cx="2103480" cy="169560"/>
                <a:chOff x="3747960" y="4969080"/>
                <a:chExt cx="2103480" cy="169560"/>
              </a:xfrm>
            </p:grpSpPr>
            <p:sp>
              <p:nvSpPr>
                <p:cNvPr id="421" name=""/>
                <p:cNvSpPr/>
                <p:nvPr/>
              </p:nvSpPr>
              <p:spPr>
                <a:xfrm flipV="1">
                  <a:off x="56703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5395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5118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48441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45734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429840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0219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7479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937040" y="2852640"/>
              <a:ext cx="0" cy="2117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97440" y="3858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8400" y="234936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5440" y="4074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17" idx="3"/>
              <a:endCxn id="432" idx="0"/>
            </p:cNvCxnSpPr>
            <p:nvPr/>
          </p:nvCxnSpPr>
          <p:spPr>
            <a:xfrm flipV="1" rot="10800000">
              <a:off x="330588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216000" y="1341360"/>
            <a:ext cx="8642160" cy="4062600"/>
            <a:chOff x="216000" y="1341360"/>
            <a:chExt cx="8642160" cy="4062600"/>
          </a:xfrm>
        </p:grpSpPr>
        <p:sp>
          <p:nvSpPr>
            <p:cNvPr id="436" name=""/>
            <p:cNvSpPr/>
            <p:nvPr/>
          </p:nvSpPr>
          <p:spPr>
            <a:xfrm>
              <a:off x="216000" y="2060640"/>
              <a:ext cx="8642160" cy="33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Momen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6000" y="54039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600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5816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757600" y="2133720"/>
            <a:ext cx="3422520" cy="2338200"/>
            <a:chOff x="2757600" y="2133720"/>
            <a:chExt cx="3422520" cy="2338200"/>
          </a:xfrm>
        </p:grpSpPr>
        <p:sp>
          <p:nvSpPr>
            <p:cNvPr id="445" name=""/>
            <p:cNvSpPr/>
            <p:nvPr/>
          </p:nvSpPr>
          <p:spPr>
            <a:xfrm>
              <a:off x="5081760" y="32004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06880" y="1919160"/>
              <a:ext cx="187200" cy="2546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927520" y="2363760"/>
              <a:ext cx="0" cy="2108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57600" y="42861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57600" y="40118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57600" y="37353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57600" y="346068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57600" y="31892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57600" y="29145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57600" y="26384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57600" y="23637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2927520" y="3557160"/>
              <a:ext cx="2117520" cy="1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36450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7440" y="32860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00360" y="2133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0" name=""/>
            <p:cNvCxnSpPr>
              <a:stCxn id="446" idx="3"/>
              <a:endCxn id="459" idx="2"/>
            </p:cNvCxnSpPr>
            <p:nvPr/>
          </p:nvCxnSpPr>
          <p:spPr>
            <a:xfrm flipH="1" flipV="1" rot="5400000">
              <a:off x="392112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33440" y="189000"/>
            <a:ext cx="798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Actividad Artefacto Misterios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2133720"/>
            <a:ext cx="720108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14400" y="1828800"/>
            <a:ext cx="720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304920" y="1600200"/>
            <a:ext cx="8076600" cy="2057040"/>
            <a:chOff x="304920" y="1600200"/>
            <a:chExt cx="8076600" cy="2057040"/>
          </a:xfrm>
        </p:grpSpPr>
        <p:sp>
          <p:nvSpPr>
            <p:cNvPr id="466" name=""/>
            <p:cNvSpPr/>
            <p:nvPr/>
          </p:nvSpPr>
          <p:spPr>
            <a:xfrm>
              <a:off x="7954560" y="314316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3804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2116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2840" y="31431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62200" y="314316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21200" y="314316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78760" y="31431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34520" y="314316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91720" y="31431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7520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61920" y="31431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5400" y="314316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2888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10560" y="31431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97280" y="31431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92200" y="314316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4920" y="314316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54560" y="262872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3804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2116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2840" y="26287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62200" y="262872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1200" y="262872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78760" y="26287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34520" y="262872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1720" y="26287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7520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61920" y="26287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5400" y="262872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2888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10560" y="26287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97280" y="26287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92200" y="262872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920" y="262872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do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54560" y="211464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3804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2116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02840" y="211464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62200" y="211464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21200" y="211464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78760" y="211464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34520" y="211464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91720" y="211464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7520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61920" y="211464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45400" y="211464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2888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10560" y="211464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97280" y="211464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92200" y="211464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4920" y="211464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54560" y="160020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3804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2116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02840" y="160020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62200" y="160020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21200" y="160020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78760" y="160020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34520" y="160020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1720" y="160020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7520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1920" y="160020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45400" y="160020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2888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10560" y="160020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97280" y="160020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92200" y="160020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4920" y="160020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Grupos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→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920" y="160020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4920" y="36572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9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3815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4920" y="21146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92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9728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105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2888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54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619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75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917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345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787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21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62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284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211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3804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5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4920" y="262872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920" y="31431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04920" y="3962520"/>
            <a:ext cx="8076600" cy="2057040"/>
            <a:chOff x="304920" y="3962520"/>
            <a:chExt cx="8076600" cy="2057040"/>
          </a:xfrm>
        </p:grpSpPr>
        <p:sp>
          <p:nvSpPr>
            <p:cNvPr id="558" name=""/>
            <p:cNvSpPr/>
            <p:nvPr/>
          </p:nvSpPr>
          <p:spPr>
            <a:xfrm>
              <a:off x="7954560" y="550548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3804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2116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840" y="550548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62200" y="550548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21200" y="550548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78760" y="550548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34520" y="550548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91720" y="550548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7520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61920" y="550548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45400" y="550548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2888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10560" y="550548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997280" y="550548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92200" y="550548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920" y="550548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954560" y="499104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53804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2116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2840" y="499104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62200" y="499104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21200" y="499104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78760" y="499104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34520" y="499104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91720" y="499104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7520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61920" y="499104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45400" y="499104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2888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10560" y="499104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97280" y="499104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92200" y="499104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920" y="499104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do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54560" y="447696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3804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116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02840" y="44769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62200" y="447696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821200" y="447696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78760" y="44769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34520" y="447696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1720" y="44769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7520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61920" y="44769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45400" y="447696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2888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10560" y="44769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97280" y="44769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92200" y="447696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4920" y="447696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54560" y="396252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3804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2116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02840" y="39625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62200" y="396252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21200" y="396252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78760" y="39625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34520" y="396252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91720" y="39625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7520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61920" y="39625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45400" y="396252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2888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10560" y="39625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97280" y="39625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92200" y="396252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4920" y="396252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Grupos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→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4920" y="396252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4920" y="60195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49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3815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4920" y="44769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92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9728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105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2888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454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619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75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917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345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787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21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62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0284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211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3804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545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4920" y="49910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4920" y="550548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601640" y="4572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4572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0164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884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1640" y="5562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8840" y="5562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905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89280" y="4627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6640" y="4475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4038480"/>
            <a:ext cx="47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ordinador de Equi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cargado de Seguridad / Material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cretari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ocero - Comunic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stig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433440" y="1628640"/>
            <a:ext cx="8280000" cy="4321440"/>
            <a:chOff x="433440" y="1628640"/>
            <a:chExt cx="8280000" cy="4321440"/>
          </a:xfrm>
        </p:grpSpPr>
        <p:sp>
          <p:nvSpPr>
            <p:cNvPr id="220" name=""/>
            <p:cNvSpPr/>
            <p:nvPr/>
          </p:nvSpPr>
          <p:spPr>
            <a:xfrm>
              <a:off x="433440" y="3668760"/>
              <a:ext cx="828000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anejo de conceptos de ensayes y evaluación de materi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plicar estimación de costos al diseño de un puen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iseñar una estructura auto soportante que cumpla con las solicitaciones dada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esarrollo de planos que permitan la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struir el puente y probarl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440" y="321300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S ESPECÍFIC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440" y="2084400"/>
              <a:ext cx="8280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Introducir al alumno al diseño y trabajo en proyectos, planteando un desafío concreto con restricciones re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3440" y="162864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 GENER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3440" y="162864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440" y="595008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1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3440" y="20844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71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3440" y="32130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3440" y="366876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944720" y="2060640"/>
            <a:ext cx="5904000" cy="2808000"/>
            <a:chOff x="1944720" y="2060640"/>
            <a:chExt cx="5904000" cy="2808000"/>
          </a:xfrm>
        </p:grpSpPr>
        <p:sp>
          <p:nvSpPr>
            <p:cNvPr id="237" name=""/>
            <p:cNvSpPr/>
            <p:nvPr/>
          </p:nvSpPr>
          <p:spPr>
            <a:xfrm>
              <a:off x="1944720" y="2840040"/>
              <a:ext cx="5904000" cy="20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B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4720" y="2060640"/>
              <a:ext cx="5904000" cy="77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ETAP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4720" y="2060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4720" y="4868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4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8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44720" y="28400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4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8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494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16000" y="1511280"/>
            <a:ext cx="8713800" cy="4581360"/>
            <a:chOff x="216000" y="1511280"/>
            <a:chExt cx="8713800" cy="4581360"/>
          </a:xfrm>
        </p:grpSpPr>
        <p:sp>
          <p:nvSpPr>
            <p:cNvPr id="249" name=""/>
            <p:cNvSpPr/>
            <p:nvPr/>
          </p:nvSpPr>
          <p:spPr>
            <a:xfrm>
              <a:off x="1217520" y="563724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trega Informe Final- Presentacion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000" y="563724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7520" y="518148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Diseño definitivo –Pruebas – Planos “As built”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6000" y="518148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7520" y="472572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Correcciones a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000" y="472572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7520" y="427032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Confección de Plan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000" y="427032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7520" y="381456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Definición de Planos – Pruebas prelimina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000" y="381456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17520" y="335916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M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6000" y="335916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7520" y="290340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A : Ensaye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6000" y="290340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7520" y="244764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pre-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000" y="244764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7520" y="1966680"/>
              <a:ext cx="77122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átedr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6000" y="1966680"/>
              <a:ext cx="10015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000" y="1511280"/>
              <a:ext cx="87138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6000" y="1511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6000" y="6092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60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298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6000" y="19666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6000" y="2447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17520" y="1966680"/>
              <a:ext cx="0" cy="412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000" y="2903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000" y="33591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000" y="3814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000" y="42703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6000" y="4725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6000" y="51814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6000" y="563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84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1368360" y="1773360"/>
            <a:ext cx="6265800" cy="3192480"/>
            <a:chOff x="1368360" y="1773360"/>
            <a:chExt cx="6265800" cy="3192480"/>
          </a:xfrm>
        </p:grpSpPr>
        <p:sp>
          <p:nvSpPr>
            <p:cNvPr id="294" name=""/>
            <p:cNvSpPr/>
            <p:nvPr/>
          </p:nvSpPr>
          <p:spPr>
            <a:xfrm>
              <a:off x="1368360" y="2594160"/>
              <a:ext cx="626580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guir indicaciones de Profesor, ayudant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Utilizar implementos de Seguridad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rabajar en forma Responsab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68360" y="1773360"/>
              <a:ext cx="6265800" cy="820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NORMAS DE TRABAJO EN LABORATORI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68360" y="17733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68360" y="496584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683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341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68360" y="25941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5236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216000" y="1341360"/>
            <a:ext cx="8642160" cy="4523040"/>
            <a:chOff x="216000" y="1341360"/>
            <a:chExt cx="8642160" cy="4523040"/>
          </a:xfrm>
        </p:grpSpPr>
        <p:sp>
          <p:nvSpPr>
            <p:cNvPr id="307" name=""/>
            <p:cNvSpPr/>
            <p:nvPr/>
          </p:nvSpPr>
          <p:spPr>
            <a:xfrm>
              <a:off x="216000" y="1824120"/>
              <a:ext cx="8642160" cy="40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xisten 3 materiales disponibles: Madera (palitos), papel (tubos), cartón (perfiles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 clase de Taller, se deben realizar los ensayes de: tracción, compresión y torsión, determinando el valor lími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La siguiente clase se debe entregar un informe que contenga la forma en que se a realizaron las pruebas, sus resultados y el material escogido, considerando los resultados de las pruebas y costos de cada un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6000" y="1341360"/>
              <a:ext cx="8642160" cy="48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6000" y="58644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00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5816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6000" y="1824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14T16:19:14Z</dcterms:modified>
  <cp:revision>300</cp:revision>
  <dc:subject/>
  <dc:title>Reactor Agitado</dc:title>
</cp:coreProperties>
</file>