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85B-6629-47D7-8304-B6E86AE0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C92-2396-4375-BCCE-3CD4D42E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3C1-A7E9-4610-B6B4-C8AF4342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5AD-79F5-456B-B34E-6268C07C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B2E-8193-43B2-B14E-B51DF8FA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521-5A3E-42B6-A56C-31A5B4E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215-FBD0-470D-BB1E-DD72A641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079-47F7-4058-A75A-0FC6B5FF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3208-6A19-4ADF-88A2-12380582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B332-5B91-462E-90F7-02FFE10E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F068-9C7A-4C16-B8FB-6B553B3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C33-5FD1-4456-8E33-57E7D1D5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5630-CDB6-4D89-B3DA-E2961E1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0138-4150-4704-8A9F-BB0EE98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2187-9648-48FC-B5A1-05FCB9B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2E9-5739-4832-A5F7-4F6DCF1F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E838-441E-4B55-BF02-931444DC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2FA-00EB-4120-B9C0-7A599FA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737-0E96-41F3-9CCD-0C1FDD63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B14-A9C5-45E7-BE38-9FC1FF5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AE7-9CA3-41D5-9AD1-BC12E6D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FBD-73D4-427F-B61D-7AD9B16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31D-4841-4336-8DD4-2BE6B626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659-181E-4148-A8D1-63FB8CD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3493-6815-4FDC-BA7C-60452FD420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883-6532-41DB-9638-9E61C3A9B6F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04920" y="1600200"/>
            <a:ext cx="8076600" cy="2057040"/>
            <a:chOff x="304920" y="1600200"/>
            <a:chExt cx="8076600" cy="2057040"/>
          </a:xfrm>
        </p:grpSpPr>
        <p:sp>
          <p:nvSpPr>
            <p:cNvPr id="466" name=""/>
            <p:cNvSpPr/>
            <p:nvPr/>
          </p:nvSpPr>
          <p:spPr>
            <a:xfrm>
              <a:off x="7954560" y="31431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3804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2116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284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2200" y="31431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1200" y="31431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876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4520" y="31431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172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192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5400" y="31431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888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056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9728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2200" y="31431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920" y="31431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54560" y="26287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3804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2116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284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62200" y="26287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1200" y="26287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876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34520" y="26287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172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7520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192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5400" y="26287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88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1056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728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92200" y="26287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6287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54560" y="211464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3804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116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284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2200" y="211464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21200" y="211464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7876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4520" y="211464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72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520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6192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5400" y="211464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888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1056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9728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92200" y="211464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920" y="211464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54560" y="160020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3804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2116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284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62200" y="160020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21200" y="160020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876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34520" y="160020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172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7520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192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160020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2888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1056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9728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2200" y="160020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160020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920" y="160020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36572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81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920" y="21146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9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972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10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288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54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61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75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17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4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787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21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28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11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380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920" y="26287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20" y="31431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4920" y="3962520"/>
            <a:ext cx="8076600" cy="2057040"/>
            <a:chOff x="304920" y="3962520"/>
            <a:chExt cx="8076600" cy="2057040"/>
          </a:xfrm>
        </p:grpSpPr>
        <p:sp>
          <p:nvSpPr>
            <p:cNvPr id="558" name=""/>
            <p:cNvSpPr/>
            <p:nvPr/>
          </p:nvSpPr>
          <p:spPr>
            <a:xfrm>
              <a:off x="7954560" y="550548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804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2116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84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62200" y="550548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21200" y="550548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876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34520" y="550548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172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520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192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5400" y="550548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2888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1056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9728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92200" y="550548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920" y="550548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54560" y="499104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804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116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284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200" y="499104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21200" y="499104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7876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34520" y="499104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9172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520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6192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5400" y="499104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888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1056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9728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2200" y="499104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920" y="499104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4560" y="44769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3804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116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284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2200" y="44769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1200" y="44769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7876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34520" y="44769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172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520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6192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5400" y="44769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2888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1056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9728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92200" y="44769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44769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4560" y="39625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804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16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284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62200" y="39625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1200" y="39625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76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34520" y="39625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172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520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6192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5400" y="39625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2888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056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9728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2200" y="39625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4920" y="39625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4920" y="39625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60195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1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920" y="44769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972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10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88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54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1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75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17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34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7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21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28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211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380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4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49910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920" y="550548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16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016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88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16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88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4T16:19:14Z</dcterms:modified>
  <cp:revision>300</cp:revision>
  <dc:subject/>
  <dc:title>Reactor Agitado</dc:title>
</cp:coreProperties>
</file>