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B5D-5161-4DBE-B6F4-F4273D84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E87-C8A2-4F55-A7EA-742ABC77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C90-91D8-46ED-90A5-B7DBCCE9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C13-C08D-486A-B3B0-1B182CDB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BA73-E988-4DE2-9E75-BADD370B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D2B-A39C-4629-A0EB-95ED7CE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F3D3-55CE-4157-AA86-79F00C7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692E-12A5-47BF-AC0B-944D182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D3C-74F2-41FF-8075-B16EA30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E6E8-1CB5-4EDA-8298-A924824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525-CEC1-4F12-A00F-4AEC26A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C96-02F7-4DFF-BF63-AE1C15B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5B0F-B951-453F-997F-F11966A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FB7D-3E29-4F98-A768-1BD45A4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7F66-BC81-4BDB-A7FF-090EAC0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93EC-E5C7-4E00-A509-DE064B27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4DDE-6D32-4496-9032-4C40998E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80F-F864-4F22-9127-546D518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DC4-8F20-4C9E-B193-67F86A9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A51-E271-4942-AF45-D0C617F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60F-13B4-46FE-85B7-04C5C5A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EAD-B192-4058-B70B-5979027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41D-D336-4B1F-A5F3-DF75B44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69D-6394-4A43-B6C3-B4B5173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612-1148-4095-9328-EDC1643A86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6A9-2A61-4AE8-9191-2F77E6804A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04920" y="1600200"/>
            <a:ext cx="8076600" cy="2057040"/>
            <a:chOff x="304920" y="1600200"/>
            <a:chExt cx="8076600" cy="2057040"/>
          </a:xfrm>
        </p:grpSpPr>
        <p:sp>
          <p:nvSpPr>
            <p:cNvPr id="466" name=""/>
            <p:cNvSpPr/>
            <p:nvPr/>
          </p:nvSpPr>
          <p:spPr>
            <a:xfrm>
              <a:off x="7954560" y="31431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3804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2116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284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2200" y="31431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1200" y="31431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876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4520" y="31431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172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192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5400" y="31431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888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056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9728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2200" y="31431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920" y="31431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54560" y="26287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3804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2116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284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62200" y="26287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1200" y="26287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876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34520" y="26287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172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7520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192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5400" y="26287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88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1056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728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92200" y="26287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6287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54560" y="211464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3804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116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284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2200" y="211464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21200" y="211464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7876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4520" y="211464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72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520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6192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5400" y="211464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888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1056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9728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92200" y="211464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920" y="211464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54560" y="160020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3804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2116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284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62200" y="160020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21200" y="160020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876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34520" y="160020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172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7520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192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160020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2888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1056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9728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2200" y="160020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160020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920" y="160020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36572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81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920" y="21146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9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972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10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288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54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61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75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17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4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787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21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28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11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380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920" y="26287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20" y="31431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4920" y="3962520"/>
            <a:ext cx="8076600" cy="2057040"/>
            <a:chOff x="304920" y="3962520"/>
            <a:chExt cx="8076600" cy="2057040"/>
          </a:xfrm>
        </p:grpSpPr>
        <p:sp>
          <p:nvSpPr>
            <p:cNvPr id="558" name=""/>
            <p:cNvSpPr/>
            <p:nvPr/>
          </p:nvSpPr>
          <p:spPr>
            <a:xfrm>
              <a:off x="7954560" y="550548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804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2116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84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62200" y="550548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21200" y="550548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876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34520" y="550548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172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520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192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5400" y="550548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2888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1056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9728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92200" y="550548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920" y="550548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54560" y="499104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804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116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284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200" y="499104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21200" y="499104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7876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34520" y="499104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9172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520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6192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5400" y="499104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888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1056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9728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2200" y="499104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920" y="499104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4560" y="44769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3804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116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284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2200" y="44769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1200" y="44769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7876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34520" y="44769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172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520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6192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5400" y="44769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2888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1056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9728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92200" y="44769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44769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4560" y="39625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804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16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284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62200" y="39625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1200" y="39625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76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34520" y="39625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172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520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6192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5400" y="39625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2888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056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9728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2200" y="39625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4920" y="39625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4920" y="39625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60195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1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920" y="44769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972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10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88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54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1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75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17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34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7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21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28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211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380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4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49910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920" y="550548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16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016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88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16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88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4T16:19:14Z</dcterms:modified>
  <cp:revision>300</cp:revision>
  <dc:subject/>
  <dc:title>Reactor Agitado</dc:title>
</cp:coreProperties>
</file>