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C1B-7D9C-4C52-A2A2-7F5244DB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423-B60B-4444-85B0-F7CE328A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2B2-B36F-4387-B669-61D3A618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E9E-D9EA-4DDC-A195-FC67AE06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485-53AE-4FD9-9D59-20B46D15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C88-9948-46E5-8158-114C00A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214-207B-41ED-BC06-C5FF76AC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642-0563-40C9-B443-B3A2990D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05F-D1DC-4775-88AC-520DAD4D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828-FC56-4CD1-BFEC-2691F87B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61B-2E7D-4B65-80AB-D6D258D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89B-0715-4BBE-BA8C-50D32D6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3CC-42F7-4D61-8255-6E1435385E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12T23:25:21Z</dcterms:modified>
  <cp:revision>15</cp:revision>
  <dc:subject/>
  <dc:title>EL63A-Taller de Proyecto en Control II</dc:title>
</cp:coreProperties>
</file>