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029-D65A-412C-8593-32B02E8B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10B-865F-4803-BE77-6F5BE9BA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31B-A5CA-4EAA-A448-2298E25E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D25-7B15-4D67-A57A-365495E2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EC6-4431-40CC-9722-CF646C70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9C8-2DD1-4925-8EB3-64C9F715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DFF-FC96-4558-B41A-DAEF0095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AC1-B6F3-4FBF-9C8A-D2BF110D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6E48-8F59-467B-92DB-ED473FD7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386-8C2B-4429-9266-E8E53484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935-CB9E-47D0-AB5A-42EDA9D1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8CF-7BD8-42F1-8F27-3160E51B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62CF-2E23-4C30-A190-4C51C5A80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99736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l Proceso de Diseñ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4076640"/>
            <a:ext cx="8964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Cap.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78200" y="1413000"/>
            <a:ext cx="5257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abricación  de Maqueta y/o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ocuparse de Aspectos es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0920" y="1511280"/>
          <a:ext cx="8713800" cy="458172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nstrucción diseño- Correc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ueba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0" y="3789360"/>
            <a:ext cx="914400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1557360"/>
            <a:ext cx="85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155736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o a ideas precon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07664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Curvas de A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12536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360" y="357336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4720" y="3240"/>
            <a:ext cx="8388360" cy="6545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4-02T15:34:42Z</dcterms:modified>
  <cp:revision>32</cp:revision>
  <dc:subject/>
  <dc:title>EL63A-Taller de Proyecto en Control II</dc:title>
</cp:coreProperties>
</file>