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1F2-5EB2-4536-BE49-00F0CD20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FB3-3E56-4847-B71D-307A14D1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46F-E641-4AE2-8B41-242F26C8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C7F-A381-4CF8-A968-A2D89169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939-2AE7-4DF7-9D5A-71D8806D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EA35-B3BB-4B2A-AC35-EEE34508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EF35-2351-4EC7-9609-E97F9B1A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14A-A88C-4CF5-9729-50B51032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EF7-CB6F-498A-B13E-13D91C2C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811-F6A1-46A5-A1C4-87D2143D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DC33-128A-4346-87A7-BCAF0AB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E17B-EF92-49D4-8A31-797D321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E739-986B-41A0-8FB9-999806BFD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9736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El Proceso de Diseñ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4076640"/>
            <a:ext cx="8964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ap.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rva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1989000"/>
            <a:ext cx="684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ctividades se representan en HH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muestra HH programas acumuladas y HH reales (avance) acumuladas, usualmente en % respecto del to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4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.- Obtener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ás información = me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porta ideas nue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jo con Normas legales, Pa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.- Generar Conceptos altern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BrainStorm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ificaciones, Analogías (inspi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ustituir, combinar, modificar, adaptar, nuevos usos, eliminar, reorde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78200" y="1413000"/>
            <a:ext cx="5257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Tomar nota de todas las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riticas desp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e buscan mejoras y combinaciones de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ás ideas me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imulas ideas nuevas y “loc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.- Evaluar Altern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atisfacer 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parámetros de evaluación: constructivos, funcionales, de manten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- Seleccionar Mejor Alterna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stado de Crite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signar valores a los distintos criterios (matriz de Inter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nalizar y comparar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triz de Inte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630440"/>
            <a:ext cx="9144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.- Comunic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escrita (manuales, repor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 forma oral (presentacion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.- Implementar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odelos (Físicos, Conceptuales, CAD , Diagramas de cuerpo libre, Matemático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ojas de D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imul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bricación  de Maqueta y/o Proto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eocuparse de Aspectos esté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511280"/>
          <a:ext cx="8713800" cy="458172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nstrucción diseño- Correc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ueba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0920" y="1628640"/>
            <a:ext cx="3673440" cy="1079640"/>
          </a:xfrm>
          <a:prstGeom prst="cloudCallout">
            <a:avLst>
              <a:gd name="adj1" fmla="val 45333"/>
              <a:gd name="adj2" fmla="val 80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imple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4292640"/>
            <a:ext cx="4105440" cy="1369800"/>
          </a:xfrm>
          <a:prstGeom prst="cloudCallout">
            <a:avLst>
              <a:gd name="adj1" fmla="val -33254"/>
              <a:gd name="adj2" fmla="val -82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alir del pa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1413000"/>
            <a:ext cx="3673440" cy="1368360"/>
          </a:xfrm>
          <a:prstGeom prst="cloudCallout">
            <a:avLst>
              <a:gd name="adj1" fmla="val -57000"/>
              <a:gd name="adj2" fmla="val 69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Mente Abi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365720"/>
            <a:ext cx="3673440" cy="1368360"/>
          </a:xfrm>
          <a:prstGeom prst="cloudCallout">
            <a:avLst>
              <a:gd name="adj1" fmla="val 34356"/>
              <a:gd name="adj2" fmla="val -849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xperimento-Pru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2781360"/>
            <a:ext cx="5832360" cy="1368360"/>
          </a:xfrm>
          <a:prstGeom prst="irregularSeal2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1557360"/>
            <a:ext cx="8532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1.- Reconocer Necesidad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2.- Definir el Problema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3.- Planificar y Administra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4.- Obtener Información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5.- Generar Conceptos Alternativos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ces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Aft>
                <a:spcPts val="21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6.- Evaluar Alternativas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7.- Seleccionar Concepto más Prometedor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8.- Comunicar Diseño</a:t>
            </a:r>
            <a:br>
              <a:rPr sz="3400"/>
            </a:br>
            <a:r>
              <a:rPr b="1" lang="en-US" sz="3400" spc="-1" strike="noStrike">
                <a:solidFill>
                  <a:srgbClr val="0033cc"/>
                </a:solidFill>
                <a:latin typeface="Times New Roman"/>
              </a:rPr>
              <a:t>9.- Implementar Diseñ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.- Reconocer Neces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677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finir “Consumidores”-”Clientes” (no solo usu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Identificar que necesi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.- Definir Probl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677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claración del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querimient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155736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Gener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No a ideas precon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076640"/>
            <a:ext cx="29163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er Prec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Validar con “clientes” (en lo pos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Expresar en términos fun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.- Planificar y Administ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Uso de cartas Gantt, Curvas de A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29242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No perder el control de plazos ni recursos invert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32000" y="3789360"/>
            <a:ext cx="34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ependenc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uta Cr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252360" y="-10044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Carta Gan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125360"/>
            <a:ext cx="8820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Identifica actividades al nivel de agregación  desead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Dimensiona actividades en términos de unidades de tiempo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Señala los recursos necesario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Controla el avance del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3573360"/>
            <a:ext cx="882000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4680" indent="-274680">
              <a:lnSpc>
                <a:spcPct val="115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Desventajas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Manejo de un número limitado de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No permite trabajar fácilmente las interrelaciones de secuencia entre diferentes actividades.</a:t>
            </a:r>
            <a:br>
              <a:rPr sz="2400"/>
            </a:br>
            <a:r>
              <a:rPr b="1" lang="es-CL" sz="2400" spc="-1" strike="noStrike">
                <a:solidFill>
                  <a:srgbClr val="0033cc"/>
                </a:solidFill>
                <a:latin typeface="Times New Roman"/>
              </a:rPr>
              <a:t>•La trayectoria crítica no se muestra claramente, ni presenta ventajas para su análi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04720" y="3240"/>
            <a:ext cx="8388360" cy="6545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4-02T15:34:42Z</dcterms:modified>
  <cp:revision>32</cp:revision>
  <dc:subject/>
  <dc:title>EL63A-Taller de Proyecto en Control II</dc:title>
</cp:coreProperties>
</file>