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572-2DC8-496F-8A81-C83C19B1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B0E-AF31-481A-8D5F-63739F09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BE76-BF24-4A66-AF04-D32DC61D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C19-EED2-4044-94FE-8844F9D7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015-E4D9-48A6-9BD9-F2D883E8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183D-9638-4B1A-B77C-33C843F0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186-1350-4B15-9452-CEE87EBA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C85-D125-424C-A439-EB7D2B1C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0AC-4377-45A1-A69F-C93BF2D9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006-92CC-4744-826E-A5562FC2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5002-9D2C-4A28-AE6C-2ED31848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59C-54D6-41CF-994C-EA10E722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D314-501A-4A69-9937-61FA6E4277F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de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apas de un proyecto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50" idx="0"/>
            <a:endCxn id="49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9" idx="3"/>
            <a:endCxn id="51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1" idx="2"/>
            <a:endCxn id="49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1" idx="0"/>
            <a:endCxn id="55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1" idx="3"/>
            <a:endCxn id="57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7" idx="3"/>
            <a:endCxn id="59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7" idx="3"/>
            <a:endCxn id="60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7" idx="3"/>
            <a:endCxn id="61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7" idx="3"/>
            <a:endCxn id="62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67" idx="3"/>
            <a:endCxn id="69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0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0" idx="3"/>
            <a:endCxn id="72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70" idx="0"/>
            <a:endCxn id="71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9" name=""/>
          <p:cNvCxnSpPr>
            <a:stCxn id="71" idx="3"/>
            <a:endCxn id="72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72" idx="3"/>
            <a:endCxn id="73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80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4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4" idx="3"/>
            <a:endCxn id="86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 de Proyecto Según Ejecu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Ingeniería Propi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Ingeniería llave en mano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Ingeniería por Administración Delegada(*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Ingeniería por Administración Controla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8000" y="260280"/>
          <a:ext cx="8856720" cy="53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885672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pos de Contrato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ios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Suma alzad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Precio unitario por hora efectiv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Precio unitario por hora efectiva (máximo garantizado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Costos directos y suma alzada de gastos gener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rminología Contractual - Leg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484280"/>
            <a:ext cx="57592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ases de la propuest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trat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abier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direc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ado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as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iciación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de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4-12T23:25:21Z</dcterms:modified>
  <cp:revision>15</cp:revision>
  <dc:subject/>
  <dc:title>EL63A-Taller de Proyecto en Control II</dc:title>
</cp:coreProperties>
</file>