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918-D9D5-47D1-907F-334B153A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CCA-C273-4DB6-87F2-63D82786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740-6855-4D21-A26E-6C2F9806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4BC-CC23-43CD-9C2F-C68D611F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9D8-9C54-4037-94CD-693860CA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BC9-3AB9-4317-ADC3-E37A480D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9A7-90FB-46AE-8D7F-8E00F9A5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775-36E6-420C-B714-9CC2CC45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B99-17B8-4538-A57A-2B24D74D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895-F96C-4593-9185-AB921C2C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634-5015-4444-BE4D-386425CB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645-E732-4904-BD48-BF741B8A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3340-8756-4E50-A754-EB7A87E13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4076640"/>
            <a:ext cx="8964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ap.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78200" y="1413000"/>
            <a:ext cx="525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0920" y="1511280"/>
          <a:ext cx="8713800" cy="458172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nstrucción diseño- Correc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ueba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12536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357336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4720" y="3240"/>
            <a:ext cx="8388360" cy="6545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4-02T15:34:42Z</dcterms:modified>
  <cp:revision>32</cp:revision>
  <dc:subject/>
  <dc:title>EL63A-Taller de Proyecto en Control II</dc:title>
</cp:coreProperties>
</file>