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6E8-8B4D-461D-A8F1-3F3F489F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073-60D5-4FBE-B013-EE28FDAA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302-2AB4-4EE3-A60E-382CC554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8A0-1B5A-40A1-B34F-89AEE5E6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1E2-02F0-4332-9907-529AED62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E3D-D6C3-4AE3-B06B-6694C8C4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0AF-5238-4FF7-8D7F-6DDE0A5F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0FF-A21A-453E-B2BB-103AAFE0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C85-3F57-4A1A-AFF1-6D902773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8E5-DCA7-4574-A64C-98DE2A9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B91-2E59-40EA-8882-D6E2F90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F57-A49F-4B9D-AD23-F4E62B1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FEC2-A677-47A8-A9D2-762E06DB9C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12T23:25:21Z</dcterms:modified>
  <cp:revision>15</cp:revision>
  <dc:subject/>
  <dc:title>EL63A-Taller de Proyecto en Control II</dc:title>
</cp:coreProperties>
</file>