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C770-25B0-4C64-84FC-A092B74D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DEC-FB12-4CAD-B0D9-87AE84EF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84A8-DEDD-444F-B1AB-12CAF626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2F8-A7C1-4E45-B367-D90ABB67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B76A-91FB-4B68-80DA-50A2341D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AFD-B63C-4BC5-B404-591DB1A1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7EE3-0F14-407D-9C1F-979DC07A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5B7-578D-4DEA-B93A-A398672B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039-E649-4983-9831-C782560E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A07-6994-429A-BA5E-EC7C237C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FF4-CAAB-4CF9-8D0C-0B4F0DC4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64D1-5972-4D44-B1AB-41629919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B3A2-94DD-4211-8339-C9AB07F8E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99736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l Proceso de Diseñ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4076640"/>
            <a:ext cx="8964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Cap.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urva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1989000"/>
            <a:ext cx="684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ctividades se representan en HH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 muestra HH programas acumuladas y HH reales (avance) acumuladas, usualmente en % respecto de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- Obtener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ás información = me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porta ideas nue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Ojo con Normas legales, Pa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.- Generar Conceptos altern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BrainStorm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odificaciones, Analogías (inspi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ustituir, combinar, modificar, adaptar, nuevos usos, eliminar, reorde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78200" y="1413000"/>
            <a:ext cx="5257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omar nota de todas las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riticas despu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 buscan mejoras y combinaciones de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ás ideas me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imulas ideas nuevas y “loc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.- Evaluar Altern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atisfacer 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finir parámetros de evaluación: constructivos, funcionales, de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.- Seleccionar Mejor Altern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istado d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ignar valores a los distintos criterios (matriz de Inter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nalizar y comparar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1630440"/>
            <a:ext cx="9144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.- Comunic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 forma escrita (manuales, repor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 forma oral (present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.- Implement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odelos (Físicos, Conceptuales, CAD , Diagramas de cuerpo libre, Matemático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oj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abricación  de Maqueta y/o Prot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ocuparse de Aspectos es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0920" y="1511280"/>
          <a:ext cx="8713800" cy="458172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nstrucción diseño- Correc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ueba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0" y="3789360"/>
            <a:ext cx="914400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1628640"/>
            <a:ext cx="3673440" cy="1079640"/>
          </a:xfrm>
          <a:prstGeom prst="cloudCallout">
            <a:avLst>
              <a:gd name="adj1" fmla="val 45333"/>
              <a:gd name="adj2" fmla="val 80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imp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4292640"/>
            <a:ext cx="4105440" cy="1369800"/>
          </a:xfrm>
          <a:prstGeom prst="cloudCallout">
            <a:avLst>
              <a:gd name="adj1" fmla="val -33254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alir del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1413000"/>
            <a:ext cx="3673440" cy="1368360"/>
          </a:xfrm>
          <a:prstGeom prst="cloudCallout">
            <a:avLst>
              <a:gd name="adj1" fmla="val -57000"/>
              <a:gd name="adj2" fmla="val 69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ente Abi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4365720"/>
            <a:ext cx="3673440" cy="1368360"/>
          </a:xfrm>
          <a:prstGeom prst="cloudCallout">
            <a:avLst>
              <a:gd name="adj1" fmla="val 34356"/>
              <a:gd name="adj2" fmla="val -84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xperimento-Pru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2781360"/>
            <a:ext cx="5832360" cy="136836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1557360"/>
            <a:ext cx="8532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1.- Reconocer Necesidad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2.- Definir el Problema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3.- Planificar y Administrar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4.- Obtener Información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5.- Generar Conceptos Alternativo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6.- Evaluar Alternativas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7.- Seleccionar Concepto más Prometedor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8.- Comunicar Diseño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9.- Implementar Diseñ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- Reconocer Nece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finir “Consumidores”-”Clientes” (no solo usu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dentificar que necesi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- Definir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67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claración d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155736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Gener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o a ideas preconce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07664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r Prec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alidar con “clientes” (en lo po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- Planificar y Administ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Uso de cartas Gantt, Curvas de A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2924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No perder el control de plazos ni recursos inve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32000" y="3789360"/>
            <a:ext cx="34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epend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ut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125360"/>
            <a:ext cx="88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Identifica actividades al nivel de agregación  desead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mensiona actividades en términos de unidades de tiemp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Señala los recursos necesari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Controla el avance del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0360" y="3573360"/>
            <a:ext cx="8820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Manejo de un número limitado de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No permite trabajar fácilmente las interrelaciones de secuencia entre diferentes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 trayectoria crítica no se muestra claramente, ni presenta ventajas para su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4720" y="3240"/>
            <a:ext cx="8388360" cy="6545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4-02T15:34:42Z</dcterms:modified>
  <cp:revision>32</cp:revision>
  <dc:subject/>
  <dc:title>EL63A-Taller de Proyecto en Control II</dc:title>
</cp:coreProperties>
</file>