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78D-9CA4-4BB8-BDAB-FC9EDE85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3F6-F66B-4596-AD95-61831A8F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E7E9-3D43-4E81-BE4F-9817B1B5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28F-087B-4C6D-86F6-06255191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7F3-E08E-48AD-8110-5C0182A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821-38FB-48AB-9F23-F1911E0C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8B3-4C98-4B93-8763-993524B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55B-3E73-41AA-B514-2BADD66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A70-6593-4121-9B12-7B1FC28E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DD0-C239-44A8-98AE-D12E768F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E21-2D24-4FCE-83B3-2226F4A0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55F-7101-4AD8-B6F5-B92F76C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65B3-404F-4DA5-916F-BBC764507B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12T23:25:21Z</dcterms:modified>
  <cp:revision>15</cp:revision>
  <dc:subject/>
  <dc:title>EL63A-Taller de Proyecto en Control II</dc:title>
</cp:coreProperties>
</file>